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26.png" ContentType="image/png"/>
  <Override PartName="/ppt/media/image9.jpeg" ContentType="image/jpeg"/>
  <Override PartName="/ppt/media/image12.jpeg" ContentType="image/jpeg"/>
  <Override PartName="/ppt/media/image10.wmf" ContentType="image/x-wmf"/>
  <Override PartName="/ppt/media/image25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4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722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724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9520" y="698040"/>
            <a:ext cx="4654800" cy="34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6880" y="4420800"/>
            <a:ext cx="54975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09D5-45BD-4058-807E-52519F38405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1D54-6F20-4A21-BFEF-11F0157C288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C41A-C445-458B-9117-2BC12EC6796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0FBF-9D8A-40A4-BE7A-BB347C9CE51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145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7640" y="4422240"/>
            <a:ext cx="50371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6CA6-0857-4F30-A853-82A5D344B43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127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7640" y="4422240"/>
            <a:ext cx="5037120" cy="41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050D-2839-413C-910E-C13FAB26616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9291-FB6E-4585-AEA7-B7D5202E305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278F-B9EF-4AE8-BAF0-9BB368E8275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EF8F-D2C6-4FA3-AE19-982BC89DBD4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436E-0875-4939-A131-7B2E236A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A3C1-FE87-4899-8E21-8C01D792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8D0E-BBE4-4675-AA69-9D532977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1249-4D6B-4FB1-914D-9C62959E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2ED9-257E-417E-B171-7EFBDA19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D7A9-2012-4226-9F5A-33F06096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DED2-6C13-47FD-BB65-5D025840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80B2-87C1-43EB-8377-A83BD017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98680" y="101160"/>
            <a:ext cx="622296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EC1B-8520-4C2E-BFAB-500C7743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59C7-CDB4-4B5F-A527-CA94A78D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BA16-0A01-4366-B506-A27868AF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9A05-256A-4988-AD44-37348069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54CE-D4D8-4130-9E3B-C0C62DEE5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192320"/>
            <a:ext cx="7620120" cy="1440"/>
          </a:xfrm>
          <a:prstGeom prst="line">
            <a:avLst/>
          </a:prstGeom>
          <a:ln w="5724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0520" y="76320"/>
            <a:ext cx="82929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por propósito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502320" y="3608280"/>
            <a:ext cx="720360" cy="258840"/>
            <a:chOff x="6502320" y="3608280"/>
            <a:chExt cx="720360" cy="258840"/>
          </a:xfrm>
        </p:grpSpPr>
        <p:sp>
          <p:nvSpPr>
            <p:cNvPr id="52" name=""/>
            <p:cNvSpPr/>
            <p:nvPr/>
          </p:nvSpPr>
          <p:spPr>
            <a:xfrm>
              <a:off x="6502320" y="360828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502320" y="362088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7858080" y="4765680"/>
            <a:ext cx="1080720" cy="260280"/>
            <a:chOff x="7858080" y="4765680"/>
            <a:chExt cx="1080720" cy="260280"/>
          </a:xfrm>
        </p:grpSpPr>
        <p:sp>
          <p:nvSpPr>
            <p:cNvPr id="55" name=""/>
            <p:cNvSpPr/>
            <p:nvPr/>
          </p:nvSpPr>
          <p:spPr>
            <a:xfrm>
              <a:off x="7858080" y="476568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58080" y="477972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L 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967360" y="5340240"/>
            <a:ext cx="1223280" cy="258840"/>
            <a:chOff x="5967360" y="5340240"/>
            <a:chExt cx="1223280" cy="258840"/>
          </a:xfrm>
        </p:grpSpPr>
        <p:sp>
          <p:nvSpPr>
            <p:cNvPr id="58" name=""/>
            <p:cNvSpPr/>
            <p:nvPr/>
          </p:nvSpPr>
          <p:spPr>
            <a:xfrm>
              <a:off x="5967360" y="534024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67360" y="535284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L 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0440" y="1311120"/>
            <a:ext cx="4765680" cy="324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200560" y="2619360"/>
            <a:ext cx="3840120" cy="359892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6475320" y="5391000"/>
            <a:ext cx="720360" cy="258840"/>
            <a:chOff x="6475320" y="5391000"/>
            <a:chExt cx="720360" cy="258840"/>
          </a:xfrm>
        </p:grpSpPr>
        <p:sp>
          <p:nvSpPr>
            <p:cNvPr id="63" name=""/>
            <p:cNvSpPr/>
            <p:nvPr/>
          </p:nvSpPr>
          <p:spPr>
            <a:xfrm>
              <a:off x="6475320" y="539100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75320" y="540360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732640" y="3659040"/>
            <a:ext cx="1080720" cy="260280"/>
            <a:chOff x="5732640" y="3659040"/>
            <a:chExt cx="1080720" cy="260280"/>
          </a:xfrm>
        </p:grpSpPr>
        <p:sp>
          <p:nvSpPr>
            <p:cNvPr id="66" name=""/>
            <p:cNvSpPr/>
            <p:nvPr/>
          </p:nvSpPr>
          <p:spPr>
            <a:xfrm>
              <a:off x="5732640" y="365904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732640" y="367308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7365960" y="3832200"/>
            <a:ext cx="1223280" cy="258840"/>
            <a:chOff x="7365960" y="3832200"/>
            <a:chExt cx="1223280" cy="258840"/>
          </a:xfrm>
        </p:grpSpPr>
        <p:sp>
          <p:nvSpPr>
            <p:cNvPr id="69" name=""/>
            <p:cNvSpPr/>
            <p:nvPr/>
          </p:nvSpPr>
          <p:spPr>
            <a:xfrm>
              <a:off x="7365960" y="383220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365960" y="384480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65240" y="1893960"/>
            <a:ext cx="4317840" cy="3995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43280" y="1928880"/>
            <a:ext cx="4318200" cy="3983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400040" y="101520"/>
            <a:ext cx="68979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artición modal de viajes motorizados en día laboral punta mañana (7:30-8:3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372360" y="1370160"/>
            <a:ext cx="793080" cy="431640"/>
            <a:chOff x="6372360" y="1370160"/>
            <a:chExt cx="793080" cy="431640"/>
          </a:xfrm>
        </p:grpSpPr>
        <p:sp>
          <p:nvSpPr>
            <p:cNvPr id="200" name=""/>
            <p:cNvSpPr/>
            <p:nvPr/>
          </p:nvSpPr>
          <p:spPr>
            <a:xfrm>
              <a:off x="6372360" y="1370160"/>
              <a:ext cx="79200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45080" y="1441440"/>
              <a:ext cx="7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836720" y="1370160"/>
            <a:ext cx="934920" cy="431640"/>
            <a:chOff x="1836720" y="1370160"/>
            <a:chExt cx="934920" cy="431640"/>
          </a:xfrm>
        </p:grpSpPr>
        <p:sp>
          <p:nvSpPr>
            <p:cNvPr id="203" name=""/>
            <p:cNvSpPr/>
            <p:nvPr/>
          </p:nvSpPr>
          <p:spPr>
            <a:xfrm>
              <a:off x="1836720" y="137016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79640" y="14414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140360" y="1557360"/>
            <a:ext cx="936360" cy="287280"/>
          </a:xfrm>
          <a:prstGeom prst="rightArrow">
            <a:avLst>
              <a:gd name="adj1" fmla="val 50000"/>
              <a:gd name="adj2" fmla="val 81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575160" y="5848200"/>
            <a:ext cx="2008080" cy="884520"/>
            <a:chOff x="3575160" y="5848200"/>
            <a:chExt cx="2008080" cy="884520"/>
          </a:xfrm>
        </p:grpSpPr>
        <p:sp>
          <p:nvSpPr>
            <p:cNvPr id="207" name=""/>
            <p:cNvSpPr/>
            <p:nvPr/>
          </p:nvSpPr>
          <p:spPr>
            <a:xfrm>
              <a:off x="3575160" y="5848200"/>
              <a:ext cx="1939680" cy="88452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82960" y="617364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95560" y="640224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82960" y="59659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18080" y="62215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18080" y="6437160"/>
              <a:ext cx="188640" cy="16380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18080" y="60008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43560" y="62341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43560" y="60134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1400" y="61736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08440" y="596592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838840" y="6097680"/>
            <a:ext cx="1798560" cy="576000"/>
            <a:chOff x="5838840" y="6097680"/>
            <a:chExt cx="1798560" cy="576000"/>
          </a:xfrm>
        </p:grpSpPr>
        <p:sp>
          <p:nvSpPr>
            <p:cNvPr id="219" name=""/>
            <p:cNvSpPr/>
            <p:nvPr/>
          </p:nvSpPr>
          <p:spPr>
            <a:xfrm>
              <a:off x="5838840" y="6097680"/>
              <a:ext cx="1798560" cy="576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10120" y="616896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1.366.77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403280" y="6097680"/>
            <a:ext cx="1800360" cy="576000"/>
            <a:chOff x="1403280" y="6097680"/>
            <a:chExt cx="1800360" cy="576000"/>
          </a:xfrm>
        </p:grpSpPr>
        <p:sp>
          <p:nvSpPr>
            <p:cNvPr id="222" name=""/>
            <p:cNvSpPr/>
            <p:nvPr/>
          </p:nvSpPr>
          <p:spPr>
            <a:xfrm>
              <a:off x="1403280" y="6097680"/>
              <a:ext cx="1800360" cy="5760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49440" y="6205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931.72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326280" y="5603760"/>
            <a:ext cx="248436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10000" y="5594400"/>
            <a:ext cx="248436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2920" y="5575320"/>
            <a:ext cx="2484360" cy="4856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0360" y="5699160"/>
            <a:ext cx="20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[ &gt; 1.599.999 $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71720" y="88920"/>
            <a:ext cx="7480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artición Modal viajes motorizados (día laboral) por estrato de ingr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79760" y="571176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450.000 - 1.599.999 $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00960" y="5683320"/>
            <a:ext cx="21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&lt; 450.000 $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637080" y="1449360"/>
            <a:ext cx="2007720" cy="884160"/>
            <a:chOff x="3637080" y="1449360"/>
            <a:chExt cx="2007720" cy="884160"/>
          </a:xfrm>
        </p:grpSpPr>
        <p:sp>
          <p:nvSpPr>
            <p:cNvPr id="232" name=""/>
            <p:cNvSpPr/>
            <p:nvPr/>
          </p:nvSpPr>
          <p:spPr>
            <a:xfrm>
              <a:off x="3637080" y="1449360"/>
              <a:ext cx="193968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44880" y="1774440"/>
              <a:ext cx="86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57480" y="2003040"/>
              <a:ext cx="86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44880" y="1566720"/>
              <a:ext cx="59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79640" y="182232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79640" y="203796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79640" y="160164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05120" y="183492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05120" y="161424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82960" y="17744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95560" y="1566720"/>
              <a:ext cx="76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113360" y="6194520"/>
            <a:ext cx="1249200" cy="396720"/>
            <a:chOff x="4113360" y="6194520"/>
            <a:chExt cx="1249200" cy="396720"/>
          </a:xfrm>
        </p:grpSpPr>
        <p:sp>
          <p:nvSpPr>
            <p:cNvPr id="244" name=""/>
            <p:cNvSpPr/>
            <p:nvPr/>
          </p:nvSpPr>
          <p:spPr>
            <a:xfrm>
              <a:off x="4113360" y="6194520"/>
              <a:ext cx="1249200" cy="396720"/>
            </a:xfrm>
            <a:prstGeom prst="cube">
              <a:avLst>
                <a:gd name="adj" fmla="val 1470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7120" y="6310080"/>
              <a:ext cx="1131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$ Agosto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033720" y="2506680"/>
            <a:ext cx="3048120" cy="2789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093000" y="2541600"/>
            <a:ext cx="3051000" cy="28130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0" y="2508120"/>
            <a:ext cx="304812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Flujos de Transporte 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4960" y="266760"/>
            <a:ext cx="88790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Auto: Arcos urbanos más Congestion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631880" y="1238400"/>
          <a:ext cx="6116760" cy="55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1238400"/>
                    <a:ext cx="6116760" cy="55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212840" y="1523880"/>
            <a:ext cx="6718320" cy="46926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552680" y="7632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: arcos con flujo &gt; 5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84788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081080" y="1676520"/>
            <a:ext cx="6981840" cy="46418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552680" y="42876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 : arcos con flujo &gt; 10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950160" cy="45576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552680" y="7632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 : arcos con flujo &gt; 15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685800" y="14029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o el 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44,1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5,1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ta mañ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44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6,3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ta t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50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9,0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era de pu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37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3,3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iempos de viaje promed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Planes e Inversión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D%20CONCESIONES%20Urbanas" descr=""/>
          <p:cNvPicPr/>
          <p:nvPr/>
        </p:nvPicPr>
        <p:blipFill>
          <a:blip r:embed="rId1"/>
          <a:stretch/>
        </p:blipFill>
        <p:spPr>
          <a:xfrm>
            <a:off x="3809880" y="1290600"/>
            <a:ext cx="5181840" cy="47242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Autopistas Urban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447920"/>
            <a:ext cx="381024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150 km 2001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US$ 2 000 mill 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1676520"/>
            <a:ext cx="8381880" cy="175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8920" y="4003560"/>
          <a:ext cx="9016920" cy="285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4003560"/>
                    <a:ext cx="901692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98280" y="1270080"/>
          <a:ext cx="8994960" cy="2763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280" y="1270080"/>
                    <a:ext cx="8994960" cy="27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63400" y="0"/>
            <a:ext cx="85806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istograma de evolución de propósitos de viaje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845480" y="1343160"/>
            <a:ext cx="1187280" cy="884160"/>
            <a:chOff x="7845480" y="1343160"/>
            <a:chExt cx="1187280" cy="884160"/>
          </a:xfrm>
        </p:grpSpPr>
        <p:sp>
          <p:nvSpPr>
            <p:cNvPr id="78" name=""/>
            <p:cNvSpPr/>
            <p:nvPr/>
          </p:nvSpPr>
          <p:spPr>
            <a:xfrm>
              <a:off x="7845480" y="1343160"/>
              <a:ext cx="1157040" cy="884160"/>
            </a:xfrm>
            <a:prstGeom prst="cube">
              <a:avLst>
                <a:gd name="adj" fmla="val 44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153280" y="166860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165880" y="189720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178840" y="14605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88040" y="171612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988040" y="193212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88040" y="149544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996840" y="4454640"/>
            <a:ext cx="1366920" cy="468360"/>
            <a:chOff x="996840" y="4454640"/>
            <a:chExt cx="1366920" cy="468360"/>
          </a:xfrm>
        </p:grpSpPr>
        <p:sp>
          <p:nvSpPr>
            <p:cNvPr id="86" name=""/>
            <p:cNvSpPr/>
            <p:nvPr/>
          </p:nvSpPr>
          <p:spPr>
            <a:xfrm>
              <a:off x="996840" y="4454640"/>
              <a:ext cx="1366920" cy="468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08080" y="4525920"/>
              <a:ext cx="12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EOD 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001880" y="1677960"/>
            <a:ext cx="1380960" cy="431640"/>
            <a:chOff x="1001880" y="1677960"/>
            <a:chExt cx="1380960" cy="431640"/>
          </a:xfrm>
        </p:grpSpPr>
        <p:sp>
          <p:nvSpPr>
            <p:cNvPr id="89" name=""/>
            <p:cNvSpPr/>
            <p:nvPr/>
          </p:nvSpPr>
          <p:spPr>
            <a:xfrm>
              <a:off x="1001880" y="1677960"/>
              <a:ext cx="138096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77840" y="1749240"/>
              <a:ext cx="126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EOD 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Red de Metr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1447920"/>
            <a:ext cx="288936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Hoy: 3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2006: 8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Inversión: MMUS$ 1.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3727440" y="1312920"/>
            <a:ext cx="4479840" cy="5362560"/>
            <a:chOff x="3727440" y="1312920"/>
            <a:chExt cx="4479840" cy="5362560"/>
          </a:xfrm>
        </p:grpSpPr>
        <p:pic>
          <p:nvPicPr>
            <p:cNvPr id="281" name="foto_redmetro_zoom" descr=""/>
            <p:cNvPicPr/>
            <p:nvPr/>
          </p:nvPicPr>
          <p:blipFill>
            <a:blip r:embed="rId1"/>
            <a:stretch/>
          </p:blipFill>
          <p:spPr>
            <a:xfrm>
              <a:off x="3727440" y="1338120"/>
              <a:ext cx="4479840" cy="53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7264440" y="3214800"/>
              <a:ext cx="566640" cy="31147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62440" y="2755800"/>
              <a:ext cx="746280" cy="3715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30960" y="5089680"/>
              <a:ext cx="336600" cy="66168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3600000">
              <a:off x="6181560" y="4398840"/>
              <a:ext cx="739800" cy="18511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54600" y="1312920"/>
              <a:ext cx="336600" cy="126216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96800" y="638280"/>
          <a:ext cx="8290080" cy="549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638280"/>
                    <a:ext cx="8290080" cy="54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326280" y="5616720"/>
            <a:ext cx="2484360" cy="46008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44760" y="5607000"/>
            <a:ext cx="248472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5587920"/>
            <a:ext cx="2484360" cy="48600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440" y="5724360"/>
            <a:ext cx="20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[ mayor a 1.599.999 $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43160" y="88920"/>
            <a:ext cx="65005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artición Modal  por ingreso del hogar ( día laboral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573732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450.000 - 1.599.999 $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00960" y="5708520"/>
            <a:ext cx="21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menor a 450.000 $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600360" y="1479600"/>
            <a:ext cx="2008440" cy="884160"/>
            <a:chOff x="3600360" y="1479600"/>
            <a:chExt cx="2008440" cy="884160"/>
          </a:xfrm>
        </p:grpSpPr>
        <p:sp>
          <p:nvSpPr>
            <p:cNvPr id="101" name=""/>
            <p:cNvSpPr/>
            <p:nvPr/>
          </p:nvSpPr>
          <p:spPr>
            <a:xfrm>
              <a:off x="3600360" y="1479600"/>
              <a:ext cx="194004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08520" y="180468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21120" y="203328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08520" y="159696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43280" y="185256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43280" y="206820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43280" y="163188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68760" y="186516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68760" y="164448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46600" y="180468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59200" y="1596960"/>
              <a:ext cx="768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amin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011480" y="6207120"/>
            <a:ext cx="1249200" cy="396720"/>
            <a:chOff x="4011480" y="6207120"/>
            <a:chExt cx="1249200" cy="396720"/>
          </a:xfrm>
        </p:grpSpPr>
        <p:sp>
          <p:nvSpPr>
            <p:cNvPr id="113" name=""/>
            <p:cNvSpPr/>
            <p:nvPr/>
          </p:nvSpPr>
          <p:spPr>
            <a:xfrm>
              <a:off x="4011480" y="6207120"/>
              <a:ext cx="1249200" cy="396720"/>
            </a:xfrm>
            <a:prstGeom prst="cube">
              <a:avLst>
                <a:gd name="adj" fmla="val 1470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35240" y="6322680"/>
              <a:ext cx="1131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$ Agosto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2451240"/>
            <a:ext cx="3059280" cy="3000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84720" y="2519280"/>
            <a:ext cx="3059280" cy="297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032280" y="2460600"/>
            <a:ext cx="30589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91960" y="1523880"/>
            <a:ext cx="7197840" cy="5037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20760" y="88920"/>
            <a:ext cx="6534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Evolucion de generación de viajes motorizados por hog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1287360"/>
          <a:ext cx="9144000" cy="258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87360"/>
                    <a:ext cx="91440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0" y="3811680"/>
          <a:ext cx="9144000" cy="3046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11680"/>
                    <a:ext cx="914400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5" name=""/>
          <p:cNvGrpSpPr/>
          <p:nvPr/>
        </p:nvGrpSpPr>
        <p:grpSpPr>
          <a:xfrm>
            <a:off x="7858080" y="1406520"/>
            <a:ext cx="1187280" cy="884160"/>
            <a:chOff x="7858080" y="1406520"/>
            <a:chExt cx="1187280" cy="884160"/>
          </a:xfrm>
        </p:grpSpPr>
        <p:sp>
          <p:nvSpPr>
            <p:cNvPr id="126" name=""/>
            <p:cNvSpPr/>
            <p:nvPr/>
          </p:nvSpPr>
          <p:spPr>
            <a:xfrm>
              <a:off x="7858080" y="1406520"/>
              <a:ext cx="1157040" cy="884160"/>
            </a:xfrm>
            <a:prstGeom prst="cube">
              <a:avLst>
                <a:gd name="adj" fmla="val 44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65880" y="173196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STUD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8480" y="196056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91440" y="152388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00640" y="17794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00640" y="19954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00640" y="155880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996840" y="4302000"/>
            <a:ext cx="1366920" cy="468360"/>
            <a:chOff x="996840" y="4302000"/>
            <a:chExt cx="1366920" cy="468360"/>
          </a:xfrm>
        </p:grpSpPr>
        <p:sp>
          <p:nvSpPr>
            <p:cNvPr id="134" name=""/>
            <p:cNvSpPr/>
            <p:nvPr/>
          </p:nvSpPr>
          <p:spPr>
            <a:xfrm>
              <a:off x="996840" y="4302000"/>
              <a:ext cx="1366920" cy="468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08080" y="4373280"/>
              <a:ext cx="12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ODS 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001880" y="1728720"/>
            <a:ext cx="1380960" cy="431640"/>
            <a:chOff x="1001880" y="1728720"/>
            <a:chExt cx="1380960" cy="431640"/>
          </a:xfrm>
        </p:grpSpPr>
        <p:sp>
          <p:nvSpPr>
            <p:cNvPr id="137" name=""/>
            <p:cNvSpPr/>
            <p:nvPr/>
          </p:nvSpPr>
          <p:spPr>
            <a:xfrm>
              <a:off x="1001880" y="1728720"/>
              <a:ext cx="138096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77840" y="1800000"/>
              <a:ext cx="126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ODS 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133640" y="88920"/>
            <a:ext cx="80103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istograma  evolución propósito  viajes motorizados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41520" y="101520"/>
            <a:ext cx="822132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volución de la partición modal de viajes motorizados 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372360" y="1370160"/>
            <a:ext cx="793080" cy="431640"/>
            <a:chOff x="6372360" y="1370160"/>
            <a:chExt cx="793080" cy="431640"/>
          </a:xfrm>
        </p:grpSpPr>
        <p:sp>
          <p:nvSpPr>
            <p:cNvPr id="143" name=""/>
            <p:cNvSpPr/>
            <p:nvPr/>
          </p:nvSpPr>
          <p:spPr>
            <a:xfrm>
              <a:off x="6372360" y="1370160"/>
              <a:ext cx="79200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45080" y="1441440"/>
              <a:ext cx="7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836720" y="1370160"/>
            <a:ext cx="934920" cy="431640"/>
            <a:chOff x="1836720" y="1370160"/>
            <a:chExt cx="934920" cy="431640"/>
          </a:xfrm>
        </p:grpSpPr>
        <p:sp>
          <p:nvSpPr>
            <p:cNvPr id="146" name=""/>
            <p:cNvSpPr/>
            <p:nvPr/>
          </p:nvSpPr>
          <p:spPr>
            <a:xfrm>
              <a:off x="1836720" y="137016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79640" y="14414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140360" y="1557360"/>
            <a:ext cx="936360" cy="287280"/>
          </a:xfrm>
          <a:prstGeom prst="rightArrow">
            <a:avLst>
              <a:gd name="adj1" fmla="val 50000"/>
              <a:gd name="adj2" fmla="val 81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51480" y="1844640"/>
            <a:ext cx="4492440" cy="4184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3360" y="1855800"/>
            <a:ext cx="4486320" cy="416700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3575160" y="5848200"/>
            <a:ext cx="2008080" cy="884520"/>
            <a:chOff x="3575160" y="5848200"/>
            <a:chExt cx="2008080" cy="884520"/>
          </a:xfrm>
        </p:grpSpPr>
        <p:sp>
          <p:nvSpPr>
            <p:cNvPr id="152" name=""/>
            <p:cNvSpPr/>
            <p:nvPr/>
          </p:nvSpPr>
          <p:spPr>
            <a:xfrm>
              <a:off x="3575160" y="5848200"/>
              <a:ext cx="1939680" cy="88452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82960" y="617364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95560" y="640224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59659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18080" y="62215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18080" y="6437160"/>
              <a:ext cx="188640" cy="16380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18080" y="60008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43560" y="62341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43560" y="60134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21400" y="61736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08440" y="596592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838840" y="6097680"/>
            <a:ext cx="1798560" cy="576000"/>
            <a:chOff x="5838840" y="6097680"/>
            <a:chExt cx="1798560" cy="576000"/>
          </a:xfrm>
        </p:grpSpPr>
        <p:sp>
          <p:nvSpPr>
            <p:cNvPr id="164" name=""/>
            <p:cNvSpPr/>
            <p:nvPr/>
          </p:nvSpPr>
          <p:spPr>
            <a:xfrm>
              <a:off x="5838840" y="6097680"/>
              <a:ext cx="1798560" cy="576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10120" y="616896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10.147.24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403280" y="6097680"/>
            <a:ext cx="1800360" cy="576000"/>
            <a:chOff x="1403280" y="6097680"/>
            <a:chExt cx="1800360" cy="576000"/>
          </a:xfrm>
        </p:grpSpPr>
        <p:sp>
          <p:nvSpPr>
            <p:cNvPr id="167" name=""/>
            <p:cNvSpPr/>
            <p:nvPr/>
          </p:nvSpPr>
          <p:spPr>
            <a:xfrm>
              <a:off x="1403280" y="6097680"/>
              <a:ext cx="1800360" cy="5760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49440" y="6205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5.996.1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03880" y="2449440"/>
            <a:ext cx="3840120" cy="3619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77840" y="1336680"/>
            <a:ext cx="5029200" cy="3287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52680" y="76320"/>
            <a:ext cx="60642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Motorizados por propósito 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578640" y="3481560"/>
            <a:ext cx="720360" cy="258840"/>
            <a:chOff x="6578640" y="3481560"/>
            <a:chExt cx="720360" cy="258840"/>
          </a:xfrm>
        </p:grpSpPr>
        <p:sp>
          <p:nvSpPr>
            <p:cNvPr id="174" name=""/>
            <p:cNvSpPr/>
            <p:nvPr/>
          </p:nvSpPr>
          <p:spPr>
            <a:xfrm>
              <a:off x="6578640" y="348156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78640" y="349416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7858080" y="4626000"/>
            <a:ext cx="1080720" cy="260280"/>
            <a:chOff x="7858080" y="4626000"/>
            <a:chExt cx="1080720" cy="260280"/>
          </a:xfrm>
        </p:grpSpPr>
        <p:sp>
          <p:nvSpPr>
            <p:cNvPr id="177" name=""/>
            <p:cNvSpPr/>
            <p:nvPr/>
          </p:nvSpPr>
          <p:spPr>
            <a:xfrm>
              <a:off x="7858080" y="462600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58080" y="464004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066000" y="5218200"/>
            <a:ext cx="1222920" cy="258840"/>
            <a:chOff x="6066000" y="5218200"/>
            <a:chExt cx="1222920" cy="258840"/>
          </a:xfrm>
        </p:grpSpPr>
        <p:sp>
          <p:nvSpPr>
            <p:cNvPr id="180" name=""/>
            <p:cNvSpPr/>
            <p:nvPr/>
          </p:nvSpPr>
          <p:spPr>
            <a:xfrm>
              <a:off x="6066000" y="5218200"/>
              <a:ext cx="122292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66000" y="5230800"/>
              <a:ext cx="122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7320" y="1305000"/>
            <a:ext cx="5000400" cy="3292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148360" y="2370240"/>
            <a:ext cx="3995640" cy="376056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5767560" y="3510000"/>
            <a:ext cx="720360" cy="258840"/>
            <a:chOff x="5767560" y="3510000"/>
            <a:chExt cx="720360" cy="258840"/>
          </a:xfrm>
        </p:grpSpPr>
        <p:sp>
          <p:nvSpPr>
            <p:cNvPr id="186" name=""/>
            <p:cNvSpPr/>
            <p:nvPr/>
          </p:nvSpPr>
          <p:spPr>
            <a:xfrm>
              <a:off x="5767560" y="351000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67560" y="352260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515360" y="3513240"/>
            <a:ext cx="1080720" cy="260280"/>
            <a:chOff x="7515360" y="3513240"/>
            <a:chExt cx="1080720" cy="260280"/>
          </a:xfrm>
        </p:grpSpPr>
        <p:sp>
          <p:nvSpPr>
            <p:cNvPr id="189" name=""/>
            <p:cNvSpPr/>
            <p:nvPr/>
          </p:nvSpPr>
          <p:spPr>
            <a:xfrm>
              <a:off x="7515360" y="351324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15360" y="352728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07200" y="5173560"/>
            <a:ext cx="1223280" cy="258840"/>
            <a:chOff x="6307200" y="5173560"/>
            <a:chExt cx="1223280" cy="258840"/>
          </a:xfrm>
        </p:grpSpPr>
        <p:sp>
          <p:nvSpPr>
            <p:cNvPr id="192" name=""/>
            <p:cNvSpPr/>
            <p:nvPr/>
          </p:nvSpPr>
          <p:spPr>
            <a:xfrm>
              <a:off x="6307200" y="517356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07200" y="518616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71400" y="76320"/>
            <a:ext cx="84726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motorizados por propósito, punta mañana 7:30-8:30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9:24:41Z</dcterms:created>
  <dc:creator>cvaleze</dc:creator>
  <dc:description/>
  <dc:language>en-US</dc:language>
  <cp:lastModifiedBy>Ricardo Hurtubia</cp:lastModifiedBy>
  <cp:lastPrinted>2004-05-14T03:25:37Z</cp:lastPrinted>
  <dcterms:modified xsi:type="dcterms:W3CDTF">2004-08-10T16:27:02Z</dcterms:modified>
  <cp:revision>403</cp:revision>
  <dc:subject/>
  <dc:title>ENCUESTA ORIGEN DESTINO DEL GRAN SANTIAG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15213776</vt:r8>
  </property>
  <property fmtid="{D5CDD505-2E9C-101B-9397-08002B2CF9AE}" pid="3" name="_AuthorEmail">
    <vt:lpwstr>egodoy@sectra.cl</vt:lpwstr>
  </property>
  <property fmtid="{D5CDD505-2E9C-101B-9397-08002B2CF9AE}" pid="4" name="_AuthorEmailDisplayName">
    <vt:lpwstr>Esteban Godoy</vt:lpwstr>
  </property>
  <property fmtid="{D5CDD505-2E9C-101B-9397-08002B2CF9AE}" pid="5" name="_EmailSubject">
    <vt:lpwstr>Presentación conferencia EOD 2001 v5</vt:lpwstr>
  </property>
</Properties>
</file>