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12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7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9520" y="698040"/>
            <a:ext cx="465480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6880" y="4420800"/>
            <a:ext cx="54975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21C8-C8CD-488D-B93D-151325282E2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CE0-439E-43D1-82A0-FB56535FBBA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87C8-5FC5-4970-86D4-6F7D9EAF044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66B8-F067-4843-A6E0-F0FBAA0971E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498A-66B2-46E9-854D-11F72AD9B2F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9C91-CA5A-48D6-8295-3097F7C9555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7B1A-EAF1-494E-A3BE-EBF43E54D98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F26E-741E-4B83-BD22-FFE4A595E88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219D-54DD-4B47-982F-4596922C480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E9C-58D7-4A59-A15B-1E09461B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75F-53CC-4C69-9D1E-4704208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CEB-E240-4E12-8FE0-DC699FF0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5E9-2928-48E7-A647-2B8AAACD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8DF-DFC6-4010-ACA7-AA9451A5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9BA-1295-4695-81B4-572DD1E2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B29-3C0D-4150-85E2-AAE63416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A18-5820-4664-B330-083A2C8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5AF-34CF-4DA5-939E-5EC9EED1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A33-B2DA-48AE-BF82-D2D8EC73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E10-FA5D-4ADB-92BE-66F3B8DB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B4B-09A5-4DDA-AEB6-9EE5A4F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0F1F-B574-44D9-A459-14F4EF39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52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55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58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63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66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69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200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203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207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219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222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232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244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D%20CONCESIONES%20Urbanas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78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86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89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281" name="foto_redmetro_zoom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96800" y="638280"/>
          <a:ext cx="8290080" cy="54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38280"/>
                    <a:ext cx="82900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101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113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126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134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137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143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146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152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164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167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174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177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180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186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189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192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Ricardo Hurtubia</cp:lastModifiedBy>
  <cp:lastPrinted>2004-05-14T03:25:37Z</cp:lastPrinted>
  <dcterms:modified xsi:type="dcterms:W3CDTF">2004-08-10T16:27:02Z</dcterms:modified>
  <cp:revision>403</cp:revision>
  <dc:subject/>
  <dc:title>ENCUESTA ORIGEN DESTINO DEL GRAN SANTIA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5213776</vt:r8>
  </property>
  <property fmtid="{D5CDD505-2E9C-101B-9397-08002B2CF9AE}" pid="3" name="_AuthorEmail">
    <vt:lpwstr>egodoy@sectra.cl</vt:lpwstr>
  </property>
  <property fmtid="{D5CDD505-2E9C-101B-9397-08002B2CF9AE}" pid="4" name="_AuthorEmailDisplayName">
    <vt:lpwstr>Esteban Godoy</vt:lpwstr>
  </property>
  <property fmtid="{D5CDD505-2E9C-101B-9397-08002B2CF9AE}" pid="5" name="_EmailSubject">
    <vt:lpwstr>Presentación conferencia EOD 2001 v5</vt:lpwstr>
  </property>
</Properties>
</file>