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9EE1-F05F-41A9-87CC-C693BF06385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CA37-19BC-4D6F-A4B2-A6EB651B001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A693-EB99-405D-927E-D710FADB5D6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1AF4-4602-4BCA-86E2-B8AF21FEC17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DB0F-C3A9-416B-9762-621E373B457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818F-584E-4651-95B1-9111978ACE4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EC53-916A-42C3-B6A5-4730F72B98F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7E8-CCF6-4A5E-8460-D090C1BA3A5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FAF-755D-4E46-ACE7-9B71D15568A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B32-4943-489F-8EE7-CA9C3F4B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429-E1EF-4CB9-9084-848B708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7FF-3A1C-451E-BD65-B91641DF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34D-3F2C-480C-8403-4E12D0BE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085-7688-4389-A17A-A66CE8FA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FA2-28B7-4BC2-8EC1-7B2B763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6DD-E3C8-41F1-A358-FFAD974F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EB8-07F1-4D4A-92C8-764D9C2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8EB-05F9-4A7C-BD1D-4FEC4E8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AFC-D0F5-4B0E-9A0B-4D7F523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56D-703B-4093-BAA9-EA54FA3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C60-AD03-4867-9937-C00D26C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4CC7-28D5-4D34-A70C-B9982480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52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55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58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63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66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69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200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203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207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219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222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232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244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78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86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89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281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96800" y="638280"/>
          <a:ext cx="829008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38280"/>
                    <a:ext cx="8290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101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113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126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134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137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143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146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152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164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167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174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177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180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186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189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192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Ricardo Hurtubia</cp:lastModifiedBy>
  <cp:lastPrinted>2004-05-14T03:25:37Z</cp:lastPrinted>
  <dcterms:modified xsi:type="dcterms:W3CDTF">2004-08-10T16:27:02Z</dcterms:modified>
  <cp:revision>403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