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media/image29.jpeg" ContentType="image/jpeg"/>
  <Override PartName="/ppt/media/image28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6.wmf" ContentType="image/x-wmf"/>
  <Override PartName="/ppt/media/image1.wmf" ContentType="image/x-wmf"/>
  <Override PartName="/ppt/media/image24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13.jpeg" ContentType="image/jpeg"/>
  <Override PartName="/ppt/media/image30.jpeg" ContentType="image/jpeg"/>
  <Override PartName="/ppt/media/image36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41.png" ContentType="image/png"/>
  <Override PartName="/ppt/media/image42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7228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7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9520" y="698040"/>
            <a:ext cx="4654800" cy="34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6880" y="4420800"/>
            <a:ext cx="549756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7A51-493D-424F-84A5-D32B3F2EB041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A467-AE47-44A0-A762-BACEA3F4DCA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8B8-A8F1-4251-BE0D-A7713B448FD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2689-8B6A-4AE7-95E9-1B343EF27A9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7876-6293-4AFF-B88A-9683CDA187F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653C-E2FE-4C8E-98FC-FEEA77EEA02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7968-4A4A-43FB-9C3F-E4169028F7B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0F3-8803-4440-8ED7-B91F13C9505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ACF2-D5A6-4450-9980-DE5129DE0C6A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616-12C9-4AE0-9243-BB9A49BEF609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602B-DBD4-4DA9-9EB8-CDFE7D7F951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C9BD-7484-4C96-A2E8-3B29F1A3FDA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0A8C-3CDB-4C91-A231-A621A46358F2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8F56-DD8E-479C-A301-A650236A2A8E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9A80-CA34-4E66-9D01-A93A99C839E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7A4B-001F-446A-93D4-F8B349B511F5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A1A9-5D98-419F-90AD-70BABCC134BB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127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9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53A6-7819-44A4-9914-EFE23E53C0C6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145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7640" y="4422240"/>
            <a:ext cx="50371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3892680" y="884232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66AA-EC7A-4315-B97C-462FAF50D0FC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884232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0"/>
            <a:ext cx="2978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3892680" y="0"/>
            <a:ext cx="29779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654800" cy="34909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040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21E-7776-4C02-B4DA-9EC26CCF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188C-E51B-42FF-BD77-7CC7A6D3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BFF-98B8-4BF6-8BCC-9D07C4D64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1D5-7454-4DE0-AE88-61A49026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CCED-D8F9-47AF-90F2-55208ED9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088E-5AEA-4C60-B55C-62806C34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A53-5E51-40EB-A239-4371FA9C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5374-D567-475B-82A2-F3E66840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98680" y="101160"/>
            <a:ext cx="622296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4F3-CCD5-4E92-A4E0-76CFF452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56D-7C92-43DE-8051-9B8875C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E80-311F-460B-8577-FACF5703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4451-0CCA-4D0A-B478-88E6A53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3859-F03C-49F6-9C03-A1104BAFD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98680" y="101160"/>
            <a:ext cx="62229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192320"/>
            <a:ext cx="7620120" cy="1440"/>
          </a:xfrm>
          <a:prstGeom prst="line">
            <a:avLst/>
          </a:prstGeom>
          <a:ln w="57240">
            <a:solidFill>
              <a:srgbClr val="e8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108160"/>
            <a:ext cx="914400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I43A Análisis de Sistemas de Transporte</a:t>
            </a:r>
            <a:br>
              <a:rPr sz="3600"/>
            </a:b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9 agosto 2004</a:t>
            </a:r>
            <a:r>
              <a:rPr b="1" lang="en-GB" sz="6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3680" y="4200480"/>
            <a:ext cx="8264520" cy="16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6680" y="1593720"/>
            <a:ext cx="6742080" cy="485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Número de au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4920" y="1511280"/>
            <a:ext cx="7018200" cy="4932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ut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01720" y="1255680"/>
            <a:ext cx="5251680" cy="5602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576600" y="2259000"/>
            <a:ext cx="790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2920" y="5530680"/>
            <a:ext cx="777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61040" y="5211720"/>
            <a:ext cx="1392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62120" y="4483080"/>
            <a:ext cx="1033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3520" y="301788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148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omic Sans MS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endCxn id="113" idx="1"/>
          </p:cNvCxnSpPr>
          <p:nvPr/>
        </p:nvCxnSpPr>
        <p:spPr>
          <a:xfrm>
            <a:off x="1569960" y="2395440"/>
            <a:ext cx="2007360" cy="7200"/>
          </a:xfrm>
          <a:prstGeom prst="straightConnector1">
            <a:avLst/>
          </a:prstGeom>
          <a:ln w="0">
            <a:noFill/>
          </a:ln>
        </p:spPr>
      </p:cxnSp>
      <p:sp>
        <p:nvSpPr>
          <p:cNvPr id="120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95600" y="1243080"/>
            <a:ext cx="5251320" cy="56023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41840" y="2208240"/>
            <a:ext cx="936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N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32040" y="5721480"/>
            <a:ext cx="827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292720" y="5160960"/>
            <a:ext cx="1295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R-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59040" y="4305240"/>
            <a:ext cx="1008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O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9960" y="3170160"/>
            <a:ext cx="93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78280" y="3936960"/>
            <a:ext cx="8650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EN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6920" y="1989000"/>
            <a:ext cx="17017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1.46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</a:t>
            </a: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9.4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: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.360.0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9" idx="3"/>
            <a:endCxn id="123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31" name=""/>
          <p:cNvCxnSpPr>
            <a:stCxn id="129" idx="3"/>
            <a:endCxn id="123" idx="1"/>
          </p:cNvCxnSpPr>
          <p:nvPr/>
        </p:nvCxnSpPr>
        <p:spPr>
          <a:xfrm flipV="1">
            <a:off x="1898640" y="2350440"/>
            <a:ext cx="18439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981840" y="16686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58.805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75.20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      2.444.47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0" lang="es-ES_tradnl" sz="1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6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60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960" y="3724200"/>
            <a:ext cx="183528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14.2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8.15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664.8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8360" y="5191200"/>
            <a:ext cx="1720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34.5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345.34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730.2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1840" y="3355920"/>
            <a:ext cx="190512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8.936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206.044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684.368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9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0240" y="5218200"/>
            <a:ext cx="1828800" cy="14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Hogares 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25.8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Personas: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1.210.8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Viajes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3.596.99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greso por hogar :   </a:t>
            </a:r>
            <a:r>
              <a:rPr b="1" lang="es-CL" sz="1400" spc="-1" strike="noStrike">
                <a:solidFill>
                  <a:srgbClr val="0000ff"/>
                </a:solidFill>
                <a:latin typeface="Courier New"/>
              </a:rPr>
              <a:t>14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Courier New"/>
              </a:rPr>
              <a:t>(US$/month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utos/1000hab :             </a:t>
            </a:r>
            <a:r>
              <a:rPr b="1" lang="es-CL" sz="1000" spc="-1" strike="noStrike">
                <a:solidFill>
                  <a:srgbClr val="000000"/>
                </a:solidFill>
                <a:latin typeface="Courier New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3" idx="3"/>
            <a:endCxn id="126" idx="1"/>
          </p:cNvCxnSpPr>
          <p:nvPr/>
        </p:nvCxnSpPr>
        <p:spPr>
          <a:xfrm>
            <a:off x="2046240" y="4422240"/>
            <a:ext cx="71352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3"/>
            <a:endCxn id="124" idx="1"/>
          </p:cNvCxnSpPr>
          <p:nvPr/>
        </p:nvCxnSpPr>
        <p:spPr>
          <a:xfrm flipV="1">
            <a:off x="1919160" y="5864040"/>
            <a:ext cx="171360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6" idx="1"/>
            <a:endCxn id="125" idx="2"/>
          </p:cNvCxnSpPr>
          <p:nvPr/>
        </p:nvCxnSpPr>
        <p:spPr>
          <a:xfrm flipH="1" flipV="1">
            <a:off x="5939640" y="5444640"/>
            <a:ext cx="8406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5" idx="1"/>
            <a:endCxn id="128" idx="3"/>
          </p:cNvCxnSpPr>
          <p:nvPr/>
        </p:nvCxnSpPr>
        <p:spPr>
          <a:xfrm flipH="1">
            <a:off x="4743000" y="4053960"/>
            <a:ext cx="1969200" cy="2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2" idx="1"/>
            <a:endCxn id="127" idx="0"/>
          </p:cNvCxnSpPr>
          <p:nvPr/>
        </p:nvCxnSpPr>
        <p:spPr>
          <a:xfrm flipH="1">
            <a:off x="5547960" y="2366640"/>
            <a:ext cx="1434240" cy="80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1535040" y="88920"/>
            <a:ext cx="67532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Santiago en Seis Grandes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SUPHG97C" descr=""/>
          <p:cNvPicPr/>
          <p:nvPr/>
        </p:nvPicPr>
        <p:blipFill>
          <a:blip r:embed="rId1"/>
          <a:stretch/>
        </p:blipFill>
        <p:spPr>
          <a:xfrm>
            <a:off x="1057320" y="1476360"/>
            <a:ext cx="7027920" cy="5081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Residenci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HOGICO97" descr=""/>
          <p:cNvPicPr/>
          <p:nvPr/>
        </p:nvPicPr>
        <p:blipFill>
          <a:blip r:embed="rId1"/>
          <a:stretch/>
        </p:blipFill>
        <p:spPr>
          <a:xfrm>
            <a:off x="1460520" y="1252440"/>
            <a:ext cx="6607080" cy="5241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54120" y="212760"/>
            <a:ext cx="68389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Distribución Espacial Ingre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15238" t="13622" r="4755" b="6571"/>
          <a:stretch/>
        </p:blipFill>
        <p:spPr>
          <a:xfrm>
            <a:off x="1092240" y="1324080"/>
            <a:ext cx="7558200" cy="539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Internet en los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834240" y="5529240"/>
            <a:ext cx="1814400" cy="1361520"/>
            <a:chOff x="6834240" y="5529240"/>
            <a:chExt cx="1814400" cy="1361520"/>
          </a:xfrm>
        </p:grpSpPr>
        <p:sp>
          <p:nvSpPr>
            <p:cNvPr id="154" name=""/>
            <p:cNvSpPr/>
            <p:nvPr/>
          </p:nvSpPr>
          <p:spPr>
            <a:xfrm>
              <a:off x="6834240" y="5529240"/>
              <a:ext cx="1814400" cy="1199880"/>
            </a:xfrm>
            <a:prstGeom prst="cube">
              <a:avLst>
                <a:gd name="adj" fmla="val 440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81800" y="6027480"/>
              <a:ext cx="86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rm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51560" y="6370560"/>
              <a:ext cx="1257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Banda anch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81800" y="5667120"/>
              <a:ext cx="107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50160" y="599904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50160" y="636732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50160" y="5638680"/>
              <a:ext cx="360360" cy="311040"/>
            </a:xfrm>
            <a:prstGeom prst="cube">
              <a:avLst>
                <a:gd name="adj" fmla="val 1049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SUPCM97C" descr=""/>
          <p:cNvPicPr/>
          <p:nvPr/>
        </p:nvPicPr>
        <p:blipFill>
          <a:blip r:embed="rId1"/>
          <a:stretch/>
        </p:blipFill>
        <p:spPr>
          <a:xfrm>
            <a:off x="1117440" y="1468440"/>
            <a:ext cx="6856560" cy="4971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838160" y="88920"/>
            <a:ext cx="6847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Comercial (minoris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239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MATRI97C" descr=""/>
          <p:cNvPicPr/>
          <p:nvPr/>
        </p:nvPicPr>
        <p:blipFill>
          <a:blip r:embed="rId1"/>
          <a:stretch/>
        </p:blipFill>
        <p:spPr>
          <a:xfrm>
            <a:off x="1206360" y="1576440"/>
            <a:ext cx="6855120" cy="49831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duc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SUPIN97C" descr=""/>
          <p:cNvPicPr/>
          <p:nvPr/>
        </p:nvPicPr>
        <p:blipFill>
          <a:blip r:embed="rId1"/>
          <a:stretch/>
        </p:blipFill>
        <p:spPr>
          <a:xfrm>
            <a:off x="1482840" y="1476360"/>
            <a:ext cx="6891120" cy="49831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38160" y="88920"/>
            <a:ext cx="5869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Area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7240" y="101160"/>
            <a:ext cx="83595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¿Qué pasa si no se interviene el sistema?: Círculo vicioso del transporte públic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4040" y="1312920"/>
            <a:ext cx="3011400" cy="47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1120" y="20858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ecio terr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32400" y="1262160"/>
            <a:ext cx="3127320" cy="5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08720" y="127476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o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85680" y="2055960"/>
            <a:ext cx="26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sa mot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6480" y="2944800"/>
            <a:ext cx="34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perif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2400" y="3639960"/>
            <a:ext cx="33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cia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1800" y="455436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éficit en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9280" y="532440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orrid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04480" y="2944800"/>
            <a:ext cx="18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29320" y="3678120"/>
            <a:ext cx="19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uarios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39320" y="4529160"/>
            <a:ext cx="180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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ifas T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1840" y="6126120"/>
            <a:ext cx="34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gradación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1040" y="18669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1040" y="24969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1040" y="333360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1040" y="437688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1040" y="496872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25480" y="576576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45320" y="182736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57920" y="247176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6360" y="234324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37480" y="2343240"/>
            <a:ext cx="0" cy="151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762680" y="3860640"/>
            <a:ext cx="87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591240" y="417024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73560" y="6383160"/>
            <a:ext cx="44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766000" y="402696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722720" y="40543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35440" y="4800600"/>
            <a:ext cx="151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9880" y="4002120"/>
            <a:ext cx="171288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32440" y="3873600"/>
            <a:ext cx="135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06880" y="3218040"/>
            <a:ext cx="1479600" cy="47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887640" y="2419200"/>
            <a:ext cx="1570320" cy="73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23960" y="24019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m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98480" y="2207880"/>
            <a:ext cx="778824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ff"/>
                </a:solidFill>
                <a:latin typeface="Times New Roman"/>
              </a:rPr>
              <a:t>El Sistema de Transporte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09720" y="266760"/>
            <a:ext cx="6400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rincipales Arcos  Urban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127240" y="1371600"/>
            <a:ext cx="5200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B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220760"/>
            <a:ext cx="4705200" cy="56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380 lín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Amplia cobertura espacial y alta 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0,1 trasbordos/vi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.000 buses propiedad priv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4.000 “compañía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Oferta no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Mantención d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Competencia “en la calle”  por los pasajeros: inseg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37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d4d4d"/>
                </a:solidFill>
                <a:latin typeface="Arial"/>
              </a:rPr>
              <a:t>82 km vías exclusivas en punta maña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Buses%20Licitados%201999%20copia" descr=""/>
          <p:cNvPicPr/>
          <p:nvPr/>
        </p:nvPicPr>
        <p:blipFill>
          <a:blip r:embed="rId1"/>
          <a:srcRect l="0" t="0" r="4517" b="0"/>
          <a:stretch/>
        </p:blipFill>
        <p:spPr>
          <a:xfrm>
            <a:off x="4543560" y="1398600"/>
            <a:ext cx="460044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istema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759120" y="1243080"/>
            <a:ext cx="5251680" cy="5602320"/>
            <a:chOff x="3759120" y="1243080"/>
            <a:chExt cx="5251680" cy="560232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tretch/>
          </p:blipFill>
          <p:spPr>
            <a:xfrm>
              <a:off x="3759120" y="1243080"/>
              <a:ext cx="5251680" cy="560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"/>
            <p:cNvGrpSpPr/>
            <p:nvPr/>
          </p:nvGrpSpPr>
          <p:grpSpPr>
            <a:xfrm>
              <a:off x="5511960" y="3543480"/>
              <a:ext cx="1752480" cy="660240"/>
              <a:chOff x="5511960" y="3543480"/>
              <a:chExt cx="1752480" cy="660240"/>
            </a:xfrm>
          </p:grpSpPr>
          <p:sp>
            <p:nvSpPr>
              <p:cNvPr id="188" name=""/>
              <p:cNvSpPr/>
              <p:nvPr/>
            </p:nvSpPr>
            <p:spPr>
              <a:xfrm flipH="1">
                <a:off x="7023240" y="3543480"/>
                <a:ext cx="241200" cy="3780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6527880" y="3587760"/>
                <a:ext cx="488880" cy="34272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657400" y="3924360"/>
                <a:ext cx="876600" cy="2793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flipV="1">
                <a:off x="5530680" y="4165560"/>
                <a:ext cx="120600" cy="38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 flipV="1">
                <a:off x="5511960" y="4019400"/>
                <a:ext cx="25200" cy="146160"/>
              </a:xfrm>
              <a:prstGeom prst="line">
                <a:avLst/>
              </a:prstGeom>
              <a:ln w="507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6318360" y="3784320"/>
              <a:ext cx="215640" cy="1416240"/>
              <a:chOff x="6318360" y="3784320"/>
              <a:chExt cx="215640" cy="1416240"/>
            </a:xfrm>
          </p:grpSpPr>
          <p:sp>
            <p:nvSpPr>
              <p:cNvPr id="194" name=""/>
              <p:cNvSpPr/>
              <p:nvPr/>
            </p:nvSpPr>
            <p:spPr>
              <a:xfrm flipH="1" flipV="1">
                <a:off x="6514920" y="4267080"/>
                <a:ext cx="19080" cy="13968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343560" y="4400640"/>
                <a:ext cx="184320" cy="7999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flipV="1">
                <a:off x="6438960" y="4222800"/>
                <a:ext cx="76320" cy="3816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flipV="1">
                <a:off x="6388200" y="4152960"/>
                <a:ext cx="3816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 flipV="1">
                <a:off x="6324120" y="3867120"/>
                <a:ext cx="57240" cy="28584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6318360" y="3790800"/>
                <a:ext cx="31680" cy="763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6356520" y="3784320"/>
                <a:ext cx="75960" cy="6120"/>
              </a:xfrm>
              <a:prstGeom prst="line">
                <a:avLst/>
              </a:prstGeom>
              <a:ln w="507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6337080" y="3854520"/>
              <a:ext cx="838440" cy="1162080"/>
              <a:chOff x="6337080" y="3854520"/>
              <a:chExt cx="838440" cy="1162080"/>
            </a:xfrm>
          </p:grpSpPr>
          <p:sp>
            <p:nvSpPr>
              <p:cNvPr id="202" name=""/>
              <p:cNvSpPr/>
              <p:nvPr/>
            </p:nvSpPr>
            <p:spPr>
              <a:xfrm flipH="1" flipV="1">
                <a:off x="6972480" y="4800600"/>
                <a:ext cx="203040" cy="21600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6622920" y="3860280"/>
                <a:ext cx="355680" cy="9334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337080" y="3854520"/>
                <a:ext cx="285480" cy="19080"/>
              </a:xfrm>
              <a:prstGeom prst="line">
                <a:avLst/>
              </a:prstGeom>
              <a:ln w="507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067360" y="354348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3300"/>
                  </a:solidFill>
                  <a:latin typeface="Times New Roman"/>
                </a:rPr>
                <a:t>L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12160" y="4775040"/>
              <a:ext cx="7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ff00"/>
                  </a:solidFill>
                  <a:latin typeface="Times New Roman"/>
                </a:rPr>
                <a:t>L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67280" y="5156280"/>
              <a:ext cx="74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ffff66"/>
                  </a:solidFill>
                  <a:latin typeface="Times New Roman"/>
                </a:rPr>
                <a:t>L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06360" y="1486080"/>
            <a:ext cx="41562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 lín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Longitud total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lta frecu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Compañía esta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No hay subsidio operacion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Pre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1447920"/>
            <a:ext cx="801360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úblico : Tarifa no integr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us: $3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Metro: desde $290 hasta 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axi-Colectivo: ~600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Transporte Priv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Bencina: 500 $/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Estacionamiento en el centro: ~1800 $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000ff"/>
                </a:solidFill>
                <a:latin typeface="Times New Roman"/>
              </a:rPr>
              <a:t>Demanda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7149960" y="4911840"/>
            <a:ext cx="1562400" cy="862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cami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bicic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54400" y="1828800"/>
            <a:ext cx="3195720" cy="703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16.481.04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25480" y="88920"/>
            <a:ext cx="6821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Totales  (día laboral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35240" y="1914480"/>
            <a:ext cx="28652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Tot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441680" y="3560760"/>
            <a:ext cx="271944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10.147.24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25560" y="3646440"/>
            <a:ext cx="353520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motoriz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76600" y="5049720"/>
            <a:ext cx="2683080" cy="611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Comic Sans MS"/>
              </a:rPr>
              <a:t>6.333.79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240" y="5138640"/>
            <a:ext cx="3830760" cy="459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iajes no motorizado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284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02200" y="2722680"/>
            <a:ext cx="1116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75480" y="4292640"/>
            <a:ext cx="10800" cy="58716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500440" y="4587840"/>
            <a:ext cx="587160" cy="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402160" y="6346800"/>
            <a:ext cx="2719440" cy="432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513400" y="6354720"/>
            <a:ext cx="24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1.880.887 viaj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993600" y="6329520"/>
            <a:ext cx="2543040" cy="431640"/>
            <a:chOff x="993600" y="6329520"/>
            <a:chExt cx="2543040" cy="431640"/>
          </a:xfrm>
        </p:grpSpPr>
        <p:sp>
          <p:nvSpPr>
            <p:cNvPr id="227" name=""/>
            <p:cNvSpPr/>
            <p:nvPr/>
          </p:nvSpPr>
          <p:spPr>
            <a:xfrm>
              <a:off x="993600" y="632952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64880" y="6375600"/>
              <a:ext cx="24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Comic Sans MS"/>
                </a:rPr>
                <a:t>16.481.043 viaj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626000" y="1849320"/>
            <a:ext cx="4479840" cy="4410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2840" y="1812960"/>
            <a:ext cx="4489560" cy="438624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960480" y="1395360"/>
            <a:ext cx="2543040" cy="431640"/>
            <a:chOff x="960480" y="1395360"/>
            <a:chExt cx="2543040" cy="431640"/>
          </a:xfrm>
        </p:grpSpPr>
        <p:sp>
          <p:nvSpPr>
            <p:cNvPr id="232" name=""/>
            <p:cNvSpPr/>
            <p:nvPr/>
          </p:nvSpPr>
          <p:spPr>
            <a:xfrm>
              <a:off x="960480" y="1395360"/>
              <a:ext cx="254304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31760" y="1466640"/>
              <a:ext cx="241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Di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586320" y="1251000"/>
            <a:ext cx="1957320" cy="884160"/>
            <a:chOff x="3586320" y="1251000"/>
            <a:chExt cx="1957320" cy="884160"/>
          </a:xfrm>
        </p:grpSpPr>
        <p:sp>
          <p:nvSpPr>
            <p:cNvPr id="235" name=""/>
            <p:cNvSpPr/>
            <p:nvPr/>
          </p:nvSpPr>
          <p:spPr>
            <a:xfrm>
              <a:off x="3586320" y="125100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94120" y="1576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06720" y="1805040"/>
              <a:ext cx="8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94120" y="136836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28880" y="1623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28880" y="18399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14032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78400" y="163656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78400" y="1415880"/>
              <a:ext cx="189000" cy="16380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68840" y="1576440"/>
              <a:ext cx="86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taxi-t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56240" y="1368360"/>
              <a:ext cx="852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78400" y="185256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81440" y="1792440"/>
              <a:ext cx="86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508720" y="1395360"/>
            <a:ext cx="2719080" cy="431640"/>
            <a:chOff x="5508720" y="1395360"/>
            <a:chExt cx="2719080" cy="431640"/>
          </a:xfrm>
        </p:grpSpPr>
        <p:sp>
          <p:nvSpPr>
            <p:cNvPr id="249" name=""/>
            <p:cNvSpPr/>
            <p:nvPr/>
          </p:nvSpPr>
          <p:spPr>
            <a:xfrm>
              <a:off x="5508720" y="1395360"/>
              <a:ext cx="271908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45160" y="1466640"/>
              <a:ext cx="247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Punta mañana: 7:30-8: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136520" y="88920"/>
            <a:ext cx="698364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Partición Modal  (día laboral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0520" y="76320"/>
            <a:ext cx="82929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por propósito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502320" y="3608280"/>
            <a:ext cx="720360" cy="258840"/>
            <a:chOff x="6502320" y="3608280"/>
            <a:chExt cx="720360" cy="258840"/>
          </a:xfrm>
        </p:grpSpPr>
        <p:sp>
          <p:nvSpPr>
            <p:cNvPr id="255" name=""/>
            <p:cNvSpPr/>
            <p:nvPr/>
          </p:nvSpPr>
          <p:spPr>
            <a:xfrm>
              <a:off x="6502320" y="360828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02320" y="362088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7858080" y="4765680"/>
            <a:ext cx="1080720" cy="260280"/>
            <a:chOff x="7858080" y="4765680"/>
            <a:chExt cx="1080720" cy="260280"/>
          </a:xfrm>
        </p:grpSpPr>
        <p:sp>
          <p:nvSpPr>
            <p:cNvPr id="258" name=""/>
            <p:cNvSpPr/>
            <p:nvPr/>
          </p:nvSpPr>
          <p:spPr>
            <a:xfrm>
              <a:off x="7858080" y="476568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58080" y="477972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967360" y="5340240"/>
            <a:ext cx="1223280" cy="258840"/>
            <a:chOff x="5967360" y="5340240"/>
            <a:chExt cx="1223280" cy="258840"/>
          </a:xfrm>
        </p:grpSpPr>
        <p:sp>
          <p:nvSpPr>
            <p:cNvPr id="261" name=""/>
            <p:cNvSpPr/>
            <p:nvPr/>
          </p:nvSpPr>
          <p:spPr>
            <a:xfrm>
              <a:off x="5967360" y="534024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967360" y="535284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L 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60440" y="1311120"/>
            <a:ext cx="4765680" cy="32403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200560" y="2619360"/>
            <a:ext cx="3840120" cy="35989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6475320" y="5391000"/>
            <a:ext cx="720360" cy="258840"/>
            <a:chOff x="6475320" y="5391000"/>
            <a:chExt cx="720360" cy="258840"/>
          </a:xfrm>
        </p:grpSpPr>
        <p:sp>
          <p:nvSpPr>
            <p:cNvPr id="266" name=""/>
            <p:cNvSpPr/>
            <p:nvPr/>
          </p:nvSpPr>
          <p:spPr>
            <a:xfrm>
              <a:off x="6475320" y="5391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75320" y="5403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732640" y="3659040"/>
            <a:ext cx="1080720" cy="260280"/>
            <a:chOff x="5732640" y="3659040"/>
            <a:chExt cx="1080720" cy="260280"/>
          </a:xfrm>
        </p:grpSpPr>
        <p:sp>
          <p:nvSpPr>
            <p:cNvPr id="269" name=""/>
            <p:cNvSpPr/>
            <p:nvPr/>
          </p:nvSpPr>
          <p:spPr>
            <a:xfrm>
              <a:off x="5732640" y="36590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32640" y="36730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365960" y="3832200"/>
            <a:ext cx="1223280" cy="258840"/>
            <a:chOff x="7365960" y="3832200"/>
            <a:chExt cx="1223280" cy="258840"/>
          </a:xfrm>
        </p:grpSpPr>
        <p:sp>
          <p:nvSpPr>
            <p:cNvPr id="272" name=""/>
            <p:cNvSpPr/>
            <p:nvPr/>
          </p:nvSpPr>
          <p:spPr>
            <a:xfrm>
              <a:off x="7365960" y="383220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365960" y="384480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457200" y="1676520"/>
            <a:ext cx="8381880" cy="175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8920" y="4003560"/>
          <a:ext cx="9016920" cy="285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4003560"/>
                    <a:ext cx="9016920" cy="28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98280" y="1270080"/>
          <a:ext cx="8994960" cy="276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8280" y="1270080"/>
                    <a:ext cx="89949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563400" y="0"/>
            <a:ext cx="8580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Histograma de evolución de propósitos de viaje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845480" y="1343160"/>
            <a:ext cx="1187280" cy="884160"/>
            <a:chOff x="7845480" y="1343160"/>
            <a:chExt cx="1187280" cy="884160"/>
          </a:xfrm>
        </p:grpSpPr>
        <p:sp>
          <p:nvSpPr>
            <p:cNvPr id="281" name=""/>
            <p:cNvSpPr/>
            <p:nvPr/>
          </p:nvSpPr>
          <p:spPr>
            <a:xfrm>
              <a:off x="7845480" y="134316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153280" y="166860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65880" y="18972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78840" y="14605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988040" y="1716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988040" y="193212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88040" y="149544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996840" y="4454640"/>
            <a:ext cx="1366920" cy="468360"/>
            <a:chOff x="996840" y="4454640"/>
            <a:chExt cx="1366920" cy="468360"/>
          </a:xfrm>
        </p:grpSpPr>
        <p:sp>
          <p:nvSpPr>
            <p:cNvPr id="289" name=""/>
            <p:cNvSpPr/>
            <p:nvPr/>
          </p:nvSpPr>
          <p:spPr>
            <a:xfrm>
              <a:off x="996840" y="445464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08080" y="452592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01880" y="1677960"/>
            <a:ext cx="1380960" cy="431640"/>
            <a:chOff x="1001880" y="1677960"/>
            <a:chExt cx="1380960" cy="431640"/>
          </a:xfrm>
        </p:grpSpPr>
        <p:sp>
          <p:nvSpPr>
            <p:cNvPr id="292" name=""/>
            <p:cNvSpPr/>
            <p:nvPr/>
          </p:nvSpPr>
          <p:spPr>
            <a:xfrm>
              <a:off x="1001880" y="167796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077840" y="174924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EOD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3120" y="101160"/>
            <a:ext cx="826776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==&gt; necesidad de modelar para predecir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971960" y="1555920"/>
                <a:ext cx="24415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1003320" y="1866960"/>
            <a:ext cx="639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producto en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97000" y="3603600"/>
            <a:ext cx="674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Agrega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(describir, modelar, predec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emporal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eriod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po de persona o bien: 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seg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pacial:</a:t>
            </a: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zon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326280" y="5616720"/>
            <a:ext cx="2484360" cy="46008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44760" y="5607000"/>
            <a:ext cx="248472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5587920"/>
            <a:ext cx="2484360" cy="48600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41440" y="5724360"/>
            <a:ext cx="202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mayor a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3160" y="88920"/>
            <a:ext cx="650052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 por ingreso del hogar ( día laboral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14880" y="573732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0960" y="57085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menor a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600360" y="1479600"/>
            <a:ext cx="2008440" cy="884160"/>
            <a:chOff x="3600360" y="1479600"/>
            <a:chExt cx="2008440" cy="884160"/>
          </a:xfrm>
        </p:grpSpPr>
        <p:sp>
          <p:nvSpPr>
            <p:cNvPr id="302" name=""/>
            <p:cNvSpPr/>
            <p:nvPr/>
          </p:nvSpPr>
          <p:spPr>
            <a:xfrm>
              <a:off x="3600360" y="1479600"/>
              <a:ext cx="194004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08520" y="180468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21120" y="20332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08520" y="159696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43280" y="18525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43280" y="20682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43280" y="16318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68760" y="186516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8760" y="1644480"/>
              <a:ext cx="189000" cy="163080"/>
            </a:xfrm>
            <a:prstGeom prst="cube">
              <a:avLst>
                <a:gd name="adj" fmla="val 10495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46600" y="180468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59200" y="1596960"/>
              <a:ext cx="768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camin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011480" y="6207120"/>
            <a:ext cx="1249200" cy="396720"/>
            <a:chOff x="4011480" y="6207120"/>
            <a:chExt cx="1249200" cy="396720"/>
          </a:xfrm>
        </p:grpSpPr>
        <p:sp>
          <p:nvSpPr>
            <p:cNvPr id="314" name=""/>
            <p:cNvSpPr/>
            <p:nvPr/>
          </p:nvSpPr>
          <p:spPr>
            <a:xfrm>
              <a:off x="4011480" y="62071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5240" y="63226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2451240"/>
            <a:ext cx="3059280" cy="3000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084720" y="2519280"/>
            <a:ext cx="3059280" cy="297036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3"/>
          <a:stretch/>
        </p:blipFill>
        <p:spPr>
          <a:xfrm>
            <a:off x="3032280" y="2460600"/>
            <a:ext cx="305892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91960" y="1523880"/>
            <a:ext cx="7197840" cy="5037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20760" y="88920"/>
            <a:ext cx="65340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on de generación de viajes motorizados por hog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0" y="1287360"/>
          <a:ext cx="9144000" cy="25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87360"/>
                    <a:ext cx="9144000" cy="25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0" y="3811680"/>
          <a:ext cx="9144000" cy="30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11680"/>
                    <a:ext cx="9144000" cy="30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6" name=""/>
          <p:cNvGrpSpPr/>
          <p:nvPr/>
        </p:nvGrpSpPr>
        <p:grpSpPr>
          <a:xfrm>
            <a:off x="7858080" y="1406520"/>
            <a:ext cx="1187280" cy="884160"/>
            <a:chOff x="7858080" y="1406520"/>
            <a:chExt cx="1187280" cy="884160"/>
          </a:xfrm>
        </p:grpSpPr>
        <p:sp>
          <p:nvSpPr>
            <p:cNvPr id="327" name=""/>
            <p:cNvSpPr/>
            <p:nvPr/>
          </p:nvSpPr>
          <p:spPr>
            <a:xfrm>
              <a:off x="7858080" y="1406520"/>
              <a:ext cx="1157040" cy="884160"/>
            </a:xfrm>
            <a:prstGeom prst="cube">
              <a:avLst>
                <a:gd name="adj" fmla="val 440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165880" y="173196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STUD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178480" y="196056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191440" y="152388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000640" y="1779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000640" y="199548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00640" y="1558800"/>
              <a:ext cx="18900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996840" y="4302000"/>
            <a:ext cx="1366920" cy="468360"/>
            <a:chOff x="996840" y="4302000"/>
            <a:chExt cx="1366920" cy="468360"/>
          </a:xfrm>
        </p:grpSpPr>
        <p:sp>
          <p:nvSpPr>
            <p:cNvPr id="335" name=""/>
            <p:cNvSpPr/>
            <p:nvPr/>
          </p:nvSpPr>
          <p:spPr>
            <a:xfrm>
              <a:off x="996840" y="4302000"/>
              <a:ext cx="1366920" cy="46836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08080" y="4373280"/>
              <a:ext cx="122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001880" y="1728720"/>
            <a:ext cx="1380960" cy="431640"/>
            <a:chOff x="1001880" y="1728720"/>
            <a:chExt cx="1380960" cy="431640"/>
          </a:xfrm>
        </p:grpSpPr>
        <p:sp>
          <p:nvSpPr>
            <p:cNvPr id="338" name=""/>
            <p:cNvSpPr/>
            <p:nvPr/>
          </p:nvSpPr>
          <p:spPr>
            <a:xfrm>
              <a:off x="1001880" y="1728720"/>
              <a:ext cx="138096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77840" y="1800000"/>
              <a:ext cx="1266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ODS 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133640" y="88920"/>
            <a:ext cx="80103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Histograma  evolución propósito  viajes motorizados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41520" y="101520"/>
            <a:ext cx="822132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Evolución de la partición modal de viajes motorizados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344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347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4551480" y="1844640"/>
            <a:ext cx="4492440" cy="418464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63360" y="1855800"/>
            <a:ext cx="4486320" cy="4167000"/>
          </a:xfrm>
          <a:prstGeom prst="rect">
            <a:avLst/>
          </a:prstGeom>
          <a:ln w="0">
            <a:noFill/>
          </a:ln>
        </p:spPr>
      </p:pic>
      <p:grpSp>
        <p:nvGrpSpPr>
          <p:cNvPr id="352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353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365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0.147.24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368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5.996.1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5303880" y="2449440"/>
            <a:ext cx="3840120" cy="361944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177840" y="1336680"/>
            <a:ext cx="5029200" cy="3287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52680" y="76320"/>
            <a:ext cx="60642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Motorizados por propósito 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6578640" y="3481560"/>
            <a:ext cx="720360" cy="258840"/>
            <a:chOff x="6578640" y="3481560"/>
            <a:chExt cx="720360" cy="258840"/>
          </a:xfrm>
        </p:grpSpPr>
        <p:sp>
          <p:nvSpPr>
            <p:cNvPr id="375" name=""/>
            <p:cNvSpPr/>
            <p:nvPr/>
          </p:nvSpPr>
          <p:spPr>
            <a:xfrm>
              <a:off x="6578640" y="348156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78640" y="349416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7858080" y="4626000"/>
            <a:ext cx="1080720" cy="260280"/>
            <a:chOff x="7858080" y="4626000"/>
            <a:chExt cx="1080720" cy="260280"/>
          </a:xfrm>
        </p:grpSpPr>
        <p:sp>
          <p:nvSpPr>
            <p:cNvPr id="378" name=""/>
            <p:cNvSpPr/>
            <p:nvPr/>
          </p:nvSpPr>
          <p:spPr>
            <a:xfrm>
              <a:off x="7858080" y="462600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58080" y="464004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066000" y="5218200"/>
            <a:ext cx="1222920" cy="258840"/>
            <a:chOff x="6066000" y="5218200"/>
            <a:chExt cx="1222920" cy="258840"/>
          </a:xfrm>
        </p:grpSpPr>
        <p:sp>
          <p:nvSpPr>
            <p:cNvPr id="381" name=""/>
            <p:cNvSpPr/>
            <p:nvPr/>
          </p:nvSpPr>
          <p:spPr>
            <a:xfrm>
              <a:off x="6066000" y="5218200"/>
              <a:ext cx="122292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66000" y="5230800"/>
              <a:ext cx="1220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57320" y="1305000"/>
            <a:ext cx="5000400" cy="3292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148360" y="2370240"/>
            <a:ext cx="3995640" cy="3760560"/>
          </a:xfrm>
          <a:prstGeom prst="rect">
            <a:avLst/>
          </a:prstGeom>
          <a:ln w="0">
            <a:noFill/>
          </a:ln>
        </p:spPr>
      </p:pic>
      <p:grpSp>
        <p:nvGrpSpPr>
          <p:cNvPr id="386" name=""/>
          <p:cNvGrpSpPr/>
          <p:nvPr/>
        </p:nvGrpSpPr>
        <p:grpSpPr>
          <a:xfrm>
            <a:off x="5767560" y="3510000"/>
            <a:ext cx="720360" cy="258840"/>
            <a:chOff x="5767560" y="3510000"/>
            <a:chExt cx="720360" cy="258840"/>
          </a:xfrm>
        </p:grpSpPr>
        <p:sp>
          <p:nvSpPr>
            <p:cNvPr id="387" name=""/>
            <p:cNvSpPr/>
            <p:nvPr/>
          </p:nvSpPr>
          <p:spPr>
            <a:xfrm>
              <a:off x="5767560" y="3510000"/>
              <a:ext cx="72036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767560" y="3522600"/>
              <a:ext cx="718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515360" y="3513240"/>
            <a:ext cx="1080720" cy="260280"/>
            <a:chOff x="7515360" y="3513240"/>
            <a:chExt cx="1080720" cy="260280"/>
          </a:xfrm>
        </p:grpSpPr>
        <p:sp>
          <p:nvSpPr>
            <p:cNvPr id="390" name=""/>
            <p:cNvSpPr/>
            <p:nvPr/>
          </p:nvSpPr>
          <p:spPr>
            <a:xfrm>
              <a:off x="7515360" y="3513240"/>
              <a:ext cx="1080720" cy="243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515360" y="3527280"/>
              <a:ext cx="1077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ESTU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307200" y="5173560"/>
            <a:ext cx="1223280" cy="258840"/>
            <a:chOff x="6307200" y="5173560"/>
            <a:chExt cx="1223280" cy="258840"/>
          </a:xfrm>
        </p:grpSpPr>
        <p:sp>
          <p:nvSpPr>
            <p:cNvPr id="393" name=""/>
            <p:cNvSpPr/>
            <p:nvPr/>
          </p:nvSpPr>
          <p:spPr>
            <a:xfrm>
              <a:off x="6307200" y="5173560"/>
              <a:ext cx="1223280" cy="216000"/>
            </a:xfrm>
            <a:prstGeom prst="cube">
              <a:avLst>
                <a:gd name="adj" fmla="val 1160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07200" y="5186160"/>
              <a:ext cx="1220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Comic Sans MS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671400" y="76320"/>
            <a:ext cx="847260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Viajes motorizados por propósito, punta mañana 7:30-8:30 (día labo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65240" y="1893960"/>
            <a:ext cx="4317840" cy="39956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4643280" y="1928880"/>
            <a:ext cx="4318200" cy="39830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400040" y="101520"/>
            <a:ext cx="68979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de viajes motorizados en día laboral punta mañana (7:30-8:30) ¿el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372360" y="1370160"/>
            <a:ext cx="793080" cy="431640"/>
            <a:chOff x="6372360" y="1370160"/>
            <a:chExt cx="793080" cy="431640"/>
          </a:xfrm>
        </p:grpSpPr>
        <p:sp>
          <p:nvSpPr>
            <p:cNvPr id="401" name=""/>
            <p:cNvSpPr/>
            <p:nvPr/>
          </p:nvSpPr>
          <p:spPr>
            <a:xfrm>
              <a:off x="6372360" y="1370160"/>
              <a:ext cx="792000" cy="4316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45080" y="1441440"/>
              <a:ext cx="7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836720" y="1370160"/>
            <a:ext cx="934920" cy="431640"/>
            <a:chOff x="1836720" y="1370160"/>
            <a:chExt cx="934920" cy="431640"/>
          </a:xfrm>
        </p:grpSpPr>
        <p:sp>
          <p:nvSpPr>
            <p:cNvPr id="404" name=""/>
            <p:cNvSpPr/>
            <p:nvPr/>
          </p:nvSpPr>
          <p:spPr>
            <a:xfrm>
              <a:off x="1836720" y="1370160"/>
              <a:ext cx="863640" cy="43164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79640" y="144144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Comic Sans MS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4140360" y="1557360"/>
            <a:ext cx="936360" cy="287280"/>
          </a:xfrm>
          <a:prstGeom prst="rightArrow">
            <a:avLst>
              <a:gd name="adj1" fmla="val 50000"/>
              <a:gd name="adj2" fmla="val 81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575160" y="5848200"/>
            <a:ext cx="2008080" cy="884520"/>
            <a:chOff x="3575160" y="5848200"/>
            <a:chExt cx="2008080" cy="884520"/>
          </a:xfrm>
        </p:grpSpPr>
        <p:sp>
          <p:nvSpPr>
            <p:cNvPr id="408" name=""/>
            <p:cNvSpPr/>
            <p:nvPr/>
          </p:nvSpPr>
          <p:spPr>
            <a:xfrm>
              <a:off x="3575160" y="5848200"/>
              <a:ext cx="1939680" cy="88452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882960" y="6173640"/>
              <a:ext cx="86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95560" y="640224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2960" y="5965920"/>
              <a:ext cx="59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718080" y="62215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8080" y="6437160"/>
              <a:ext cx="188640" cy="16380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718080" y="60008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43560" y="623412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43560" y="601344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21400" y="61736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08440" y="5965920"/>
              <a:ext cx="768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5838840" y="6097680"/>
            <a:ext cx="1798560" cy="576000"/>
            <a:chOff x="5838840" y="6097680"/>
            <a:chExt cx="1798560" cy="576000"/>
          </a:xfrm>
        </p:grpSpPr>
        <p:sp>
          <p:nvSpPr>
            <p:cNvPr id="420" name=""/>
            <p:cNvSpPr/>
            <p:nvPr/>
          </p:nvSpPr>
          <p:spPr>
            <a:xfrm>
              <a:off x="5838840" y="6097680"/>
              <a:ext cx="1798560" cy="5760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10120" y="6168960"/>
              <a:ext cx="167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1.366.77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403280" y="6097680"/>
            <a:ext cx="1800360" cy="576000"/>
            <a:chOff x="1403280" y="6097680"/>
            <a:chExt cx="1800360" cy="576000"/>
          </a:xfrm>
        </p:grpSpPr>
        <p:sp>
          <p:nvSpPr>
            <p:cNvPr id="423" name=""/>
            <p:cNvSpPr/>
            <p:nvPr/>
          </p:nvSpPr>
          <p:spPr>
            <a:xfrm>
              <a:off x="1403280" y="6097680"/>
              <a:ext cx="1800360" cy="576000"/>
            </a:xfrm>
            <a:prstGeom prst="roundRect">
              <a:avLst>
                <a:gd name="adj" fmla="val 16667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49440" y="620532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Comic Sans MS"/>
                </a:rPr>
                <a:t>931.72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6326280" y="560376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10000" y="5594400"/>
            <a:ext cx="2484360" cy="4604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920" y="5575320"/>
            <a:ext cx="2484360" cy="485640"/>
          </a:xfrm>
          <a:prstGeom prst="cube">
            <a:avLst>
              <a:gd name="adj" fmla="val 440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30360" y="5699160"/>
            <a:ext cx="202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mic Sans MS"/>
              </a:rPr>
              <a:t>[ &gt; 1.599.999 $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71720" y="88920"/>
            <a:ext cx="748008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ff"/>
                </a:solidFill>
                <a:latin typeface="Times New Roman"/>
              </a:rPr>
              <a:t>Partición Modal viajes motorizados (día laboral) por estrato de ingr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79760" y="5711760"/>
            <a:ext cx="25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450.000 - 1.599.999 $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0960" y="5683320"/>
            <a:ext cx="212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Comic Sans MS"/>
              </a:rPr>
              <a:t>[ &lt; 450.000 $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637080" y="1449360"/>
            <a:ext cx="2007720" cy="884160"/>
            <a:chOff x="3637080" y="1449360"/>
            <a:chExt cx="2007720" cy="884160"/>
          </a:xfrm>
        </p:grpSpPr>
        <p:sp>
          <p:nvSpPr>
            <p:cNvPr id="433" name=""/>
            <p:cNvSpPr/>
            <p:nvPr/>
          </p:nvSpPr>
          <p:spPr>
            <a:xfrm>
              <a:off x="3637080" y="1449360"/>
              <a:ext cx="1939680" cy="884160"/>
            </a:xfrm>
            <a:prstGeom prst="cube">
              <a:avLst>
                <a:gd name="adj" fmla="val 440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44880" y="1774440"/>
              <a:ext cx="861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57480" y="2003040"/>
              <a:ext cx="86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me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44880" y="1566720"/>
              <a:ext cx="59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au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79640" y="18223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779640" y="2037960"/>
              <a:ext cx="188640" cy="163440"/>
            </a:xfrm>
            <a:prstGeom prst="cube">
              <a:avLst>
                <a:gd name="adj" fmla="val 1049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79640" y="16016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05120" y="183492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05120" y="1614240"/>
              <a:ext cx="188640" cy="163080"/>
            </a:xfrm>
            <a:prstGeom prst="cube">
              <a:avLst>
                <a:gd name="adj" fmla="val 10495"/>
              </a:avLst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82960" y="1774440"/>
              <a:ext cx="86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95560" y="1566720"/>
              <a:ext cx="768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taxi-tx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113360" y="6194520"/>
            <a:ext cx="1249200" cy="396720"/>
            <a:chOff x="4113360" y="6194520"/>
            <a:chExt cx="1249200" cy="396720"/>
          </a:xfrm>
        </p:grpSpPr>
        <p:sp>
          <p:nvSpPr>
            <p:cNvPr id="445" name=""/>
            <p:cNvSpPr/>
            <p:nvPr/>
          </p:nvSpPr>
          <p:spPr>
            <a:xfrm>
              <a:off x="4113360" y="6194520"/>
              <a:ext cx="1249200" cy="396720"/>
            </a:xfrm>
            <a:prstGeom prst="cube">
              <a:avLst>
                <a:gd name="adj" fmla="val 14703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37120" y="6310080"/>
              <a:ext cx="11318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Comic Sans MS"/>
                </a:rPr>
                <a:t>$ Agosto 200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3033720" y="2506680"/>
            <a:ext cx="3048120" cy="278928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6093000" y="2541600"/>
            <a:ext cx="3051000" cy="281304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3"/>
          <a:stretch/>
        </p:blipFill>
        <p:spPr>
          <a:xfrm>
            <a:off x="0" y="2508120"/>
            <a:ext cx="3048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Flujos de Transporte 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4960" y="266760"/>
            <a:ext cx="88790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ff"/>
                </a:solidFill>
                <a:latin typeface="Times New Roman"/>
              </a:rPr>
              <a:t>Auto: Arcos urbanos más Congestionad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631880" y="1238400"/>
          <a:ext cx="6116760" cy="55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1238400"/>
                    <a:ext cx="6116760" cy="55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0560" y="10116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Times New Roman"/>
              </a:rPr>
              <a:t>Mirando desde la perspectiva del usuari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cis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viajar o 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Gen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sde donde y hacia d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n qué mod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Partición mod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r qué ru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625040" indent="-18036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Times New Roman"/>
              </a:rPr>
              <a:t>Asignación a la 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Son separables esas decis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1212840" y="1523880"/>
            <a:ext cx="6718320" cy="469260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: arcos con flujo &gt; 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84788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081080" y="1676520"/>
            <a:ext cx="6981840" cy="46418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552680" y="42876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0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82880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8604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871640" y="14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950160" cy="455760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552680" y="76320"/>
            <a:ext cx="7070760" cy="10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Transporte Público : arcos con flujo &gt; 15 000 pax/h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do el 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5,1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mañ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44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6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nta ta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50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9,0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era de pu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úblico : 37,7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orte Privado : 23,3 m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Tiempos de viaje prome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Planes e Inversión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D%20CONCESIONES%20Urbanas" descr=""/>
          <p:cNvPicPr/>
          <p:nvPr/>
        </p:nvPicPr>
        <p:blipFill>
          <a:blip r:embed="rId1"/>
          <a:stretch/>
        </p:blipFill>
        <p:spPr>
          <a:xfrm>
            <a:off x="3809880" y="1290600"/>
            <a:ext cx="5181840" cy="4724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Autopistas Urba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447920"/>
            <a:ext cx="38102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150 km 2001-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US$ 2 000 mill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Red de Metr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1447920"/>
            <a:ext cx="288936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Hoy: 38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2006: 80 k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versión: MMUS$ 1.7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727440" y="1312920"/>
            <a:ext cx="4479840" cy="5362560"/>
            <a:chOff x="3727440" y="1312920"/>
            <a:chExt cx="4479840" cy="5362560"/>
          </a:xfrm>
        </p:grpSpPr>
        <p:pic>
          <p:nvPicPr>
            <p:cNvPr id="482" name="foto_redmetro_zoom" descr=""/>
            <p:cNvPicPr/>
            <p:nvPr/>
          </p:nvPicPr>
          <p:blipFill>
            <a:blip r:embed="rId1"/>
            <a:stretch/>
          </p:blipFill>
          <p:spPr>
            <a:xfrm>
              <a:off x="3727440" y="1338120"/>
              <a:ext cx="4479840" cy="533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" name=""/>
            <p:cNvSpPr/>
            <p:nvPr/>
          </p:nvSpPr>
          <p:spPr>
            <a:xfrm>
              <a:off x="7264440" y="3214800"/>
              <a:ext cx="566640" cy="31147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762440" y="2755800"/>
              <a:ext cx="746280" cy="3715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30960" y="5089680"/>
              <a:ext cx="336600" cy="66168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3600000">
              <a:off x="6181560" y="4398840"/>
              <a:ext cx="739800" cy="185112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754600" y="1312920"/>
              <a:ext cx="336600" cy="1262160"/>
            </a:xfrm>
            <a:prstGeom prst="ellipse">
              <a:avLst/>
            </a:pr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320" y="247320"/>
            <a:ext cx="867564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Transporte en Santiago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. Descripción Socio-económ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2. Sistema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 Demanda de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4. Flujos de 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Ch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447920"/>
            <a:ext cx="7773840" cy="52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15.1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Ingreso per capita: US$ 4 260 (World Ba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istribución del ingreso:  </a:t>
            </a:r>
            <a:r>
              <a:rPr b="0" lang="es-ES_tradnl" sz="2800" spc="-1" strike="noStrike">
                <a:solidFill>
                  <a:srgbClr val="4d4d4d"/>
                </a:solidFill>
                <a:latin typeface="Arial"/>
              </a:rPr>
              <a:t>V/I = 15,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32040" y="3889440"/>
          <a:ext cx="5933880" cy="213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2040" y="3889440"/>
                    <a:ext cx="5933880" cy="21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ff"/>
                </a:solidFill>
                <a:latin typeface="Times New Roman"/>
              </a:rPr>
              <a:t>Descripción Socio- Económica Espacial de Santiago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HOGTCO97" descr=""/>
          <p:cNvPicPr/>
          <p:nvPr/>
        </p:nvPicPr>
        <p:blipFill>
          <a:blip r:embed="rId1"/>
          <a:stretch/>
        </p:blipFill>
        <p:spPr>
          <a:xfrm>
            <a:off x="3560760" y="1590840"/>
            <a:ext cx="5583240" cy="44053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809720" y="266760"/>
            <a:ext cx="5410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0280" y="1287360"/>
            <a:ext cx="4076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Población: 5.5 m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Area: 425 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Densidad: 13 000 h/km</a:t>
            </a:r>
            <a:r>
              <a:rPr b="0" lang="es-MX" sz="2800" spc="-1" strike="noStrike" baseline="30000">
                <a:solidFill>
                  <a:srgbClr val="4d4d4d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34 Municipal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925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4d4d4d"/>
                </a:solidFill>
                <a:latin typeface="Arial"/>
              </a:rPr>
              <a:t>47% del GDP chile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6000" y="1665360"/>
            <a:ext cx="6443640" cy="4694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763120" y="624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30520" y="63360"/>
            <a:ext cx="602136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ff"/>
                </a:solidFill>
                <a:latin typeface="Times New Roman"/>
              </a:rPr>
              <a:t>Número de hog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2T19:24:41Z</dcterms:created>
  <dc:creator>cvaleze</dc:creator>
  <dc:description/>
  <dc:language>en-US</dc:language>
  <cp:lastModifiedBy>Marcela Munizaga</cp:lastModifiedBy>
  <cp:lastPrinted>2004-05-14T03:25:37Z</cp:lastPrinted>
  <dcterms:modified xsi:type="dcterms:W3CDTF">2004-08-10T03:35:08Z</dcterms:modified>
  <cp:revision>399</cp:revision>
  <dc:subject/>
  <dc:title>ENCUESTA ORIGEN DESTINO DEL GRAN SANTIAG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15213776</vt:r8>
  </property>
  <property fmtid="{D5CDD505-2E9C-101B-9397-08002B2CF9AE}" pid="3" name="_AuthorEmail">
    <vt:lpwstr>egodoy@sectra.cl</vt:lpwstr>
  </property>
  <property fmtid="{D5CDD505-2E9C-101B-9397-08002B2CF9AE}" pid="4" name="_AuthorEmailDisplayName">
    <vt:lpwstr>Esteban Godoy</vt:lpwstr>
  </property>
  <property fmtid="{D5CDD505-2E9C-101B-9397-08002B2CF9AE}" pid="5" name="_EmailSubject">
    <vt:lpwstr>Presentación conferencia EOD 2001 v5</vt:lpwstr>
  </property>
</Properties>
</file>