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29.jpeg" ContentType="image/jpeg"/>
  <Override PartName="/ppt/media/image28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.wmf" ContentType="image/x-wmf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7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9520" y="698040"/>
            <a:ext cx="465480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6880" y="4420800"/>
            <a:ext cx="54975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E068-0C20-43A7-BA25-640FE22C6B5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C571-D68A-497A-83D1-EC4A724ED09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13C-23A4-4E4A-9850-DF675C7605F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E78D-56B2-4663-AEB9-E0AD1596EA0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3A35-465C-434D-9C9E-87F4DA70D2C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F36F-F1A7-4321-ABDC-6C1FD351130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24C9-34C5-42F1-AEA5-E8694AAEBDF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ED9C-06FF-4468-8DE2-C5452C7E96A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47CF-DB8F-46E8-8822-605BDB3BCA0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A16D-C99C-437C-A079-F9817AF3495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DE96-31FD-4675-A68B-25BC96E8C2A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FAC1-986D-4EB2-82B6-C7D0E8F931C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AF10-88A9-4F28-9A3A-A251AF7F0E9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C895-3A5E-41F8-A36F-21FCC326BED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3BFA-0572-417E-845A-009FC4ABF98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1D29-9C60-485C-AFA1-410A02BC3EE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030A-410C-422C-AF6E-76C70864626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CFF3-A1A2-454E-A69A-DBCA42848C2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6826-AD34-4827-8E77-3460E6ED782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E44-4245-402B-B0A7-F7E1987B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9B3-5E12-43EE-8462-C3957803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F3E-C56F-4181-8F82-53AEC4A0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1B6-4F7B-475D-822D-09FBBF81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DF6-7561-4022-B6A4-A8097193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3A6-71F6-4C38-B249-12068018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2E1-4818-49EB-B21F-619D160B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0F3-3B67-4AB8-ADFB-CBA56E5C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066-EFE2-4642-9A0F-48EC3097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972-B286-4465-8F7D-3AA9A7E2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9F2-C3B0-4863-81B7-B70FE42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F0D-CC13-4277-8474-309AC3DB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1F0-C50F-4309-9BC6-97CC0DF1F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08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I43A Análisis de Sistemas de Transporte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9 agosto 2004</a:t>
            </a:r>
            <a:r>
              <a:rPr b="1" lang="en-GB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3680" y="4200480"/>
            <a:ext cx="8264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6680" y="1593720"/>
            <a:ext cx="6742080" cy="485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Número de a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7018200" cy="493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ut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48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endCxn id="113" idx="1"/>
          </p:cNvCxnSpPr>
          <p:nvPr/>
        </p:nvCxnSpPr>
        <p:spPr>
          <a:xfrm>
            <a:off x="1569960" y="2395440"/>
            <a:ext cx="2007360" cy="7200"/>
          </a:xfrm>
          <a:prstGeom prst="straightConnector1">
            <a:avLst/>
          </a:prstGeom>
          <a:ln w="0">
            <a:noFill/>
          </a:ln>
        </p:spPr>
      </p:cxnSp>
      <p:sp>
        <p:nvSpPr>
          <p:cNvPr id="120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5600" y="1243080"/>
            <a:ext cx="5251320" cy="5602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1840" y="220824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2040" y="5721480"/>
            <a:ext cx="8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516096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59040" y="430524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9960" y="317016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782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23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31" name=""/>
          <p:cNvCxnSpPr>
            <a:stCxn id="129" idx="3"/>
            <a:endCxn id="123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981840" y="16686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0960" y="37242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0240" y="52182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3" idx="3"/>
            <a:endCxn id="126" idx="1"/>
          </p:cNvCxnSpPr>
          <p:nvPr/>
        </p:nvCxnSpPr>
        <p:spPr>
          <a:xfrm>
            <a:off x="2046240" y="4422240"/>
            <a:ext cx="71352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3"/>
            <a:endCxn id="124" idx="1"/>
          </p:cNvCxnSpPr>
          <p:nvPr/>
        </p:nvCxnSpPr>
        <p:spPr>
          <a:xfrm flipV="1">
            <a:off x="1919160" y="5864040"/>
            <a:ext cx="171360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1"/>
            <a:endCxn id="125" idx="2"/>
          </p:cNvCxnSpPr>
          <p:nvPr/>
        </p:nvCxnSpPr>
        <p:spPr>
          <a:xfrm flipH="1" flipV="1">
            <a:off x="5939640" y="5444640"/>
            <a:ext cx="8406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5" idx="1"/>
            <a:endCxn id="128" idx="3"/>
          </p:cNvCxnSpPr>
          <p:nvPr/>
        </p:nvCxnSpPr>
        <p:spPr>
          <a:xfrm flipH="1">
            <a:off x="4743000" y="4053960"/>
            <a:ext cx="196920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2" idx="1"/>
            <a:endCxn id="127" idx="0"/>
          </p:cNvCxnSpPr>
          <p:nvPr/>
        </p:nvCxnSpPr>
        <p:spPr>
          <a:xfrm flipH="1">
            <a:off x="5547960" y="236664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UPHG97C" descr=""/>
          <p:cNvPicPr/>
          <p:nvPr/>
        </p:nvPicPr>
        <p:blipFill>
          <a:blip r:embed="rId1"/>
          <a:stretch/>
        </p:blipFill>
        <p:spPr>
          <a:xfrm>
            <a:off x="1057320" y="1476360"/>
            <a:ext cx="7027920" cy="508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Residen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HOGICO97" descr=""/>
          <p:cNvPicPr/>
          <p:nvPr/>
        </p:nvPicPr>
        <p:blipFill>
          <a:blip r:embed="rId1"/>
          <a:stretch/>
        </p:blipFill>
        <p:spPr>
          <a:xfrm>
            <a:off x="1460520" y="1252440"/>
            <a:ext cx="6607080" cy="5241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54120" y="212760"/>
            <a:ext cx="68389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Distribución Espacia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15238" t="13622" r="4755" b="6571"/>
          <a:stretch/>
        </p:blipFill>
        <p:spPr>
          <a:xfrm>
            <a:off x="1092240" y="1324080"/>
            <a:ext cx="7558200" cy="53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Internet en los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34240" y="5529240"/>
            <a:ext cx="1814400" cy="1361520"/>
            <a:chOff x="6834240" y="5529240"/>
            <a:chExt cx="1814400" cy="1361520"/>
          </a:xfrm>
        </p:grpSpPr>
        <p:sp>
          <p:nvSpPr>
            <p:cNvPr id="154" name=""/>
            <p:cNvSpPr/>
            <p:nvPr/>
          </p:nvSpPr>
          <p:spPr>
            <a:xfrm>
              <a:off x="6834240" y="5529240"/>
              <a:ext cx="1814400" cy="1199880"/>
            </a:xfrm>
            <a:prstGeom prst="cube">
              <a:avLst>
                <a:gd name="adj" fmla="val 440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1800" y="6027480"/>
              <a:ext cx="86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51560" y="6370560"/>
              <a:ext cx="12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Banda anch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1800" y="56671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50160" y="599904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50160" y="636732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50160" y="563868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SUPCM97C" descr=""/>
          <p:cNvPicPr/>
          <p:nvPr/>
        </p:nvPicPr>
        <p:blipFill>
          <a:blip r:embed="rId1"/>
          <a:stretch/>
        </p:blipFill>
        <p:spPr>
          <a:xfrm>
            <a:off x="1117440" y="1468440"/>
            <a:ext cx="6856560" cy="4971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838160" y="88920"/>
            <a:ext cx="6847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Comercial (minori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23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ATRI97C" descr=""/>
          <p:cNvPicPr/>
          <p:nvPr/>
        </p:nvPicPr>
        <p:blipFill>
          <a:blip r:embed="rId1"/>
          <a:stretch/>
        </p:blipFill>
        <p:spPr>
          <a:xfrm>
            <a:off x="1206360" y="1576440"/>
            <a:ext cx="6855120" cy="4983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UPIN97C" descr=""/>
          <p:cNvPicPr/>
          <p:nvPr/>
        </p:nvPicPr>
        <p:blipFill>
          <a:blip r:embed="rId1"/>
          <a:stretch/>
        </p:blipFill>
        <p:spPr>
          <a:xfrm>
            <a:off x="1482840" y="1476360"/>
            <a:ext cx="6891120" cy="4983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7240" y="101160"/>
            <a:ext cx="8359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¿Qué pasa si no se interviene el sistema?: Círculo vicioso del transporte públ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4040" y="131292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0858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32400" y="126216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274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5680" y="20559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6480" y="2944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400" y="363996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1800" y="455436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532440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04480" y="294480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29320" y="36781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39320" y="452916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1840" y="61261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1040" y="18669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1040" y="2496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1040" y="333360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1040" y="43768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1040" y="496872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25480" y="57657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45320" y="1827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57920" y="24717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6360" y="234324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37480" y="234324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762680" y="38606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91240" y="41702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73560" y="638316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766000" y="402696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722720" y="40543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35440" y="480060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09880" y="400212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32440" y="3873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106880" y="3218040"/>
            <a:ext cx="147960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87640" y="241920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23960" y="2401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8480" y="2207880"/>
            <a:ext cx="778824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ff"/>
                </a:solidFill>
                <a:latin typeface="Times New Roman"/>
              </a:rPr>
              <a:t>El Sistema de Transporte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09720" y="26676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incipales Arcos  Urb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27240" y="1371600"/>
            <a:ext cx="52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B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20760"/>
            <a:ext cx="47052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380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Amplia cobertura espacial y alta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0,1 trasbordos/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.000 buses propiedad priv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4.000 “compañí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Oferta no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Mantención d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Competencia “en la calle”  por los pasajeros: in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2 km vías exclusivas en punta 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Buses%20Licitados%201999%20copia" descr=""/>
          <p:cNvPicPr/>
          <p:nvPr/>
        </p:nvPicPr>
        <p:blipFill>
          <a:blip r:embed="rId1"/>
          <a:srcRect l="0" t="0" r="4517" b="0"/>
          <a:stretch/>
        </p:blipFill>
        <p:spPr>
          <a:xfrm>
            <a:off x="4543560" y="1398600"/>
            <a:ext cx="4600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59120" y="1243080"/>
            <a:ext cx="5251680" cy="5602320"/>
            <a:chOff x="3759120" y="1243080"/>
            <a:chExt cx="5251680" cy="56023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3759120" y="1243080"/>
              <a:ext cx="5251680" cy="56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5511960" y="3543480"/>
              <a:ext cx="1752480" cy="660240"/>
              <a:chOff x="5511960" y="3543480"/>
              <a:chExt cx="1752480" cy="660240"/>
            </a:xfrm>
          </p:grpSpPr>
          <p:sp>
            <p:nvSpPr>
              <p:cNvPr id="188" name=""/>
              <p:cNvSpPr/>
              <p:nvPr/>
            </p:nvSpPr>
            <p:spPr>
              <a:xfrm flipH="1">
                <a:off x="7023240" y="3543480"/>
                <a:ext cx="241200" cy="3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6527880" y="3587760"/>
                <a:ext cx="488880" cy="342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657400" y="3924360"/>
                <a:ext cx="876600" cy="2793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5530680" y="4165560"/>
                <a:ext cx="120600" cy="38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5511960" y="4019400"/>
                <a:ext cx="25200" cy="14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318360" y="3784320"/>
              <a:ext cx="215640" cy="1416240"/>
              <a:chOff x="6318360" y="3784320"/>
              <a:chExt cx="215640" cy="1416240"/>
            </a:xfrm>
          </p:grpSpPr>
          <p:sp>
            <p:nvSpPr>
              <p:cNvPr id="194" name=""/>
              <p:cNvSpPr/>
              <p:nvPr/>
            </p:nvSpPr>
            <p:spPr>
              <a:xfrm flipH="1" flipV="1">
                <a:off x="6514920" y="4267080"/>
                <a:ext cx="19080" cy="139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343560" y="4400640"/>
                <a:ext cx="184320" cy="79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438960" y="4222800"/>
                <a:ext cx="76320" cy="381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388200" y="4152960"/>
                <a:ext cx="3816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6324120" y="3867120"/>
                <a:ext cx="57240" cy="285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6318360" y="3790800"/>
                <a:ext cx="3168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356520" y="3784320"/>
                <a:ext cx="75960" cy="6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337080" y="3854520"/>
              <a:ext cx="838440" cy="1162080"/>
              <a:chOff x="6337080" y="3854520"/>
              <a:chExt cx="838440" cy="1162080"/>
            </a:xfrm>
          </p:grpSpPr>
          <p:sp>
            <p:nvSpPr>
              <p:cNvPr id="202" name=""/>
              <p:cNvSpPr/>
              <p:nvPr/>
            </p:nvSpPr>
            <p:spPr>
              <a:xfrm flipH="1" flipV="1">
                <a:off x="6972480" y="4800600"/>
                <a:ext cx="203040" cy="2160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6622920" y="3860280"/>
                <a:ext cx="355680" cy="933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337080" y="3854520"/>
                <a:ext cx="285480" cy="19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067360" y="354348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3300"/>
                  </a:solidFill>
                  <a:latin typeface="Times New Roman"/>
                </a:rPr>
                <a:t>L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12160" y="477504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ff00"/>
                  </a:solidFill>
                  <a:latin typeface="Times New Roman"/>
                </a:rPr>
                <a:t>L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67280" y="515628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66"/>
                  </a:solidFill>
                  <a:latin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06360" y="1486080"/>
            <a:ext cx="41562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Longitud total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Compañía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Pre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1447920"/>
            <a:ext cx="80136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úblico : Tarifa no integr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us: $3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Metro: desde $290 hasta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axi-Colectivo: ~600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encina: 500 $/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Estacionamiento en el centro: ~1800 $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Times New Roman"/>
              </a:rPr>
              <a:t>Demanda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149960" y="4911840"/>
            <a:ext cx="1562400" cy="86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54400" y="1828800"/>
            <a:ext cx="3195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16.481.0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25480" y="88920"/>
            <a:ext cx="6821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Totales  (día laboral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5240" y="1914480"/>
            <a:ext cx="28652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41680" y="3560760"/>
            <a:ext cx="271944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10.147.24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25560" y="3646440"/>
            <a:ext cx="353520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motoriz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76600" y="5049720"/>
            <a:ext cx="268308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6.333.79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240" y="5138640"/>
            <a:ext cx="38307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no motoriza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284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0220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75480" y="4292640"/>
            <a:ext cx="1080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500440" y="4587840"/>
            <a:ext cx="587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402160" y="6346800"/>
            <a:ext cx="2719440" cy="432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13400" y="63547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1.880.887 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93600" y="6329520"/>
            <a:ext cx="2543040" cy="431640"/>
            <a:chOff x="993600" y="6329520"/>
            <a:chExt cx="2543040" cy="431640"/>
          </a:xfrm>
        </p:grpSpPr>
        <p:sp>
          <p:nvSpPr>
            <p:cNvPr id="227" name=""/>
            <p:cNvSpPr/>
            <p:nvPr/>
          </p:nvSpPr>
          <p:spPr>
            <a:xfrm>
              <a:off x="993600" y="632952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64880" y="6375600"/>
              <a:ext cx="24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16.481.043 viaj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26000" y="1849320"/>
            <a:ext cx="4479840" cy="4410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2840" y="1812960"/>
            <a:ext cx="4489560" cy="438624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960480" y="1395360"/>
            <a:ext cx="2543040" cy="431640"/>
            <a:chOff x="960480" y="1395360"/>
            <a:chExt cx="2543040" cy="431640"/>
          </a:xfrm>
        </p:grpSpPr>
        <p:sp>
          <p:nvSpPr>
            <p:cNvPr id="232" name=""/>
            <p:cNvSpPr/>
            <p:nvPr/>
          </p:nvSpPr>
          <p:spPr>
            <a:xfrm>
              <a:off x="960480" y="139536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31760" y="1466640"/>
              <a:ext cx="24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86320" y="1251000"/>
            <a:ext cx="1957320" cy="884160"/>
            <a:chOff x="3586320" y="1251000"/>
            <a:chExt cx="1957320" cy="884160"/>
          </a:xfrm>
        </p:grpSpPr>
        <p:sp>
          <p:nvSpPr>
            <p:cNvPr id="235" name=""/>
            <p:cNvSpPr/>
            <p:nvPr/>
          </p:nvSpPr>
          <p:spPr>
            <a:xfrm>
              <a:off x="3586320" y="125100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94120" y="1576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06720" y="1805040"/>
              <a:ext cx="8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94120" y="1368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28880" y="1623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28880" y="1839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14032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78400" y="163656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78400" y="141588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8840" y="157644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taxi-t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6240" y="1368360"/>
              <a:ext cx="8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78400" y="18525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81440" y="1792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508720" y="1395360"/>
            <a:ext cx="2719080" cy="431640"/>
            <a:chOff x="5508720" y="1395360"/>
            <a:chExt cx="2719080" cy="431640"/>
          </a:xfrm>
        </p:grpSpPr>
        <p:sp>
          <p:nvSpPr>
            <p:cNvPr id="249" name=""/>
            <p:cNvSpPr/>
            <p:nvPr/>
          </p:nvSpPr>
          <p:spPr>
            <a:xfrm>
              <a:off x="5508720" y="1395360"/>
              <a:ext cx="271908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45160" y="1466640"/>
              <a:ext cx="24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unta mañana: 7:30-8: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136520" y="88920"/>
            <a:ext cx="6983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Partición Modal  (día laboral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255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258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261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266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269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272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281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289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292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3120" y="101160"/>
            <a:ext cx="82677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==&gt; necesidad de modelar para predeci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971960" y="1555920"/>
                <a:ext cx="24415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003320" y="1866960"/>
            <a:ext cx="63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ducto en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7000" y="3603600"/>
            <a:ext cx="674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describir, modelar, predec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oral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eriod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rsona o bien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al: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zo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302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314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327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335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338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44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47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353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365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368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375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378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381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387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390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393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 ¿el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401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404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408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420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423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433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445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0560" y="1011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irando desde la perspectiva del usuari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sde donde y hacia d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qué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r qué 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on separables esas decis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D%20CONCESIONES%20Urbanas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482" name="foto_redmetro_zoom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320" y="247320"/>
            <a:ext cx="8675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Transporte en Santiag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. Descripción Socio-econó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Sistema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 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4. Flujos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447920"/>
            <a:ext cx="7773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15.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greso per capita: US$ 4 260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istribución del ingreso: 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V/I = 15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32040" y="3889440"/>
          <a:ext cx="5933880" cy="21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3889440"/>
                    <a:ext cx="59338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Descripción Socio- Económica Espacial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HOGTCO97" descr=""/>
          <p:cNvPicPr/>
          <p:nvPr/>
        </p:nvPicPr>
        <p:blipFill>
          <a:blip r:embed="rId1"/>
          <a:stretch/>
        </p:blipFill>
        <p:spPr>
          <a:xfrm>
            <a:off x="3560760" y="1590840"/>
            <a:ext cx="5583240" cy="4405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280" y="1287360"/>
            <a:ext cx="4076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5.5 m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rea: 425 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ensidad: 13 000 h/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4 Municip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47% del GDP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6000" y="1665360"/>
            <a:ext cx="6443640" cy="4694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Número de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Marcela Munizaga</cp:lastModifiedBy>
  <cp:lastPrinted>2004-05-14T03:25:37Z</cp:lastPrinted>
  <dcterms:modified xsi:type="dcterms:W3CDTF">2004-08-10T03:35:08Z</dcterms:modified>
  <cp:revision>399</cp:revision>
  <dc:subject/>
  <dc:title>ENCUESTA ORIGEN DESTINO DEL GRAN SANTIA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5213776</vt:r8>
  </property>
  <property fmtid="{D5CDD505-2E9C-101B-9397-08002B2CF9AE}" pid="3" name="_AuthorEmail">
    <vt:lpwstr>egodoy@sectra.cl</vt:lpwstr>
  </property>
  <property fmtid="{D5CDD505-2E9C-101B-9397-08002B2CF9AE}" pid="4" name="_AuthorEmailDisplayName">
    <vt:lpwstr>Esteban Godoy</vt:lpwstr>
  </property>
  <property fmtid="{D5CDD505-2E9C-101B-9397-08002B2CF9AE}" pid="5" name="_EmailSubject">
    <vt:lpwstr>Presentación conferencia EOD 2001 v5</vt:lpwstr>
  </property>
</Properties>
</file>