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media/image29.jpeg" ContentType="image/jpeg"/>
  <Override PartName="/ppt/media/image28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6.wmf" ContentType="image/x-wmf"/>
  <Override PartName="/ppt/media/image1.wmf" ContentType="image/x-wmf"/>
  <Override PartName="/ppt/media/image2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13.jpeg" ContentType="image/jpeg"/>
  <Override PartName="/ppt/media/image30.jpeg" ContentType="image/jpeg"/>
  <Override PartName="/ppt/media/image36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41.png" ContentType="image/png"/>
  <Override PartName="/ppt/media/image42.jpeg" ContentType="image/jpeg"/>
  <Override PartName="/ppt/media/image43.jpeg" ContentType="image/jpe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722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724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9520" y="698040"/>
            <a:ext cx="4654800" cy="34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6880" y="4420800"/>
            <a:ext cx="54975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C15D-56EA-403B-A2A0-49772423733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BDAF-0880-43FE-ADCA-854643D7017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4B49-0987-4D06-879B-1CED8E4A03D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C293-6146-46A3-976B-24C5C6035C4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B187-FCF1-4C51-9FDC-5E08BAE56F2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127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5012-4A68-4BDE-A297-92680FCCD07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127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484D-4AC3-474E-896C-1AD9CD402D8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127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DF1F-4311-4ACE-8294-37B3A04EE6D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F911-274E-43CC-9A48-12CE64EF3F0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5984-2244-4810-8CD2-8BAF8BE92B8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F543-1440-4927-85A3-773211D902D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CAE9-6B6B-44C0-A819-0217C1092CD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95BC-645F-4CBD-B6FB-94BEA4C2848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656D-533E-4572-945B-942D9BB946E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A179-9EB7-4E85-9142-709EB9C6F07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145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624A-92CD-476D-86B0-85C990D5CAC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127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450D-F0D1-4BD7-BBD0-1F303471A4B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127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31D9-C588-4C7F-91A4-A3ED552F2FB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145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DA51-4F69-415A-8B41-CD4C1513A83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1DC1-05F4-445C-B964-989E3817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1A7D-A1EB-4D96-B174-3E37C6E8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4E25-0AD0-40A3-8E52-91D5318D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8D47-9AAC-438A-908E-AC3C6AE2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A665-E9AC-4410-BA87-C4225EEC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67D0-7159-4F03-8078-9C5F4205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6613-E58E-4CB5-AD29-3B43EF2E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31D-539E-4CBE-9BA1-1D00169C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98680" y="101160"/>
            <a:ext cx="622296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BB51-EF45-4732-8456-E00EC6D9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F16-92B2-4D74-9C02-2E463F6A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E23F-7C2F-42E1-8173-587489FF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2D8D-09F9-49A9-A73D-FBFA41E2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298F-7C85-40B6-86E1-E9644855C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192320"/>
            <a:ext cx="7620120" cy="1440"/>
          </a:xfrm>
          <a:prstGeom prst="line">
            <a:avLst/>
          </a:prstGeom>
          <a:ln w="5724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108160"/>
            <a:ext cx="914400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I43A Análisis de Sistemas de Transporte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9 agosto 2004</a:t>
            </a:r>
            <a:r>
              <a:rPr b="1" lang="en-GB" sz="6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3680" y="4200480"/>
            <a:ext cx="826452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6680" y="1593720"/>
            <a:ext cx="6742080" cy="4853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30520" y="63360"/>
            <a:ext cx="60213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Número de au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7018200" cy="4932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30520" y="63360"/>
            <a:ext cx="60213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utos por hog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14880" y="393696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endCxn id="113" idx="1"/>
          </p:cNvCxnSpPr>
          <p:nvPr/>
        </p:nvCxnSpPr>
        <p:spPr>
          <a:xfrm>
            <a:off x="1569960" y="2395440"/>
            <a:ext cx="2007360" cy="7200"/>
          </a:xfrm>
          <a:prstGeom prst="straightConnector1">
            <a:avLst/>
          </a:prstGeom>
          <a:ln w="0">
            <a:noFill/>
          </a:ln>
        </p:spPr>
      </p:cxnSp>
      <p:sp>
        <p:nvSpPr>
          <p:cNvPr id="120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95600" y="1243080"/>
            <a:ext cx="5251320" cy="5602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41840" y="220824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32040" y="5721480"/>
            <a:ext cx="827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92720" y="5160960"/>
            <a:ext cx="1295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59040" y="4305240"/>
            <a:ext cx="1008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79960" y="3170160"/>
            <a:ext cx="936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78280" y="393696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3"/>
            <a:endCxn id="123" idx="1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31" name=""/>
          <p:cNvCxnSpPr>
            <a:stCxn id="129" idx="3"/>
            <a:endCxn id="123" idx="1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981840" y="16686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0960" y="37242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80240" y="52182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3" idx="3"/>
            <a:endCxn id="126" idx="1"/>
          </p:cNvCxnSpPr>
          <p:nvPr/>
        </p:nvCxnSpPr>
        <p:spPr>
          <a:xfrm>
            <a:off x="2046240" y="4422240"/>
            <a:ext cx="713520" cy="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4" idx="3"/>
            <a:endCxn id="124" idx="1"/>
          </p:cNvCxnSpPr>
          <p:nvPr/>
        </p:nvCxnSpPr>
        <p:spPr>
          <a:xfrm flipV="1">
            <a:off x="1919160" y="5864040"/>
            <a:ext cx="1713600" cy="2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6" idx="1"/>
            <a:endCxn id="125" idx="2"/>
          </p:cNvCxnSpPr>
          <p:nvPr/>
        </p:nvCxnSpPr>
        <p:spPr>
          <a:xfrm flipH="1" flipV="1">
            <a:off x="5939640" y="5444640"/>
            <a:ext cx="8406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5" idx="1"/>
            <a:endCxn id="128" idx="3"/>
          </p:cNvCxnSpPr>
          <p:nvPr/>
        </p:nvCxnSpPr>
        <p:spPr>
          <a:xfrm flipH="1">
            <a:off x="4743000" y="4053960"/>
            <a:ext cx="1969200" cy="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2" idx="1"/>
            <a:endCxn id="127" idx="0"/>
          </p:cNvCxnSpPr>
          <p:nvPr/>
        </p:nvCxnSpPr>
        <p:spPr>
          <a:xfrm flipH="1">
            <a:off x="5547960" y="236664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SUPHG97C" descr=""/>
          <p:cNvPicPr/>
          <p:nvPr/>
        </p:nvPicPr>
        <p:blipFill>
          <a:blip r:embed="rId1"/>
          <a:stretch/>
        </p:blipFill>
        <p:spPr>
          <a:xfrm>
            <a:off x="1057320" y="1476360"/>
            <a:ext cx="7027920" cy="5081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ea Residenci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HOGICO97" descr=""/>
          <p:cNvPicPr/>
          <p:nvPr/>
        </p:nvPicPr>
        <p:blipFill>
          <a:blip r:embed="rId1"/>
          <a:stretch/>
        </p:blipFill>
        <p:spPr>
          <a:xfrm>
            <a:off x="1460520" y="1252440"/>
            <a:ext cx="6607080" cy="5241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554120" y="212760"/>
            <a:ext cx="68389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Distribución Espacial Ingr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15238" t="13622" r="4755" b="6571"/>
          <a:stretch/>
        </p:blipFill>
        <p:spPr>
          <a:xfrm>
            <a:off x="1092240" y="1324080"/>
            <a:ext cx="7558200" cy="53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Internet en los hog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834240" y="5529240"/>
            <a:ext cx="1814400" cy="1361520"/>
            <a:chOff x="6834240" y="5529240"/>
            <a:chExt cx="1814400" cy="1361520"/>
          </a:xfrm>
        </p:grpSpPr>
        <p:sp>
          <p:nvSpPr>
            <p:cNvPr id="154" name=""/>
            <p:cNvSpPr/>
            <p:nvPr/>
          </p:nvSpPr>
          <p:spPr>
            <a:xfrm>
              <a:off x="6834240" y="5529240"/>
              <a:ext cx="1814400" cy="1199880"/>
            </a:xfrm>
            <a:prstGeom prst="cube">
              <a:avLst>
                <a:gd name="adj" fmla="val 440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1800" y="6027480"/>
              <a:ext cx="86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norm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51560" y="6370560"/>
              <a:ext cx="125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Banda anch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81800" y="5667120"/>
              <a:ext cx="107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50160" y="5999040"/>
              <a:ext cx="360360" cy="311040"/>
            </a:xfrm>
            <a:prstGeom prst="cube">
              <a:avLst>
                <a:gd name="adj" fmla="val 1049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50160" y="6367320"/>
              <a:ext cx="360360" cy="3110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50160" y="5638680"/>
              <a:ext cx="360360" cy="311040"/>
            </a:xfrm>
            <a:prstGeom prst="cube">
              <a:avLst>
                <a:gd name="adj" fmla="val 1049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SUPCM97C" descr=""/>
          <p:cNvPicPr/>
          <p:nvPr/>
        </p:nvPicPr>
        <p:blipFill>
          <a:blip r:embed="rId1"/>
          <a:stretch/>
        </p:blipFill>
        <p:spPr>
          <a:xfrm>
            <a:off x="1117440" y="1468440"/>
            <a:ext cx="6856560" cy="49719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838160" y="88920"/>
            <a:ext cx="68472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ea Comercial (minorist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2392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MATRI97C" descr=""/>
          <p:cNvPicPr/>
          <p:nvPr/>
        </p:nvPicPr>
        <p:blipFill>
          <a:blip r:embed="rId1"/>
          <a:stretch/>
        </p:blipFill>
        <p:spPr>
          <a:xfrm>
            <a:off x="1206360" y="1576440"/>
            <a:ext cx="6855120" cy="4983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Edu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SUPIN97C" descr=""/>
          <p:cNvPicPr/>
          <p:nvPr/>
        </p:nvPicPr>
        <p:blipFill>
          <a:blip r:embed="rId1"/>
          <a:stretch/>
        </p:blipFill>
        <p:spPr>
          <a:xfrm>
            <a:off x="1482840" y="1476360"/>
            <a:ext cx="6891120" cy="4983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ea Indust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7240" y="101160"/>
            <a:ext cx="83595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¿Qué pasa si no se interviene el sistema?: Círculo vicioso del transporte públ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4040" y="131292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1120" y="208584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32400" y="126216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12747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5680" y="205596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6480" y="294480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2400" y="363996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1800" y="455436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9280" y="532440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04480" y="294480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29320" y="367812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39320" y="452916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61840" y="612612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1040" y="186696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1040" y="249696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1040" y="333360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1040" y="437688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1040" y="496872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25480" y="576576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45320" y="182736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57920" y="247176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6360" y="234324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637480" y="234324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762680" y="386064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591240" y="417024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73560" y="638316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8766000" y="402696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7722720" y="405432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35440" y="480060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809880" y="400212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32440" y="387360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106880" y="3218040"/>
            <a:ext cx="1479600" cy="47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887640" y="241920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23960" y="24019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98480" y="2207880"/>
            <a:ext cx="778824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ff"/>
                </a:solidFill>
                <a:latin typeface="Times New Roman"/>
              </a:rPr>
              <a:t>El Sistema de Transporte de Santiago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09720" y="266760"/>
            <a:ext cx="6400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incipales Arcos  Urba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127240" y="1371600"/>
            <a:ext cx="5200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Sistema de B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220760"/>
            <a:ext cx="47052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380 lín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Amplia cobertura espacial y alta frec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0,1 trasbordos/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8.000 buses propiedad priv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4.000 “compañí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Oferta no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No hay subsidio operac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Mantención de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Competencia “en la calle”  por los pasajeros: inseg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82 km vías exclusivas en punta mañ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Buses%20Licitados%201999%20copia" descr=""/>
          <p:cNvPicPr/>
          <p:nvPr/>
        </p:nvPicPr>
        <p:blipFill>
          <a:blip r:embed="rId1"/>
          <a:srcRect l="0" t="0" r="4517" b="0"/>
          <a:stretch/>
        </p:blipFill>
        <p:spPr>
          <a:xfrm>
            <a:off x="4543560" y="1398600"/>
            <a:ext cx="46004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Sistema de Metr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759120" y="1243080"/>
            <a:ext cx="5251680" cy="5602320"/>
            <a:chOff x="3759120" y="1243080"/>
            <a:chExt cx="5251680" cy="560232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3759120" y="1243080"/>
              <a:ext cx="5251680" cy="560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" name=""/>
            <p:cNvGrpSpPr/>
            <p:nvPr/>
          </p:nvGrpSpPr>
          <p:grpSpPr>
            <a:xfrm>
              <a:off x="5511960" y="3543480"/>
              <a:ext cx="1752480" cy="660240"/>
              <a:chOff x="5511960" y="3543480"/>
              <a:chExt cx="1752480" cy="660240"/>
            </a:xfrm>
          </p:grpSpPr>
          <p:sp>
            <p:nvSpPr>
              <p:cNvPr id="188" name=""/>
              <p:cNvSpPr/>
              <p:nvPr/>
            </p:nvSpPr>
            <p:spPr>
              <a:xfrm flipH="1">
                <a:off x="7023240" y="3543480"/>
                <a:ext cx="241200" cy="378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6527880" y="3587760"/>
                <a:ext cx="488880" cy="342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5657400" y="3924360"/>
                <a:ext cx="876600" cy="2793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5530680" y="4165560"/>
                <a:ext cx="120600" cy="381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5511960" y="4019400"/>
                <a:ext cx="25200" cy="1461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318360" y="3784320"/>
              <a:ext cx="215640" cy="1416240"/>
              <a:chOff x="6318360" y="3784320"/>
              <a:chExt cx="215640" cy="1416240"/>
            </a:xfrm>
          </p:grpSpPr>
          <p:sp>
            <p:nvSpPr>
              <p:cNvPr id="194" name=""/>
              <p:cNvSpPr/>
              <p:nvPr/>
            </p:nvSpPr>
            <p:spPr>
              <a:xfrm flipH="1" flipV="1">
                <a:off x="6514920" y="4267080"/>
                <a:ext cx="19080" cy="13968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6343560" y="4400640"/>
                <a:ext cx="184320" cy="7999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6438960" y="4222800"/>
                <a:ext cx="76320" cy="381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flipV="1">
                <a:off x="6388200" y="4152960"/>
                <a:ext cx="38160" cy="76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flipV="1">
                <a:off x="6324120" y="3867120"/>
                <a:ext cx="57240" cy="2858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6318360" y="3790800"/>
                <a:ext cx="31680" cy="76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6356520" y="3784320"/>
                <a:ext cx="75960" cy="61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6337080" y="3854520"/>
              <a:ext cx="838440" cy="1162080"/>
              <a:chOff x="6337080" y="3854520"/>
              <a:chExt cx="838440" cy="1162080"/>
            </a:xfrm>
          </p:grpSpPr>
          <p:sp>
            <p:nvSpPr>
              <p:cNvPr id="202" name=""/>
              <p:cNvSpPr/>
              <p:nvPr/>
            </p:nvSpPr>
            <p:spPr>
              <a:xfrm flipH="1" flipV="1">
                <a:off x="6972480" y="4800600"/>
                <a:ext cx="203040" cy="21600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flipV="1">
                <a:off x="6622920" y="3860280"/>
                <a:ext cx="355680" cy="93348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6337080" y="3854520"/>
                <a:ext cx="285480" cy="1908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5067360" y="3543480"/>
              <a:ext cx="74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3300"/>
                  </a:solidFill>
                  <a:latin typeface="Times New Roman"/>
                </a:rPr>
                <a:t>L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12160" y="4775040"/>
              <a:ext cx="74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ff00"/>
                  </a:solidFill>
                  <a:latin typeface="Times New Roman"/>
                </a:rPr>
                <a:t>L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67280" y="5156280"/>
              <a:ext cx="7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66"/>
                  </a:solidFill>
                  <a:latin typeface="Times New Roman"/>
                </a:rPr>
                <a:t>L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06360" y="1486080"/>
            <a:ext cx="415620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3 lí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Longitud total: 3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Alta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Compañía esta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No hay subsidio operac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Pre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1447920"/>
            <a:ext cx="801360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Transporte Público : Tarifa no integr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Bus: $3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Metro: desde $290 hasta 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Taxi-Colectivo: ~600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Transporte Pri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Bencina: 500 $/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Estacionamiento en el centro: ~1800 $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ff"/>
                </a:solidFill>
                <a:latin typeface="Times New Roman"/>
              </a:rPr>
              <a:t>Demanda de Transporte 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149960" y="4911840"/>
            <a:ext cx="1562400" cy="862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amin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bicic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54400" y="1828800"/>
            <a:ext cx="319572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16.481.04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25480" y="88920"/>
            <a:ext cx="68216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Viajes Totales  (día laboral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35240" y="1914480"/>
            <a:ext cx="28652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Tot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41680" y="3560760"/>
            <a:ext cx="2719440" cy="61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Comic Sans MS"/>
              </a:rPr>
              <a:t>10.147.247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25560" y="3646440"/>
            <a:ext cx="3535200" cy="45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iajes motoriz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76600" y="5049720"/>
            <a:ext cx="2683080" cy="61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Comic Sans MS"/>
              </a:rPr>
              <a:t>6.333.796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0240" y="5138640"/>
            <a:ext cx="3830760" cy="45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iajes no motorizad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22840" y="2722680"/>
            <a:ext cx="11160" cy="587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02200" y="2722680"/>
            <a:ext cx="11160" cy="587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75480" y="4292640"/>
            <a:ext cx="10800" cy="587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500440" y="4587840"/>
            <a:ext cx="58716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402160" y="6346800"/>
            <a:ext cx="2719440" cy="432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13400" y="6354720"/>
            <a:ext cx="24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1.880.887 via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993600" y="6329520"/>
            <a:ext cx="2543040" cy="431640"/>
            <a:chOff x="993600" y="6329520"/>
            <a:chExt cx="2543040" cy="431640"/>
          </a:xfrm>
        </p:grpSpPr>
        <p:sp>
          <p:nvSpPr>
            <p:cNvPr id="227" name=""/>
            <p:cNvSpPr/>
            <p:nvPr/>
          </p:nvSpPr>
          <p:spPr>
            <a:xfrm>
              <a:off x="993600" y="6329520"/>
              <a:ext cx="254304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64880" y="6375600"/>
              <a:ext cx="24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omic Sans MS"/>
                </a:rPr>
                <a:t>16.481.043 viaj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626000" y="1849320"/>
            <a:ext cx="4479840" cy="4410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2840" y="1812960"/>
            <a:ext cx="4489560" cy="438624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960480" y="1395360"/>
            <a:ext cx="2543040" cy="431640"/>
            <a:chOff x="960480" y="1395360"/>
            <a:chExt cx="2543040" cy="431640"/>
          </a:xfrm>
        </p:grpSpPr>
        <p:sp>
          <p:nvSpPr>
            <p:cNvPr id="232" name=""/>
            <p:cNvSpPr/>
            <p:nvPr/>
          </p:nvSpPr>
          <p:spPr>
            <a:xfrm>
              <a:off x="960480" y="1395360"/>
              <a:ext cx="254304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31760" y="1466640"/>
              <a:ext cx="241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Di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586320" y="1251000"/>
            <a:ext cx="1957320" cy="884160"/>
            <a:chOff x="3586320" y="1251000"/>
            <a:chExt cx="1957320" cy="884160"/>
          </a:xfrm>
        </p:grpSpPr>
        <p:sp>
          <p:nvSpPr>
            <p:cNvPr id="235" name=""/>
            <p:cNvSpPr/>
            <p:nvPr/>
          </p:nvSpPr>
          <p:spPr>
            <a:xfrm>
              <a:off x="3586320" y="1251000"/>
              <a:ext cx="193968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94120" y="1576440"/>
              <a:ext cx="86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06720" y="1805040"/>
              <a:ext cx="8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94120" y="136836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28880" y="162396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28880" y="183996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14032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78400" y="1636560"/>
              <a:ext cx="189000" cy="16380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78400" y="1415880"/>
              <a:ext cx="189000" cy="163800"/>
            </a:xfrm>
            <a:prstGeom prst="cube">
              <a:avLst>
                <a:gd name="adj" fmla="val 10495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68840" y="1576440"/>
              <a:ext cx="861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taxi-t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56240" y="1368360"/>
              <a:ext cx="85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omic Sans MS"/>
                </a:rPr>
                <a:t>Camin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78400" y="185256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81440" y="1792440"/>
              <a:ext cx="86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508720" y="1395360"/>
            <a:ext cx="2719080" cy="431640"/>
            <a:chOff x="5508720" y="1395360"/>
            <a:chExt cx="2719080" cy="431640"/>
          </a:xfrm>
        </p:grpSpPr>
        <p:sp>
          <p:nvSpPr>
            <p:cNvPr id="249" name=""/>
            <p:cNvSpPr/>
            <p:nvPr/>
          </p:nvSpPr>
          <p:spPr>
            <a:xfrm>
              <a:off x="5508720" y="1395360"/>
              <a:ext cx="271908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45160" y="1466640"/>
              <a:ext cx="247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Punta mañana: 7:30-8: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136520" y="88920"/>
            <a:ext cx="69836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Partición Modal  (día laboral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0520" y="76320"/>
            <a:ext cx="82929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Viajes por propósito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502320" y="3608280"/>
            <a:ext cx="720360" cy="258840"/>
            <a:chOff x="6502320" y="3608280"/>
            <a:chExt cx="720360" cy="258840"/>
          </a:xfrm>
        </p:grpSpPr>
        <p:sp>
          <p:nvSpPr>
            <p:cNvPr id="255" name=""/>
            <p:cNvSpPr/>
            <p:nvPr/>
          </p:nvSpPr>
          <p:spPr>
            <a:xfrm>
              <a:off x="6502320" y="360828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02320" y="362088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858080" y="4765680"/>
            <a:ext cx="1080720" cy="260280"/>
            <a:chOff x="7858080" y="4765680"/>
            <a:chExt cx="1080720" cy="260280"/>
          </a:xfrm>
        </p:grpSpPr>
        <p:sp>
          <p:nvSpPr>
            <p:cNvPr id="258" name=""/>
            <p:cNvSpPr/>
            <p:nvPr/>
          </p:nvSpPr>
          <p:spPr>
            <a:xfrm>
              <a:off x="7858080" y="476568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58080" y="477972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L 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967360" y="5340240"/>
            <a:ext cx="1223280" cy="258840"/>
            <a:chOff x="5967360" y="5340240"/>
            <a:chExt cx="1223280" cy="258840"/>
          </a:xfrm>
        </p:grpSpPr>
        <p:sp>
          <p:nvSpPr>
            <p:cNvPr id="261" name=""/>
            <p:cNvSpPr/>
            <p:nvPr/>
          </p:nvSpPr>
          <p:spPr>
            <a:xfrm>
              <a:off x="5967360" y="534024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67360" y="535284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L 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60440" y="1311120"/>
            <a:ext cx="4765680" cy="3240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200560" y="2619360"/>
            <a:ext cx="3840120" cy="35989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6475320" y="5391000"/>
            <a:ext cx="720360" cy="258840"/>
            <a:chOff x="6475320" y="5391000"/>
            <a:chExt cx="720360" cy="258840"/>
          </a:xfrm>
        </p:grpSpPr>
        <p:sp>
          <p:nvSpPr>
            <p:cNvPr id="266" name=""/>
            <p:cNvSpPr/>
            <p:nvPr/>
          </p:nvSpPr>
          <p:spPr>
            <a:xfrm>
              <a:off x="6475320" y="539100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75320" y="540360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732640" y="3659040"/>
            <a:ext cx="1080720" cy="260280"/>
            <a:chOff x="5732640" y="3659040"/>
            <a:chExt cx="1080720" cy="260280"/>
          </a:xfrm>
        </p:grpSpPr>
        <p:sp>
          <p:nvSpPr>
            <p:cNvPr id="269" name=""/>
            <p:cNvSpPr/>
            <p:nvPr/>
          </p:nvSpPr>
          <p:spPr>
            <a:xfrm>
              <a:off x="5732640" y="365904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32640" y="367308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365960" y="3832200"/>
            <a:ext cx="1223280" cy="258840"/>
            <a:chOff x="7365960" y="3832200"/>
            <a:chExt cx="1223280" cy="258840"/>
          </a:xfrm>
        </p:grpSpPr>
        <p:sp>
          <p:nvSpPr>
            <p:cNvPr id="272" name=""/>
            <p:cNvSpPr/>
            <p:nvPr/>
          </p:nvSpPr>
          <p:spPr>
            <a:xfrm>
              <a:off x="7365960" y="383220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65960" y="384480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57200" y="1676520"/>
            <a:ext cx="8381880" cy="175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8920" y="4003560"/>
          <a:ext cx="9016920" cy="285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4003560"/>
                    <a:ext cx="901692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98280" y="1270080"/>
          <a:ext cx="8994960" cy="276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280" y="1270080"/>
                    <a:ext cx="8994960" cy="27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563400" y="0"/>
            <a:ext cx="85806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Histograma de evolución de propósitos de viaje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845480" y="1343160"/>
            <a:ext cx="1187280" cy="884160"/>
            <a:chOff x="7845480" y="1343160"/>
            <a:chExt cx="1187280" cy="884160"/>
          </a:xfrm>
        </p:grpSpPr>
        <p:sp>
          <p:nvSpPr>
            <p:cNvPr id="281" name=""/>
            <p:cNvSpPr/>
            <p:nvPr/>
          </p:nvSpPr>
          <p:spPr>
            <a:xfrm>
              <a:off x="7845480" y="1343160"/>
              <a:ext cx="1157040" cy="884160"/>
            </a:xfrm>
            <a:prstGeom prst="cube">
              <a:avLst>
                <a:gd name="adj" fmla="val 44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153280" y="166860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65880" y="18972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78840" y="14605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88040" y="171612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88040" y="193212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88040" y="149544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996840" y="4454640"/>
            <a:ext cx="1366920" cy="468360"/>
            <a:chOff x="996840" y="4454640"/>
            <a:chExt cx="1366920" cy="468360"/>
          </a:xfrm>
        </p:grpSpPr>
        <p:sp>
          <p:nvSpPr>
            <p:cNvPr id="289" name=""/>
            <p:cNvSpPr/>
            <p:nvPr/>
          </p:nvSpPr>
          <p:spPr>
            <a:xfrm>
              <a:off x="996840" y="4454640"/>
              <a:ext cx="1366920" cy="4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08080" y="4525920"/>
              <a:ext cx="12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OD 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001880" y="1677960"/>
            <a:ext cx="1380960" cy="431640"/>
            <a:chOff x="1001880" y="1677960"/>
            <a:chExt cx="1380960" cy="431640"/>
          </a:xfrm>
        </p:grpSpPr>
        <p:sp>
          <p:nvSpPr>
            <p:cNvPr id="292" name=""/>
            <p:cNvSpPr/>
            <p:nvPr/>
          </p:nvSpPr>
          <p:spPr>
            <a:xfrm>
              <a:off x="1001880" y="1677960"/>
              <a:ext cx="138096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77840" y="174924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OD 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3120" y="101160"/>
            <a:ext cx="82677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==&gt; necesidad de modelar para predecir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971960" y="1555920"/>
                <a:ext cx="2441520" cy="105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1003320" y="1866960"/>
            <a:ext cx="63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producto en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97000" y="3603600"/>
            <a:ext cx="6745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Agreg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describir, modelar, predec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mporal: </a:t>
            </a: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period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po de persona o bien: </a:t>
            </a: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seg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pacial:</a:t>
            </a: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zon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326280" y="5616720"/>
            <a:ext cx="2484360" cy="46008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44760" y="5607000"/>
            <a:ext cx="248472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4000" y="5587920"/>
            <a:ext cx="2484360" cy="48600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440" y="5724360"/>
            <a:ext cx="20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[ mayor a 1.599.999 $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43160" y="88920"/>
            <a:ext cx="65005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Partición Modal  por ingreso del hogar ( día laboral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14880" y="573732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450.000 - 1.599.999 $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00960" y="5708520"/>
            <a:ext cx="21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menor a 450.000 $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600360" y="1479600"/>
            <a:ext cx="2008440" cy="884160"/>
            <a:chOff x="3600360" y="1479600"/>
            <a:chExt cx="2008440" cy="884160"/>
          </a:xfrm>
        </p:grpSpPr>
        <p:sp>
          <p:nvSpPr>
            <p:cNvPr id="302" name=""/>
            <p:cNvSpPr/>
            <p:nvPr/>
          </p:nvSpPr>
          <p:spPr>
            <a:xfrm>
              <a:off x="3600360" y="1479600"/>
              <a:ext cx="194004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08520" y="180468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21120" y="20332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08520" y="159696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43280" y="185256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43280" y="206820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743280" y="163188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68760" y="186516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68760" y="164448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46600" y="180468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59200" y="1596960"/>
              <a:ext cx="768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amin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011480" y="6207120"/>
            <a:ext cx="1249200" cy="396720"/>
            <a:chOff x="4011480" y="6207120"/>
            <a:chExt cx="1249200" cy="396720"/>
          </a:xfrm>
        </p:grpSpPr>
        <p:sp>
          <p:nvSpPr>
            <p:cNvPr id="314" name=""/>
            <p:cNvSpPr/>
            <p:nvPr/>
          </p:nvSpPr>
          <p:spPr>
            <a:xfrm>
              <a:off x="4011480" y="6207120"/>
              <a:ext cx="1249200" cy="396720"/>
            </a:xfrm>
            <a:prstGeom prst="cube">
              <a:avLst>
                <a:gd name="adj" fmla="val 1470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35240" y="6322680"/>
              <a:ext cx="1131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$ Agosto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2451240"/>
            <a:ext cx="3059280" cy="30002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6084720" y="2519280"/>
            <a:ext cx="3059280" cy="2970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3032280" y="2460600"/>
            <a:ext cx="30589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91960" y="1523880"/>
            <a:ext cx="7197840" cy="50371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20760" y="88920"/>
            <a:ext cx="6534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Evolucion de generación de viajes motorizados por hog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0" y="1287360"/>
          <a:ext cx="9144000" cy="258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87360"/>
                    <a:ext cx="91440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0" y="3811680"/>
          <a:ext cx="9144000" cy="3046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11680"/>
                    <a:ext cx="914400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6" name=""/>
          <p:cNvGrpSpPr/>
          <p:nvPr/>
        </p:nvGrpSpPr>
        <p:grpSpPr>
          <a:xfrm>
            <a:off x="7858080" y="1406520"/>
            <a:ext cx="1187280" cy="884160"/>
            <a:chOff x="7858080" y="1406520"/>
            <a:chExt cx="1187280" cy="884160"/>
          </a:xfrm>
        </p:grpSpPr>
        <p:sp>
          <p:nvSpPr>
            <p:cNvPr id="327" name=""/>
            <p:cNvSpPr/>
            <p:nvPr/>
          </p:nvSpPr>
          <p:spPr>
            <a:xfrm>
              <a:off x="7858080" y="1406520"/>
              <a:ext cx="1157040" cy="884160"/>
            </a:xfrm>
            <a:prstGeom prst="cube">
              <a:avLst>
                <a:gd name="adj" fmla="val 44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165880" y="173196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STUD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178480" y="196056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191440" y="152388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00640" y="17794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00640" y="19954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00640" y="155880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96840" y="4302000"/>
            <a:ext cx="1366920" cy="468360"/>
            <a:chOff x="996840" y="4302000"/>
            <a:chExt cx="1366920" cy="468360"/>
          </a:xfrm>
        </p:grpSpPr>
        <p:sp>
          <p:nvSpPr>
            <p:cNvPr id="335" name=""/>
            <p:cNvSpPr/>
            <p:nvPr/>
          </p:nvSpPr>
          <p:spPr>
            <a:xfrm>
              <a:off x="996840" y="4302000"/>
              <a:ext cx="1366920" cy="4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08080" y="4373280"/>
              <a:ext cx="12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ODS 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1001880" y="1728720"/>
            <a:ext cx="1380960" cy="431640"/>
            <a:chOff x="1001880" y="1728720"/>
            <a:chExt cx="1380960" cy="431640"/>
          </a:xfrm>
        </p:grpSpPr>
        <p:sp>
          <p:nvSpPr>
            <p:cNvPr id="338" name=""/>
            <p:cNvSpPr/>
            <p:nvPr/>
          </p:nvSpPr>
          <p:spPr>
            <a:xfrm>
              <a:off x="1001880" y="1728720"/>
              <a:ext cx="138096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77840" y="180000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ODS 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1133640" y="88920"/>
            <a:ext cx="80103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Histograma  evolución propósito  viajes motorizados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41520" y="101520"/>
            <a:ext cx="82213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Evolución de la partición modal de viajes motorizados 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372360" y="1370160"/>
            <a:ext cx="793080" cy="431640"/>
            <a:chOff x="6372360" y="1370160"/>
            <a:chExt cx="793080" cy="431640"/>
          </a:xfrm>
        </p:grpSpPr>
        <p:sp>
          <p:nvSpPr>
            <p:cNvPr id="344" name=""/>
            <p:cNvSpPr/>
            <p:nvPr/>
          </p:nvSpPr>
          <p:spPr>
            <a:xfrm>
              <a:off x="6372360" y="1370160"/>
              <a:ext cx="79200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45080" y="144144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836720" y="1370160"/>
            <a:ext cx="934920" cy="431640"/>
            <a:chOff x="1836720" y="1370160"/>
            <a:chExt cx="934920" cy="431640"/>
          </a:xfrm>
        </p:grpSpPr>
        <p:sp>
          <p:nvSpPr>
            <p:cNvPr id="347" name=""/>
            <p:cNvSpPr/>
            <p:nvPr/>
          </p:nvSpPr>
          <p:spPr>
            <a:xfrm>
              <a:off x="1836720" y="137016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79640" y="1441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4140360" y="155736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551480" y="1844640"/>
            <a:ext cx="4492440" cy="41846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63360" y="1855800"/>
            <a:ext cx="4486320" cy="4167000"/>
          </a:xfrm>
          <a:prstGeom prst="rect">
            <a:avLst/>
          </a:prstGeom>
          <a:ln w="0">
            <a:noFill/>
          </a:ln>
        </p:spPr>
      </p:pic>
      <p:grpSp>
        <p:nvGrpSpPr>
          <p:cNvPr id="352" name=""/>
          <p:cNvGrpSpPr/>
          <p:nvPr/>
        </p:nvGrpSpPr>
        <p:grpSpPr>
          <a:xfrm>
            <a:off x="3575160" y="5848200"/>
            <a:ext cx="2008080" cy="884520"/>
            <a:chOff x="3575160" y="5848200"/>
            <a:chExt cx="2008080" cy="884520"/>
          </a:xfrm>
        </p:grpSpPr>
        <p:sp>
          <p:nvSpPr>
            <p:cNvPr id="353" name=""/>
            <p:cNvSpPr/>
            <p:nvPr/>
          </p:nvSpPr>
          <p:spPr>
            <a:xfrm>
              <a:off x="3575160" y="5848200"/>
              <a:ext cx="1939680" cy="88452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82960" y="617364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95560" y="640224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882960" y="59659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18080" y="62215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718080" y="6437160"/>
              <a:ext cx="188640" cy="16380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18080" y="60008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43560" y="62341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43560" y="60134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21400" y="61736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08440" y="596592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5838840" y="6097680"/>
            <a:ext cx="1798560" cy="576000"/>
            <a:chOff x="5838840" y="6097680"/>
            <a:chExt cx="1798560" cy="576000"/>
          </a:xfrm>
        </p:grpSpPr>
        <p:sp>
          <p:nvSpPr>
            <p:cNvPr id="365" name=""/>
            <p:cNvSpPr/>
            <p:nvPr/>
          </p:nvSpPr>
          <p:spPr>
            <a:xfrm>
              <a:off x="5838840" y="6097680"/>
              <a:ext cx="179856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910120" y="616896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10.147.24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403280" y="6097680"/>
            <a:ext cx="1800360" cy="576000"/>
            <a:chOff x="1403280" y="6097680"/>
            <a:chExt cx="1800360" cy="576000"/>
          </a:xfrm>
        </p:grpSpPr>
        <p:sp>
          <p:nvSpPr>
            <p:cNvPr id="368" name=""/>
            <p:cNvSpPr/>
            <p:nvPr/>
          </p:nvSpPr>
          <p:spPr>
            <a:xfrm>
              <a:off x="1403280" y="6097680"/>
              <a:ext cx="1800360" cy="57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549440" y="6205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5.996.1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5303880" y="2449440"/>
            <a:ext cx="3840120" cy="36194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177840" y="1336680"/>
            <a:ext cx="5029200" cy="32878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52680" y="76320"/>
            <a:ext cx="60642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Viajes Motorizados por propósito 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6578640" y="3481560"/>
            <a:ext cx="720360" cy="258840"/>
            <a:chOff x="6578640" y="3481560"/>
            <a:chExt cx="720360" cy="258840"/>
          </a:xfrm>
        </p:grpSpPr>
        <p:sp>
          <p:nvSpPr>
            <p:cNvPr id="375" name=""/>
            <p:cNvSpPr/>
            <p:nvPr/>
          </p:nvSpPr>
          <p:spPr>
            <a:xfrm>
              <a:off x="6578640" y="348156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78640" y="349416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7858080" y="4626000"/>
            <a:ext cx="1080720" cy="260280"/>
            <a:chOff x="7858080" y="4626000"/>
            <a:chExt cx="1080720" cy="260280"/>
          </a:xfrm>
        </p:grpSpPr>
        <p:sp>
          <p:nvSpPr>
            <p:cNvPr id="378" name=""/>
            <p:cNvSpPr/>
            <p:nvPr/>
          </p:nvSpPr>
          <p:spPr>
            <a:xfrm>
              <a:off x="7858080" y="462600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58080" y="464004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066000" y="5218200"/>
            <a:ext cx="1222920" cy="258840"/>
            <a:chOff x="6066000" y="5218200"/>
            <a:chExt cx="1222920" cy="258840"/>
          </a:xfrm>
        </p:grpSpPr>
        <p:sp>
          <p:nvSpPr>
            <p:cNvPr id="381" name=""/>
            <p:cNvSpPr/>
            <p:nvPr/>
          </p:nvSpPr>
          <p:spPr>
            <a:xfrm>
              <a:off x="6066000" y="5218200"/>
              <a:ext cx="122292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66000" y="5230800"/>
              <a:ext cx="122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57320" y="1305000"/>
            <a:ext cx="5000400" cy="32925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148360" y="2370240"/>
            <a:ext cx="3995640" cy="3760560"/>
          </a:xfrm>
          <a:prstGeom prst="rect">
            <a:avLst/>
          </a:prstGeom>
          <a:ln w="0">
            <a:noFill/>
          </a:ln>
        </p:spPr>
      </p:pic>
      <p:grpSp>
        <p:nvGrpSpPr>
          <p:cNvPr id="386" name=""/>
          <p:cNvGrpSpPr/>
          <p:nvPr/>
        </p:nvGrpSpPr>
        <p:grpSpPr>
          <a:xfrm>
            <a:off x="5767560" y="3510000"/>
            <a:ext cx="720360" cy="258840"/>
            <a:chOff x="5767560" y="3510000"/>
            <a:chExt cx="720360" cy="258840"/>
          </a:xfrm>
        </p:grpSpPr>
        <p:sp>
          <p:nvSpPr>
            <p:cNvPr id="387" name=""/>
            <p:cNvSpPr/>
            <p:nvPr/>
          </p:nvSpPr>
          <p:spPr>
            <a:xfrm>
              <a:off x="5767560" y="351000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767560" y="352260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515360" y="3513240"/>
            <a:ext cx="1080720" cy="260280"/>
            <a:chOff x="7515360" y="3513240"/>
            <a:chExt cx="1080720" cy="260280"/>
          </a:xfrm>
        </p:grpSpPr>
        <p:sp>
          <p:nvSpPr>
            <p:cNvPr id="390" name=""/>
            <p:cNvSpPr/>
            <p:nvPr/>
          </p:nvSpPr>
          <p:spPr>
            <a:xfrm>
              <a:off x="7515360" y="351324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15360" y="352728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307200" y="5173560"/>
            <a:ext cx="1223280" cy="258840"/>
            <a:chOff x="6307200" y="5173560"/>
            <a:chExt cx="1223280" cy="258840"/>
          </a:xfrm>
        </p:grpSpPr>
        <p:sp>
          <p:nvSpPr>
            <p:cNvPr id="393" name=""/>
            <p:cNvSpPr/>
            <p:nvPr/>
          </p:nvSpPr>
          <p:spPr>
            <a:xfrm>
              <a:off x="6307200" y="517356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307200" y="518616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671400" y="76320"/>
            <a:ext cx="84726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Viajes motorizados por propósito, punta mañana 7:30-8:30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65240" y="1893960"/>
            <a:ext cx="4317840" cy="39956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643280" y="1928880"/>
            <a:ext cx="4318200" cy="39830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400040" y="101520"/>
            <a:ext cx="68979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Partición modal de viajes motorizados en día laboral punta mañana (7:30-8:30) ¿eli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372360" y="1370160"/>
            <a:ext cx="793080" cy="431640"/>
            <a:chOff x="6372360" y="1370160"/>
            <a:chExt cx="793080" cy="431640"/>
          </a:xfrm>
        </p:grpSpPr>
        <p:sp>
          <p:nvSpPr>
            <p:cNvPr id="401" name=""/>
            <p:cNvSpPr/>
            <p:nvPr/>
          </p:nvSpPr>
          <p:spPr>
            <a:xfrm>
              <a:off x="6372360" y="1370160"/>
              <a:ext cx="79200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45080" y="144144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36720" y="1370160"/>
            <a:ext cx="934920" cy="431640"/>
            <a:chOff x="1836720" y="1370160"/>
            <a:chExt cx="934920" cy="431640"/>
          </a:xfrm>
        </p:grpSpPr>
        <p:sp>
          <p:nvSpPr>
            <p:cNvPr id="404" name=""/>
            <p:cNvSpPr/>
            <p:nvPr/>
          </p:nvSpPr>
          <p:spPr>
            <a:xfrm>
              <a:off x="1836720" y="137016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79640" y="1441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4140360" y="155736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575160" y="5848200"/>
            <a:ext cx="2008080" cy="884520"/>
            <a:chOff x="3575160" y="5848200"/>
            <a:chExt cx="2008080" cy="884520"/>
          </a:xfrm>
        </p:grpSpPr>
        <p:sp>
          <p:nvSpPr>
            <p:cNvPr id="408" name=""/>
            <p:cNvSpPr/>
            <p:nvPr/>
          </p:nvSpPr>
          <p:spPr>
            <a:xfrm>
              <a:off x="3575160" y="5848200"/>
              <a:ext cx="1939680" cy="88452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82960" y="617364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895560" y="640224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82960" y="59659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18080" y="62215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8080" y="6437160"/>
              <a:ext cx="188640" cy="16380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18080" y="60008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43560" y="62341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43560" y="60134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21400" y="61736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08440" y="596592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5838840" y="6097680"/>
            <a:ext cx="1798560" cy="576000"/>
            <a:chOff x="5838840" y="6097680"/>
            <a:chExt cx="1798560" cy="576000"/>
          </a:xfrm>
        </p:grpSpPr>
        <p:sp>
          <p:nvSpPr>
            <p:cNvPr id="420" name=""/>
            <p:cNvSpPr/>
            <p:nvPr/>
          </p:nvSpPr>
          <p:spPr>
            <a:xfrm>
              <a:off x="5838840" y="6097680"/>
              <a:ext cx="179856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10120" y="616896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1.366.77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1403280" y="6097680"/>
            <a:ext cx="1800360" cy="576000"/>
            <a:chOff x="1403280" y="6097680"/>
            <a:chExt cx="1800360" cy="576000"/>
          </a:xfrm>
        </p:grpSpPr>
        <p:sp>
          <p:nvSpPr>
            <p:cNvPr id="423" name=""/>
            <p:cNvSpPr/>
            <p:nvPr/>
          </p:nvSpPr>
          <p:spPr>
            <a:xfrm>
              <a:off x="1403280" y="6097680"/>
              <a:ext cx="1800360" cy="57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49440" y="6205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931.7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326280" y="5603760"/>
            <a:ext cx="248436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10000" y="5594400"/>
            <a:ext cx="248436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2920" y="5575320"/>
            <a:ext cx="2484360" cy="4856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30360" y="5699160"/>
            <a:ext cx="20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[ &gt; 1.599.999 $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71720" y="88920"/>
            <a:ext cx="7480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Partición Modal viajes motorizados (día laboral) por estrato de ingr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79760" y="571176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450.000 - 1.599.999 $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00960" y="5683320"/>
            <a:ext cx="21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&lt; 450.000 $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637080" y="1449360"/>
            <a:ext cx="2007720" cy="884160"/>
            <a:chOff x="3637080" y="1449360"/>
            <a:chExt cx="2007720" cy="884160"/>
          </a:xfrm>
        </p:grpSpPr>
        <p:sp>
          <p:nvSpPr>
            <p:cNvPr id="433" name=""/>
            <p:cNvSpPr/>
            <p:nvPr/>
          </p:nvSpPr>
          <p:spPr>
            <a:xfrm>
              <a:off x="3637080" y="1449360"/>
              <a:ext cx="193968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44880" y="1774440"/>
              <a:ext cx="86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957480" y="2003040"/>
              <a:ext cx="86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44880" y="1566720"/>
              <a:ext cx="59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79640" y="182232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79640" y="203796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779640" y="160164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05120" y="183492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05120" y="161424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82960" y="17744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795560" y="1566720"/>
              <a:ext cx="76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113360" y="6194520"/>
            <a:ext cx="1249200" cy="396720"/>
            <a:chOff x="4113360" y="6194520"/>
            <a:chExt cx="1249200" cy="396720"/>
          </a:xfrm>
        </p:grpSpPr>
        <p:sp>
          <p:nvSpPr>
            <p:cNvPr id="445" name=""/>
            <p:cNvSpPr/>
            <p:nvPr/>
          </p:nvSpPr>
          <p:spPr>
            <a:xfrm>
              <a:off x="4113360" y="6194520"/>
              <a:ext cx="1249200" cy="396720"/>
            </a:xfrm>
            <a:prstGeom prst="cube">
              <a:avLst>
                <a:gd name="adj" fmla="val 1470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37120" y="6310080"/>
              <a:ext cx="1131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$ Agosto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3033720" y="2506680"/>
            <a:ext cx="3048120" cy="27892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6093000" y="2541600"/>
            <a:ext cx="3051000" cy="281304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0" y="2508120"/>
            <a:ext cx="304812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Flujos de Transporte 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64960" y="266760"/>
            <a:ext cx="88790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Auto: Arcos urbanos más Congestion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631880" y="1238400"/>
          <a:ext cx="6116760" cy="55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1238400"/>
                    <a:ext cx="6116760" cy="55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0560" y="10116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Mirando desde la perspectiva del usuari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cis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Gen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desde donde y hacia d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en qué mo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Partición 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por qué ru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Son separables esas decisio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1212840" y="1523880"/>
            <a:ext cx="6718320" cy="46926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1552680" y="7632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: arcos con flujo &gt; 5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84788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1081080" y="1676520"/>
            <a:ext cx="6981840" cy="46418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552680" y="42876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 : arcos con flujo &gt; 10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950160" cy="45576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1552680" y="7632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 : arcos con flujo &gt; 15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685800" y="14029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o el 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44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5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a mañ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44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6,3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a t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50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9,0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era de pu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37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3,3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iempos de viaje promed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Planes e Inversión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RED%20CONCESIONES%20Urbanas" descr=""/>
          <p:cNvPicPr/>
          <p:nvPr/>
        </p:nvPicPr>
        <p:blipFill>
          <a:blip r:embed="rId1"/>
          <a:stretch/>
        </p:blipFill>
        <p:spPr>
          <a:xfrm>
            <a:off x="3809880" y="1290600"/>
            <a:ext cx="5181840" cy="47242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Autopistas Urban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447920"/>
            <a:ext cx="38102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150 km 2001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US$ 2 000 mill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Red de Metr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14400" y="1447920"/>
            <a:ext cx="288936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Hoy: 3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2006: 8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Inversión: MMUS$ 1.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727440" y="1312920"/>
            <a:ext cx="4479840" cy="5362560"/>
            <a:chOff x="3727440" y="1312920"/>
            <a:chExt cx="4479840" cy="5362560"/>
          </a:xfrm>
        </p:grpSpPr>
        <p:pic>
          <p:nvPicPr>
            <p:cNvPr id="482" name="foto_redmetro_zoom" descr=""/>
            <p:cNvPicPr/>
            <p:nvPr/>
          </p:nvPicPr>
          <p:blipFill>
            <a:blip r:embed="rId1"/>
            <a:stretch/>
          </p:blipFill>
          <p:spPr>
            <a:xfrm>
              <a:off x="3727440" y="1338120"/>
              <a:ext cx="4479840" cy="53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7264440" y="3214800"/>
              <a:ext cx="566640" cy="31147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62440" y="2755800"/>
              <a:ext cx="746280" cy="3715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30960" y="5089680"/>
              <a:ext cx="336600" cy="66168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3600000">
              <a:off x="6181560" y="4398840"/>
              <a:ext cx="739800" cy="18511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54600" y="1312920"/>
              <a:ext cx="336600" cy="126216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320" y="247320"/>
            <a:ext cx="8675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Transporte en Santiag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. Descripción Socio-económ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2. Sistema de Transpor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 Demand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4. Flujos de Transpor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Ch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447920"/>
            <a:ext cx="77738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Población: 15.1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Ingreso per capita: US$ 4 260 (World B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Distribución del ingreso:  </a:t>
            </a:r>
            <a:r>
              <a:rPr b="0" lang="es-ES_tradnl" sz="2800" spc="-1" strike="noStrike">
                <a:solidFill>
                  <a:srgbClr val="4d4d4d"/>
                </a:solidFill>
                <a:latin typeface="Arial"/>
              </a:rPr>
              <a:t>V/I = 15,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832040" y="3889440"/>
          <a:ext cx="5933880" cy="213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2040" y="3889440"/>
                    <a:ext cx="593388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Descripción Socio- Económica Espacial de Santiago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HOGTCO97" descr=""/>
          <p:cNvPicPr/>
          <p:nvPr/>
        </p:nvPicPr>
        <p:blipFill>
          <a:blip r:embed="rId1"/>
          <a:stretch/>
        </p:blipFill>
        <p:spPr>
          <a:xfrm>
            <a:off x="3560760" y="1590840"/>
            <a:ext cx="5583240" cy="4405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Santia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280" y="1287360"/>
            <a:ext cx="4076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Población: 5.5 m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Area: 425 km</a:t>
            </a:r>
            <a:r>
              <a:rPr b="0" lang="es-MX" sz="2800" spc="-1" strike="noStrike" baseline="30000">
                <a:solidFill>
                  <a:srgbClr val="4d4d4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Densidad: 13 000 h/km</a:t>
            </a:r>
            <a:r>
              <a:rPr b="0" lang="es-MX" sz="2800" spc="-1" strike="noStrike" baseline="30000">
                <a:solidFill>
                  <a:srgbClr val="4d4d4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34 Municipa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47% del GDP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6000" y="1665360"/>
            <a:ext cx="6443640" cy="4694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30520" y="63360"/>
            <a:ext cx="60213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Número de hog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9:24:41Z</dcterms:created>
  <dc:creator>cvaleze</dc:creator>
  <dc:description/>
  <dc:language>en-US</dc:language>
  <cp:lastModifiedBy>Marcela Munizaga</cp:lastModifiedBy>
  <cp:lastPrinted>2004-05-14T03:25:37Z</cp:lastPrinted>
  <dcterms:modified xsi:type="dcterms:W3CDTF">2004-08-10T03:35:08Z</dcterms:modified>
  <cp:revision>399</cp:revision>
  <dc:subject/>
  <dc:title>ENCUESTA ORIGEN DESTINO DEL GRAN SANTIAG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5213776</vt:r8>
  </property>
  <property fmtid="{D5CDD505-2E9C-101B-9397-08002B2CF9AE}" pid="3" name="_AuthorEmail">
    <vt:lpwstr>egodoy@sectra.cl</vt:lpwstr>
  </property>
  <property fmtid="{D5CDD505-2E9C-101B-9397-08002B2CF9AE}" pid="4" name="_AuthorEmailDisplayName">
    <vt:lpwstr>Esteban Godoy</vt:lpwstr>
  </property>
  <property fmtid="{D5CDD505-2E9C-101B-9397-08002B2CF9AE}" pid="5" name="_EmailSubject">
    <vt:lpwstr>Presentación conferencia EOD 2001 v5</vt:lpwstr>
  </property>
</Properties>
</file>