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5D56-413F-4833-B239-AF4FCF0A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CD4-131F-44A0-B05D-9B39A47F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87B-3A86-4979-82FE-4ABCABF9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946-80E7-43C2-B4D5-C000EEDA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102-CC95-4F17-882C-E22FC3F3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EFD-BC20-477F-9AEE-EF0E24D6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496-7A20-4D56-B2D2-92FB9C21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9C4-80E7-4EA9-B8F8-ADEAB296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CE5-D60D-4C96-B911-70FE67BE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EE9-DF16-4E25-9253-0EBE8C1D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0C4-58C8-4B36-B542-3CF3F2C4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F65-00B5-4A83-8C26-F47A10E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1288-5446-402B-8738-05630BBC6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8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</cp:lastModifiedBy>
  <dcterms:modified xsi:type="dcterms:W3CDTF">2004-07-29T06:22:14Z</dcterms:modified>
  <cp:revision>13</cp:revision>
  <dc:subject/>
  <dc:title>Definiciones y conceptos básicos</dc:title>
</cp:coreProperties>
</file>