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0EE-FBFD-4408-B6AC-5BF90FC7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751-BF99-46D4-BDA8-19E35166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5039-7512-46A6-8775-1EC2BD8D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901D-0E39-48F1-8D70-A67B3A55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429-5A09-4BCB-BA41-84E3C1B1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852-ED83-4D5D-85FB-9974FCC2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3EE-958F-4C0D-85A5-9A081633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8602-773F-4CDC-AD1B-BC8ABF75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FB34-3750-4ABF-9982-5D44F536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54AC-5368-407C-9B8F-BD6B6B8F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4DE-07EA-4AF8-9D3E-A4DD4278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AE0-456C-467E-8DA1-2E2DE02D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1F6A-4292-4AF7-8517-656836E86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124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6483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46483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</cp:lastModifiedBy>
  <dcterms:modified xsi:type="dcterms:W3CDTF">2004-07-29T06:22:14Z</dcterms:modified>
  <cp:revision>13</cp:revision>
  <dc:subject/>
  <dc:title>Definiciones y conceptos básicos</dc:title>
</cp:coreProperties>
</file>