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579-499E-4191-AAD5-0FC7C4B5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AEF-58BD-4887-A958-3CF356C8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10E-FDC6-494E-A4E2-03BF7D5D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293-052C-4946-89CF-8757F3D5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9F6-3557-4C11-885B-102D5E13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F1F-B71A-45B2-AC71-51E579B0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C8E-AA70-4839-A63E-E8BE8969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BCF-2079-45A3-B877-05402B76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976-235E-4D89-AABE-A99A9E7B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0B6-BD88-427D-AB73-8192235E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876-2163-4B3A-A619-32C61F4F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BC8-54DD-4B79-9B1D-186D6CC3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C6C-1CEA-442E-84E9-C3BE76773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124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4-07-29T06:22:14Z</dcterms:modified>
  <cp:revision>13</cp:revision>
  <dc:subject/>
  <dc:title>Definiciones y conceptos básicos</dc:title>
</cp:coreProperties>
</file>