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83F3-775E-45CF-A2AB-3593FD631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9136-AE3B-47B6-A6BB-17524303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7A14-26F3-44CE-AFAF-83FCD4DB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9099-ECF9-4161-9A6F-D30EDE3BC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019F-C443-4B3F-B5C5-CED5ECC9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9287-6DCA-4902-A48C-1466E21D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330E-3CC0-43B4-A25A-184A8668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74D8-81C6-414F-A6A3-6FDCCBE5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E0AA-E373-49A5-AB05-6C87B3F9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4C68-EA53-4F34-9DB4-1F8B15FA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33A9-A760-46C1-9EE5-18C274B6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9527-A1FA-4959-822C-7B368F21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B5BA-8884-4B82-BEB9-F1592E65B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   :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híc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: Sistema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blación, ingreso, empleo, producción, loc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 : Estructura de Flujos en 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 - destino - ruta - volumen de pasajeros y carga - 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9907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124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6483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77120" y="46483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traslad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ntre un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orige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 un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destin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de un cierto tipo de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persona o carg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on un cierto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propósi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ugar en que se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inici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l 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ugar en que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termin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l via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uencia de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arc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tilizados para llegar desde un origen a un dest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Vol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ff"/>
                </a:solidFill>
                <a:latin typeface="Comic Sans MS"/>
              </a:rPr>
              <a:t>agregació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de los viajes de personas o carga, agregados en base a algún criterio (multidimensional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ivel de Serv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racterísticas del servicio experimentado por los usuarios de  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 de ac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d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562720" y="5257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s un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4792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nfoque Man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1828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32767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2438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2209680"/>
            <a:ext cx="1803240" cy="723960"/>
          </a:xfrm>
          <a:custGeom>
            <a:avLst/>
            <a:gdLst/>
            <a:ahLst/>
            <a:rect l="l" t="t" r="r" b="b"/>
            <a:pathLst>
              <a:path w="1136" h="456">
                <a:moveTo>
                  <a:pt x="0" y="0"/>
                </a:moveTo>
                <a:cubicBezTo>
                  <a:pt x="60" y="156"/>
                  <a:pt x="120" y="312"/>
                  <a:pt x="288" y="384"/>
                </a:cubicBezTo>
                <a:cubicBezTo>
                  <a:pt x="456" y="456"/>
                  <a:pt x="880" y="424"/>
                  <a:pt x="1008" y="432"/>
                </a:cubicBezTo>
                <a:cubicBezTo>
                  <a:pt x="1136" y="440"/>
                  <a:pt x="1096" y="436"/>
                  <a:pt x="1056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2895480"/>
            <a:ext cx="1752480" cy="685800"/>
          </a:xfrm>
          <a:custGeom>
            <a:avLst/>
            <a:gdLst/>
            <a:ahLst/>
            <a:rect l="l" t="t" r="r" b="b"/>
            <a:pathLst>
              <a:path w="1104" h="432">
                <a:moveTo>
                  <a:pt x="0" y="432"/>
                </a:moveTo>
                <a:cubicBezTo>
                  <a:pt x="28" y="300"/>
                  <a:pt x="56" y="168"/>
                  <a:pt x="240" y="96"/>
                </a:cubicBezTo>
                <a:cubicBezTo>
                  <a:pt x="424" y="24"/>
                  <a:pt x="764" y="12"/>
                  <a:pt x="11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1905120"/>
            <a:ext cx="190476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1200" y="336"/>
                </a:moveTo>
                <a:cubicBezTo>
                  <a:pt x="1060" y="216"/>
                  <a:pt x="920" y="96"/>
                  <a:pt x="720" y="48"/>
                </a:cubicBezTo>
                <a:cubicBezTo>
                  <a:pt x="520" y="0"/>
                  <a:pt x="120" y="4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3048120"/>
            <a:ext cx="2057400" cy="723960"/>
          </a:xfrm>
          <a:custGeom>
            <a:avLst/>
            <a:gdLst/>
            <a:ahLst/>
            <a:rect l="l" t="t" r="r" b="b"/>
            <a:pathLst>
              <a:path w="1296" h="456">
                <a:moveTo>
                  <a:pt x="1296" y="0"/>
                </a:moveTo>
                <a:cubicBezTo>
                  <a:pt x="1140" y="156"/>
                  <a:pt x="984" y="312"/>
                  <a:pt x="768" y="384"/>
                </a:cubicBezTo>
                <a:cubicBezTo>
                  <a:pt x="552" y="456"/>
                  <a:pt x="276" y="444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7180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15238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: El patrón de viajes está determinado por A y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4120" y="31240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: La estructura de flujos provoca cambios en A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4120" y="4572000"/>
            <a:ext cx="3429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: La estructura de flujos provoca cambios en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se puede influir en el sistema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e consecuencias producirá un determinado camb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=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valu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Quienes toman decis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b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858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3352680"/>
            <a:ext cx="28954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B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05480" y="911160"/>
            <a:ext cx="7354080" cy="61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obre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ecnológicas, topológicas, de política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obr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 corto plazo: ¿viajar o 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 largo plazo: localización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mpact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la sociedad en su conju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74880" y="198108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2209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2286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04:04:44Z</dcterms:created>
  <dc:creator>Marcela Munizaga</dc:creator>
  <dc:description/>
  <dc:language>en-US</dc:language>
  <cp:lastModifiedBy>Marcela Munizaga</cp:lastModifiedBy>
  <dcterms:modified xsi:type="dcterms:W3CDTF">2004-07-29T06:22:14Z</dcterms:modified>
  <cp:revision>13</cp:revision>
  <dc:subject/>
  <dc:title>Definiciones y conceptos básicos</dc:title>
</cp:coreProperties>
</file>