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9CB-F23D-404E-9CCE-DCDC2E9D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812-2504-4439-BDCF-9609744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79E-68AC-45AF-8BD0-035AD5AD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DBF-4EF4-4069-AA18-3EE906DA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92DE-4BE5-4FB3-8D7E-9522083F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AD25-3F33-48A8-9D1C-D0EDEC84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9BAD-8284-4471-B1F1-999019C7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40F7-8C9E-4C78-9DEC-53E23E67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0237-3FE0-49D5-ADC6-F2204D06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FFE1-E404-46E7-B229-ABB13EA9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2E71-1F39-4C9F-8504-C287D4B6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BB5-82CE-42B5-A05F-3CBCED70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1039-E20F-404E-AB73-7C18F83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56CF-89AE-47A3-A043-62B3D430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8EB7-E1D8-4354-B5FE-1A6CC79A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A11-F568-42D6-BF6B-055B1E6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C894-F61C-4849-9C8A-D6FA3662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A80-C1C4-4D25-B206-2AF4CA02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C9A-14F8-4DD3-9424-D9A2954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648-5151-408C-B6FC-28162A25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EFC-65A4-4CFA-8AC5-87AE79EE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6D9-C51B-45BA-9D3D-7B0D0A8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867-4243-4DC7-AF6D-1E14573A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49B-CD40-49E1-A873-ECB7D11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8438-9D3F-4F00-925E-048B38FF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60AA-A0DD-4E9D-949D-F2806ED5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nsmilenio.gov.co/index.htm" TargetMode="External"/><Relationship Id="rId2" Type="http://schemas.openxmlformats.org/officeDocument/2006/relationships/hyperlink" Target="http://www.transmilenio.gov.co/index.htm" TargetMode="External"/><Relationship Id="rId3" Type="http://schemas.openxmlformats.org/officeDocument/2006/relationships/hyperlink" Target="http://www.transmilenio.gov.co/index.htm" TargetMode="External"/><Relationship Id="rId4" Type="http://schemas.openxmlformats.org/officeDocument/2006/relationships/hyperlink" Target="http://www.tramz.com/ec/q/00.html" TargetMode="External"/><Relationship Id="rId5" Type="http://schemas.openxmlformats.org/officeDocument/2006/relationships/hyperlink" Target="http://www.tramz.com/ec/q/00.html" TargetMode="External"/><Relationship Id="rId6" Type="http://schemas.openxmlformats.org/officeDocument/2006/relationships/hyperlink" Target="http://www.publicpurpose.com/pp-ctut.htm" TargetMode="External"/><Relationship Id="rId7" Type="http://schemas.openxmlformats.org/officeDocument/2006/relationships/hyperlink" Target="http://www.publicpurpose.com/pp-ctut.htm" TargetMode="External"/><Relationship Id="rId8" Type="http://schemas.openxmlformats.org/officeDocument/2006/relationships/hyperlink" Target="http://www.transantiago.cl/" TargetMode="External"/><Relationship Id="rId9" Type="http://schemas.openxmlformats.org/officeDocument/2006/relationships/hyperlink" Target="http://www.transantiago.cl/" TargetMode="External"/><Relationship Id="rId10" Type="http://schemas.openxmlformats.org/officeDocument/2006/relationships/hyperlink" Target="http://www.transantiago.cl/" TargetMode="External"/><Relationship Id="rId11" Type="http://schemas.openxmlformats.org/officeDocument/2006/relationships/hyperlink" Target="http://www.transantiago.cl/" TargetMode="External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upos de 3 a 4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0 Julio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 Coord. Tal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2: Links a proyectos de sistemas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133720"/>
            <a:ext cx="6278400" cy="303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transmilenio.gov.co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index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oleys Quito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www.tramz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/ec/q/00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www.publicpurpose.com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7"/>
              </a:rPr>
              <a:t>/pp-ctut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rificación vial Londres: </a:t>
            </a:r>
            <a:r>
              <a:rPr b="0" lang="es-ES_tradn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cclondon.com</a:t>
            </a:r>
            <a:r>
              <a:rPr b="0" lang="es-ES_tradnl" sz="2400" spc="-1" strike="noStrike">
                <a:solidFill>
                  <a:srgbClr val="99cc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8"/>
              </a:rPr>
              <a:t>http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9"/>
              </a:rPr>
              <a:t>://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0"/>
              </a:rPr>
              <a:t>www.transantiago.cl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1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486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: se derá puntaje adicional a quienes presenten proyectos distintos a los de l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arcela Munizaga</cp:lastModifiedBy>
  <dcterms:modified xsi:type="dcterms:W3CDTF">2004-07-28T08:21:58Z</dcterms:modified>
  <cp:revision>15</cp:revision>
  <dc:subject/>
  <dc:title>Taller  I</dc:title>
</cp:coreProperties>
</file>