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C36-0834-404E-8806-20678472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354-42E9-4A4D-ABA3-BEA07E5E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70E-CCC4-4AAB-8852-CD7D0F86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7F2-9698-4067-88F5-AE5C46EA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49A2-2EBE-46E4-AB07-1F343F7C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6814-77A4-4499-93D4-C165C9B7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4F4A-5D0F-4D7E-BF64-5C567F4A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088D-FAFF-4D72-BA0C-8DBF8EE9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E771-4D25-4360-AB9F-D7DE4C6C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35F1-5DB1-4D93-A337-470AB4E4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9D0F-15A7-4D46-BB5E-6CA36057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4E1-96E4-4F98-B2E3-B4FBC05E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B0F1-6CBE-4758-8792-30B41BD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B36B-D974-4783-885C-0976303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89E7-E2C9-4C44-8635-85B9778F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E0CA-F509-4F20-8AE2-BB342BDE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BB2F-EDC7-4539-94EC-4D3010F8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E2A-0CD1-47F8-AAFB-461B1B5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53B-C8E4-4191-B62E-54156EDB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7D1-A4BE-4208-9DB9-535C691E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999-A30F-4A73-8EB3-2CF27571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18E-5A03-4C44-B2F9-5CA552EF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632-D336-4E5E-AB0C-630FCC5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21C-8A90-4EAD-ABDF-1309C508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40EC-9579-4810-84F0-08B0662EA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A9AF-0C51-4EE5-959D-5FDD30A6A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ransmilenio.gov.co/index.htm" TargetMode="External"/><Relationship Id="rId2" Type="http://schemas.openxmlformats.org/officeDocument/2006/relationships/hyperlink" Target="http://www.transmilenio.gov.co/index.htm" TargetMode="External"/><Relationship Id="rId3" Type="http://schemas.openxmlformats.org/officeDocument/2006/relationships/hyperlink" Target="http://www.transmilenio.gov.co/index.htm" TargetMode="External"/><Relationship Id="rId4" Type="http://schemas.openxmlformats.org/officeDocument/2006/relationships/hyperlink" Target="http://www.tramz.com/ec/q/00.html" TargetMode="External"/><Relationship Id="rId5" Type="http://schemas.openxmlformats.org/officeDocument/2006/relationships/hyperlink" Target="http://www.tramz.com/ec/q/00.html" TargetMode="External"/><Relationship Id="rId6" Type="http://schemas.openxmlformats.org/officeDocument/2006/relationships/hyperlink" Target="http://www.publicpurpose.com/pp-ctut.htm" TargetMode="External"/><Relationship Id="rId7" Type="http://schemas.openxmlformats.org/officeDocument/2006/relationships/hyperlink" Target="http://www.publicpurpose.com/pp-ctut.htm" TargetMode="External"/><Relationship Id="rId8" Type="http://schemas.openxmlformats.org/officeDocument/2006/relationships/hyperlink" Target="http://www.transantiago.cl/" TargetMode="External"/><Relationship Id="rId9" Type="http://schemas.openxmlformats.org/officeDocument/2006/relationships/hyperlink" Target="http://www.transantiago.cl/" TargetMode="External"/><Relationship Id="rId10" Type="http://schemas.openxmlformats.org/officeDocument/2006/relationships/hyperlink" Target="http://www.transantiago.cl/" TargetMode="External"/><Relationship Id="rId11" Type="http://schemas.openxmlformats.org/officeDocument/2006/relationships/hyperlink" Target="http://www.transantiago.cl/" TargetMode="External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upos de 3 a 4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9436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0 Julio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 Coord. Tal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2: Links a proyectos de sistemas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133720"/>
            <a:ext cx="6278400" cy="303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ww.transmilenio.gov.co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index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oleys Quito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www.tramz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/ec/q/00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www.publicpurpose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7"/>
              </a:rPr>
              <a:t>/pp-ctut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rificación vial Londres: </a:t>
            </a:r>
            <a:r>
              <a:rPr b="0" lang="es-ES_tradn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cclondon.com</a:t>
            </a:r>
            <a:r>
              <a:rPr b="0" lang="es-ES_tradnl" sz="2400" spc="-1" strike="noStrike">
                <a:solidFill>
                  <a:srgbClr val="99cc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8"/>
              </a:rPr>
              <a:t>http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9"/>
              </a:rPr>
              <a:t>:/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0"/>
              </a:rPr>
              <a:t>www.transantiago.cl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1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486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: se derá puntaje adicional a quienes presenten proyectos distintos a los de la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Marcela Munizaga</cp:lastModifiedBy>
  <dcterms:modified xsi:type="dcterms:W3CDTF">2004-07-28T08:21:58Z</dcterms:modified>
  <cp:revision>15</cp:revision>
  <dc:subject/>
  <dc:title>Taller  I</dc:title>
</cp:coreProperties>
</file>