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90D-C826-4B84-9C3A-570DB63B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364-5C34-4DD7-A448-1A0A98B6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324-77BB-4E20-97EA-6A866932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CB7-F7E1-4A89-A200-BEFDA3AA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8F35-E2C3-4402-8BD0-FFC338BE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11D6-BBA0-4C3F-A929-F8C2D06D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ECA5-1922-43C9-BC82-C090D3FF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182A-BA09-4B5A-9320-3BAD0F1D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3B9F-4607-43B7-B9AB-6D00B8BC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8B05-D0F0-4D15-8490-5D32A1AF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70AC-9582-4A54-8F4B-424D5535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628-D51A-4C53-8A36-7E7F8893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5827-4D81-4257-97CD-42CA85E7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5CE3-4B45-455A-B4FD-2EA45F37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7E39-4F9D-489C-AFB0-A7D7F809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2BFC-47DD-4428-BDC6-772B43F9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7339-E361-400C-A0D5-B5D592B7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AFA4-9ADD-42A6-9519-1881C82D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364-AFD5-42D5-9372-0C579E22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99B-D154-4448-A28D-FEA37381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CA3-949E-4722-ADB7-800D6519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C00-C368-4AD2-A222-A2D57988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339-7AE8-42E9-B2D3-1485512B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45D-73C5-46C5-BD1A-CCDE800B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66EE-B55D-4DE3-80E4-7047A8A8E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79C0-1602-4D50-9803-249577E91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ransmilenio.gov.co/index.htm" TargetMode="External"/><Relationship Id="rId2" Type="http://schemas.openxmlformats.org/officeDocument/2006/relationships/hyperlink" Target="http://www.transmilenio.gov.co/index.htm" TargetMode="External"/><Relationship Id="rId3" Type="http://schemas.openxmlformats.org/officeDocument/2006/relationships/hyperlink" Target="http://www.transmilenio.gov.co/index.htm" TargetMode="External"/><Relationship Id="rId4" Type="http://schemas.openxmlformats.org/officeDocument/2006/relationships/hyperlink" Target="http://www.tramz.com/ec/q/00.html" TargetMode="External"/><Relationship Id="rId5" Type="http://schemas.openxmlformats.org/officeDocument/2006/relationships/hyperlink" Target="http://www.tramz.com/ec/q/00.html" TargetMode="External"/><Relationship Id="rId6" Type="http://schemas.openxmlformats.org/officeDocument/2006/relationships/hyperlink" Target="http://www.publicpurpose.com/pp-ctut.htm" TargetMode="External"/><Relationship Id="rId7" Type="http://schemas.openxmlformats.org/officeDocument/2006/relationships/hyperlink" Target="http://www.publicpurpose.com/pp-ctut.htm" TargetMode="External"/><Relationship Id="rId8" Type="http://schemas.openxmlformats.org/officeDocument/2006/relationships/hyperlink" Target="http://www.transantiago.cl/" TargetMode="External"/><Relationship Id="rId9" Type="http://schemas.openxmlformats.org/officeDocument/2006/relationships/hyperlink" Target="http://www.transantiago.cl/" TargetMode="External"/><Relationship Id="rId10" Type="http://schemas.openxmlformats.org/officeDocument/2006/relationships/hyperlink" Target="http://www.transantiago.cl/" TargetMode="External"/><Relationship Id="rId11" Type="http://schemas.openxmlformats.org/officeDocument/2006/relationships/hyperlink" Target="http://www.transantiago.cl/" TargetMode="External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43A Taller  I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Sistema de Transporte Urb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upos de 3 a 4 perso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94360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0 Julio 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) Identificar 10 intervenciones sobre el Sist. de Actividades y sobre el Sist. de Transporte.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) Navegar en la web revisando un proyecto o estudio por grupo. Enviar resumen a Coord. Tall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rea 1: Intervenciones identificad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1793880"/>
          <a:ext cx="721188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93880"/>
                    <a:ext cx="72118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Tarea 2: Contenido de Resumen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mbre, Ciudad y Paí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didas a Imple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ón de Medidas Ya Implement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rea 2: Links a proyectos de sistemas de transpor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133720"/>
            <a:ext cx="6278400" cy="303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ogotá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www.transmilenio.gov.co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/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index.htm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roleys Quito: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www.tramz.com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5"/>
              </a:rPr>
              <a:t>/ec/q/00.html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: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6"/>
              </a:rPr>
              <a:t>www.publicpurpose.com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7"/>
              </a:rPr>
              <a:t>/pp-ctut.htm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rificación vial Londres: </a:t>
            </a:r>
            <a:r>
              <a:rPr b="0" lang="es-ES_tradn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cclondon.com</a:t>
            </a:r>
            <a:r>
              <a:rPr b="0" lang="es-ES_tradnl" sz="2400" spc="-1" strike="noStrike">
                <a:solidFill>
                  <a:srgbClr val="99ccff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TUS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8"/>
              </a:rPr>
              <a:t>http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9"/>
              </a:rPr>
              <a:t>://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10"/>
              </a:rPr>
              <a:t>www.transantiago.cl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11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54864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s: se derá puntaje adicional a quienes presenten proyectos distintos a los de la 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Marcela Munizaga</cp:lastModifiedBy>
  <dcterms:modified xsi:type="dcterms:W3CDTF">2004-07-28T08:21:58Z</dcterms:modified>
  <cp:revision>15</cp:revision>
  <dc:subject/>
  <dc:title>Taller  I</dc:title>
</cp:coreProperties>
</file>