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543-B9F7-4FA0-A212-6BA7AEC0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59C-22DC-4EC1-97A6-ED1B4080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07D-F7CC-4FB7-B876-4132920D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9D8-2B47-457A-9504-73EEF48B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31FA-EF89-42C8-AB86-65A59278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3BEE-ED4D-49CE-B2FE-6038668D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0D22-AFCF-4AD4-8481-5B955D8C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0DB1-E886-4F1E-9A4D-98C641D2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7F59-DCA5-4C95-9FEB-131CFA81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36F3-A6C7-401D-87C2-AF568053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0F70-C703-470B-BA13-D65F9C1B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1AC-F2F7-459C-A265-91F1B09E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55A3-C03D-4452-A370-08E8BB60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98CF-A234-4410-863F-112738B1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A3BD-88C3-4DC7-BCD2-880250C5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FD64-344E-4BFA-99D4-28E1FADA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6040-B5D6-4430-8A22-BD3E49A5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1B8-1BDF-4DF5-AC95-63761896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56E-7FF8-4E73-A9E5-69E93555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C21-E69B-4A34-AF7E-5DAB737D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0AC-73CA-4430-89B4-0CB84380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C04-4E85-446F-9DB9-D212F048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850-D332-4E59-ADFB-F272CE1B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C53-09C1-4923-9A58-0FAEC50D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C46F-8507-445C-A37D-6AE5166B8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A8CF-8995-4A1C-8834-B71F51CF1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ransmilenio.gov.co/index.htm" TargetMode="External"/><Relationship Id="rId2" Type="http://schemas.openxmlformats.org/officeDocument/2006/relationships/hyperlink" Target="http://www.transmilenio.gov.co/index.htm" TargetMode="External"/><Relationship Id="rId3" Type="http://schemas.openxmlformats.org/officeDocument/2006/relationships/hyperlink" Target="http://www.transmilenio.gov.co/index.htm" TargetMode="External"/><Relationship Id="rId4" Type="http://schemas.openxmlformats.org/officeDocument/2006/relationships/hyperlink" Target="http://www.tramz.com/ec/q/00.html" TargetMode="External"/><Relationship Id="rId5" Type="http://schemas.openxmlformats.org/officeDocument/2006/relationships/hyperlink" Target="http://www.tramz.com/ec/q/00.html" TargetMode="External"/><Relationship Id="rId6" Type="http://schemas.openxmlformats.org/officeDocument/2006/relationships/hyperlink" Target="http://www.publicpurpose.com/pp-ctut.htm" TargetMode="External"/><Relationship Id="rId7" Type="http://schemas.openxmlformats.org/officeDocument/2006/relationships/hyperlink" Target="http://www.publicpurpose.com/pp-ctut.htm" TargetMode="External"/><Relationship Id="rId8" Type="http://schemas.openxmlformats.org/officeDocument/2006/relationships/hyperlink" Target="http://www.transantiago.cl/" TargetMode="External"/><Relationship Id="rId9" Type="http://schemas.openxmlformats.org/officeDocument/2006/relationships/hyperlink" Target="http://www.transantiago.cl/" TargetMode="External"/><Relationship Id="rId10" Type="http://schemas.openxmlformats.org/officeDocument/2006/relationships/hyperlink" Target="http://www.transantiago.cl/" TargetMode="External"/><Relationship Id="rId11" Type="http://schemas.openxmlformats.org/officeDocument/2006/relationships/hyperlink" Target="http://www.transantiago.cl/" TargetMode="External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43A Taller  I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istema de Transporte Urb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upos de 3 a 4 perso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94360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0 Julio 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) Identificar 10 intervenciones sobre el Sist. de Actividades y sobre el Sist. de Transporte.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) Navegar en la web revisando un proyecto o estudio por grupo. Enviar resumen a Coord. Tall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rea 1: Intervenciones identificad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1793880"/>
          <a:ext cx="721188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93880"/>
                    <a:ext cx="72118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Tarea 2: Contenido de Resumen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mbre, Ciudad y Paí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das a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ón de Medidas Ya Implement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rea 2: Links a proyectos de sistemas de transpor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133720"/>
            <a:ext cx="6278400" cy="303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ogotá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www.transmilenio.gov.co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/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index.htm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roleys Quito: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www.tramz.com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5"/>
              </a:rPr>
              <a:t>/ec/q/00.html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: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6"/>
              </a:rPr>
              <a:t>www.publicpurpose.com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7"/>
              </a:rPr>
              <a:t>/pp-ctut.htm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rificación vial Londres: </a:t>
            </a:r>
            <a:r>
              <a:rPr b="0" lang="es-ES_tradn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cclondon.com</a:t>
            </a:r>
            <a:r>
              <a:rPr b="0" lang="es-ES_tradnl" sz="2400" spc="-1" strike="noStrike">
                <a:solidFill>
                  <a:srgbClr val="99ccff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TUS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8"/>
              </a:rPr>
              <a:t>http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9"/>
              </a:rPr>
              <a:t>://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0"/>
              </a:rPr>
              <a:t>www.transantiago.cl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1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54864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s: se derá puntaje adicional a quienes presenten proyectos distintos a los de la 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Marcela Munizaga</cp:lastModifiedBy>
  <dcterms:modified xsi:type="dcterms:W3CDTF">2004-07-28T08:21:58Z</dcterms:modified>
  <cp:revision>15</cp:revision>
  <dc:subject/>
  <dc:title>Taller  I</dc:title>
</cp:coreProperties>
</file>