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81F-6BE8-4856-AF83-33D4F9C8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566-2CB1-4778-9D10-75B0B5BC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2DB-4576-4E43-AE3D-F246ABBE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B61-C1B3-4300-9AED-25D52B9C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DE17-D743-4BCF-A0D5-7D931AA4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5AFA-1321-4DE2-A9A8-0C314DD1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8B40-28D6-42BE-B7A6-A91C8FFA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F28C-AA8E-450C-A3B4-937B929F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745C-ACA9-491A-8418-2DC92017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440B-F7A4-447B-90FA-C69FB73B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E747-18AA-473C-B50D-920CA623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DCE-FFC8-47B1-9B85-830C0A28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F849-3E1B-4095-B8AD-7CD53BA1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0D59-77BE-4C45-ACBA-DC1BF4A2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48EA-1C3E-43FF-BF19-506C7826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A166-4C19-4EB3-9985-1504963E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1D6F-C0C9-441F-BC9F-4AC1E36B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0C5-ABF3-4E50-B213-3827B917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BEE-24CF-4F96-A937-3ABE1AC9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5B6-6A41-4970-ABF5-89640AE9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01B-69CB-4F04-BA9A-3C48558C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DF2-99DF-4300-A806-22838D9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9F6-3583-45C6-AA78-DF53D594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A33-22A3-4DCA-B26B-917AA43D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7684-4B14-4124-A55E-55A5ECCD9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BF81-D1C4-41F4-91D9-EEAD45BDE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ransmilenio.gov.co/index.htm" TargetMode="External"/><Relationship Id="rId2" Type="http://schemas.openxmlformats.org/officeDocument/2006/relationships/hyperlink" Target="http://www.transmilenio.gov.co/index.htm" TargetMode="External"/><Relationship Id="rId3" Type="http://schemas.openxmlformats.org/officeDocument/2006/relationships/hyperlink" Target="http://www.transmilenio.gov.co/index.htm" TargetMode="External"/><Relationship Id="rId4" Type="http://schemas.openxmlformats.org/officeDocument/2006/relationships/hyperlink" Target="http://www.tramz.com/ec/q/00.html" TargetMode="External"/><Relationship Id="rId5" Type="http://schemas.openxmlformats.org/officeDocument/2006/relationships/hyperlink" Target="http://www.tramz.com/ec/q/00.html" TargetMode="External"/><Relationship Id="rId6" Type="http://schemas.openxmlformats.org/officeDocument/2006/relationships/hyperlink" Target="http://www.publicpurpose.com/pp-ctut.htm" TargetMode="External"/><Relationship Id="rId7" Type="http://schemas.openxmlformats.org/officeDocument/2006/relationships/hyperlink" Target="http://www.publicpurpose.com/pp-ctut.htm" TargetMode="External"/><Relationship Id="rId8" Type="http://schemas.openxmlformats.org/officeDocument/2006/relationships/hyperlink" Target="http://www.transantiago.cl/" TargetMode="External"/><Relationship Id="rId9" Type="http://schemas.openxmlformats.org/officeDocument/2006/relationships/hyperlink" Target="http://www.transantiago.cl/" TargetMode="External"/><Relationship Id="rId10" Type="http://schemas.openxmlformats.org/officeDocument/2006/relationships/hyperlink" Target="http://www.transantiago.cl/" TargetMode="External"/><Relationship Id="rId11" Type="http://schemas.openxmlformats.org/officeDocument/2006/relationships/hyperlink" Target="http://www.transantiago.cl/" TargetMode="External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upos de 3 a 4 pers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94360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0 Julio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 Coord. Tall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2: Links a proyectos de sistemas de transpo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133720"/>
            <a:ext cx="6278400" cy="303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ogotá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ww.transmilenio.gov.co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/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index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oleys Quito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www.tramz.com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/ec/q/00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6"/>
              </a:rPr>
              <a:t>www.publicpurpose.com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7"/>
              </a:rPr>
              <a:t>/pp-ctut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rificación vial Londres: </a:t>
            </a:r>
            <a:r>
              <a:rPr b="0" lang="es-ES_tradn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cclondon.com</a:t>
            </a:r>
            <a:r>
              <a:rPr b="0" lang="es-ES_tradnl" sz="2400" spc="-1" strike="noStrike">
                <a:solidFill>
                  <a:srgbClr val="99ccff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TUS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8"/>
              </a:rPr>
              <a:t>http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9"/>
              </a:rPr>
              <a:t>://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0"/>
              </a:rPr>
              <a:t>www.transantiago.cl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1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4864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: se derá puntaje adicional a quienes presenten proyectos distintos a los de la 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Marcela Munizaga</cp:lastModifiedBy>
  <dcterms:modified xsi:type="dcterms:W3CDTF">2004-07-28T08:21:58Z</dcterms:modified>
  <cp:revision>15</cp:revision>
  <dc:subject/>
  <dc:title>Taller  I</dc:title>
</cp:coreProperties>
</file>