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FB3-B3A4-4004-8C0A-20D81B31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2BA-3BC7-43F0-ABE5-CAA3ACF6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05F-728D-4DAB-9E75-B16964C1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9A2-87FB-4579-A4CF-91B11648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024-D823-4674-8F4A-678CEDD4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FBC-03EB-4F11-B1F0-E233412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FE4-19AA-4FB8-8B4A-3B50CD5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1CB-96BA-4752-A1E8-FEC97374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49A-BFAF-4838-B2A2-D6B4473F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639-9FEE-42A2-B0BF-7EC509BB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826-F741-45F0-8BF3-F78F4B7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126-AF81-4B7C-806F-1D897AF4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982-EF8A-4022-A9B8-CF7C35C2A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imena Vargas</cp:lastModifiedBy>
  <dcterms:modified xsi:type="dcterms:W3CDTF">2001-06-22T13:58:26Z</dcterms:modified>
  <cp:revision>1</cp:revision>
  <dc:subject/>
  <dc:title>Sin título de diapositiva</dc:title>
</cp:coreProperties>
</file>