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277-632A-4A0E-9166-F3965A6E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566-5B70-439B-B0F1-AF849E2C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CF9-ECED-4C0B-8205-0A8006E0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A8F-4713-4B74-A404-B344875E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1B2-A450-4C88-ABDF-C0C1AB05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DE8-46C0-4B8F-A85C-74D4284F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BD4-7EF4-456C-908D-94F11819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6BA-C0FA-46E3-AC3D-0C07E110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483-A05F-4CDA-BE49-0D937913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BE2-0478-4157-B7AC-5B7AE08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FEA-E6E4-4E72-9159-CAD6BE2D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F48-40F1-43F0-A321-5017AD56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837F-1EC9-4DEB-998D-9B1FEF1BC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imena Vargas</cp:lastModifiedBy>
  <dcterms:modified xsi:type="dcterms:W3CDTF">2001-06-22T13:58:26Z</dcterms:modified>
  <cp:revision>1</cp:revision>
  <dc:subject/>
  <dc:title>Sin título de diapositiva</dc:title>
</cp:coreProperties>
</file>