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D63-28B4-47A1-AC6E-0DA9BF0C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F44-BDFA-40AB-885C-45B6E99D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F59-58CC-46C6-A2A1-D4E02315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598-A02B-4A02-B6C1-87525A3D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718-3DB2-4CDC-9A76-BA49E3C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3A8-C0F9-42D5-9B02-A8167E00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E21-E3C0-4B59-844F-2D319C54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BBB-9530-4B75-BAB3-98BA4551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D89-090C-4230-A1AB-292E1D4C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C44-F0C2-497E-9A45-980351A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09E-593C-486C-B4FE-672F3D5A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890-A45C-4740-B85E-DFC70D41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0988-35DB-478F-8F61-0E562F223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imena Vargas</cp:lastModifiedBy>
  <dcterms:modified xsi:type="dcterms:W3CDTF">2001-06-22T13:58:26Z</dcterms:modified>
  <cp:revision>1</cp:revision>
  <dc:subject/>
  <dc:title>Sin título de diapositiva</dc:title>
</cp:coreProperties>
</file>