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A01D-F830-4004-8378-A2D8A17D2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67E8-7353-4C45-920C-9050592F5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817E-89BB-44B8-B0EF-03C23F0EF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D45A-9628-4517-9851-74C174EF7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0BF6-0006-48FD-A554-B08A70DA0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A749-8B1D-48DD-85D8-E224D3789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3892-067A-4A84-BCE9-4E6D87559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D06E-91C8-4995-B5C6-3CE4A7F37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7DDF-F5C0-46EA-903A-72FC83DE6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BEA0-508F-40A6-BE42-27B66EC7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3FC4-F5A6-4080-880C-FB43A94C3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D2EF-3E98-4658-9284-38C2B522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92B77-BA91-4132-BEAD-FDA31F125B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533520"/>
            <a:ext cx="62485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Reemplazando en ecuación de continu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685800" y="1981080"/>
                <a:ext cx="7467480" cy="19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Q</m:t>
                        </m:r>
                        <m:r>
                          <m:t xml:space="preserve">≡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" name=""/>
          <p:cNvSpPr/>
          <p:nvPr/>
        </p:nvSpPr>
        <p:spPr>
          <a:xfrm>
            <a:off x="1981080" y="4572000"/>
            <a:ext cx="281952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N(D) Q=M(D)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5257800" y="4800600"/>
                <a:ext cx="312408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1676520" y="6324480"/>
            <a:ext cx="45720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Función de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6019920"/>
            <a:ext cx="914400" cy="685800"/>
          </a:xfrm>
          <a:custGeom>
            <a:avLst/>
            <a:gdLst>
              <a:gd name="textAreaLeft" fmla="*/ 304920 w 914400"/>
              <a:gd name="textAreaRight" fmla="*/ 783360 w 914400"/>
              <a:gd name="textAreaTop" fmla="*/ 394920 h 685800"/>
              <a:gd name="textAreaBottom" fmla="*/ 587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712800" y="1236600"/>
            <a:ext cx="771372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712800" y="1236600"/>
            <a:ext cx="771372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80880" y="380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istemas Lineales en Tiempos Discr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9144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Precipitación: Ent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4138560" y="1295280"/>
                <a:ext cx="205272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</m:sub>
                      <m:sup>
                        <m:r>
                          <m:t xml:space="preserve">mΔ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685800" y="23623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Caudal: 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934320" y="1371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Times New Roman"/>
              </a:rPr>
              <a:t>m=1,2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29000" y="2819520"/>
            <a:ext cx="342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Q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Verdana"/>
              </a:rPr>
              <a:t>n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=Q(n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35812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El efecto que en t=n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 tiene el pulso de entrada de duración 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 que ocurrió en (m-1)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 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4724280"/>
            <a:ext cx="80773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h(t-(m-1)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)=h(n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-(m-1)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)=h(n-m+1)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971800" y="5486400"/>
                <a:ext cx="22860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</m:sup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838080" y="0"/>
            <a:ext cx="5334120" cy="3124080"/>
          </a:xfrm>
          <a:prstGeom prst="rect">
            <a:avLst/>
          </a:prstGeom>
          <a:ln w="0">
            <a:noFill/>
          </a:ln>
        </p:spPr>
      </p:pic>
      <p:grpSp>
        <p:nvGrpSpPr>
          <p:cNvPr id="185" name=""/>
          <p:cNvGrpSpPr/>
          <p:nvPr/>
        </p:nvGrpSpPr>
        <p:grpSpPr>
          <a:xfrm>
            <a:off x="3581280" y="0"/>
            <a:ext cx="2990880" cy="1371600"/>
            <a:chOff x="3581280" y="0"/>
            <a:chExt cx="2990880" cy="1371600"/>
          </a:xfrm>
        </p:grpSpPr>
        <mc:AlternateContent>
          <mc:Choice xmlns:a14="http://schemas.microsoft.com/office/drawing/2010/main" Requires="a14">
            <p:sp>
              <p:nvSpPr>
                <p:cNvPr id="186" name=""/>
                <p:cNvSpPr txBox="1"/>
                <p:nvPr/>
              </p:nvSpPr>
              <p:spPr>
                <a:xfrm>
                  <a:off x="4521240" y="0"/>
                  <a:ext cx="2050920" cy="103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(</m:t>
                          </m:r>
                          <m:r>
                            <m:t xml:space="preserve">m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  <m:r>
                            <m:t xml:space="preserve">Δt</m:t>
                          </m:r>
                        </m:sub>
                        <m:sup>
                          <m:r>
                            <m:t xml:space="preserve">mΔt</m:t>
                          </m:r>
                        </m:sup>
                        <m:e>
                          <m:r>
                            <m:t xml:space="preserve">i</m:t>
                          </m:r>
                          <m:r>
                            <m:t xml:space="preserve">(</m:t>
                          </m:r>
                          <m:r>
                            <m:t xml:space="preserve">τ</m:t>
                          </m:r>
                          <m:r>
                            <m:t xml:space="preserve">)</m:t>
                          </m:r>
                          <m:r>
                            <m:t xml:space="preserve">dτ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187" name=""/>
            <p:cNvSpPr/>
            <p:nvPr/>
          </p:nvSpPr>
          <p:spPr>
            <a:xfrm flipH="1">
              <a:off x="3581280" y="990720"/>
              <a:ext cx="914400" cy="380880"/>
            </a:xfrm>
            <a:prstGeom prst="line">
              <a:avLst/>
            </a:prstGeom>
            <a:ln w="38160">
              <a:solidFill>
                <a:srgbClr val="e1a3c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6248520" y="1752480"/>
            <a:ext cx="266688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i(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=0    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&gt;M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2895480"/>
            <a:ext cx="2133720" cy="0"/>
          </a:xfrm>
          <a:prstGeom prst="line">
            <a:avLst/>
          </a:prstGeom>
          <a:ln w="9360">
            <a:solidFill>
              <a:srgbClr val="6600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05120" y="2971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3200400" y="2895480"/>
            <a:ext cx="5638680" cy="2759760"/>
            <a:chOff x="3200400" y="2895480"/>
            <a:chExt cx="5638680" cy="2759760"/>
          </a:xfrm>
        </p:grpSpPr>
        <p:sp>
          <p:nvSpPr>
            <p:cNvPr id="192" name=""/>
            <p:cNvSpPr/>
            <p:nvPr/>
          </p:nvSpPr>
          <p:spPr>
            <a:xfrm>
              <a:off x="3200400" y="3151080"/>
              <a:ext cx="1440" cy="1976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200400" y="5127480"/>
              <a:ext cx="541008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276720" y="2895480"/>
              <a:ext cx="10666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 </a:t>
              </a:r>
              <a:r>
                <a:rPr b="1" lang="es-ES_tradnl" sz="1800" spc="-1" strike="noStrike">
                  <a:solidFill>
                    <a:srgbClr val="e1a3c2"/>
                  </a:solidFill>
                  <a:latin typeface="Bookman Old Style"/>
                </a:rPr>
                <a:t>u</a:t>
              </a: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 </a:t>
              </a:r>
              <a:r>
                <a:rPr b="1" lang="es-ES_tradnl" sz="1800" spc="-1" strike="noStrike" baseline="-25000">
                  <a:solidFill>
                    <a:srgbClr val="e1a3c2"/>
                  </a:solidFill>
                  <a:latin typeface="Bookman Old Style"/>
                </a:rPr>
                <a:t>n-m+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553080" y="5256360"/>
              <a:ext cx="228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e1a3c2"/>
                  </a:solidFill>
                  <a:latin typeface="Bookman Old Style"/>
                </a:rPr>
                <a:t> </a:t>
              </a:r>
              <a:r>
                <a:rPr b="1" lang="es-ES_tradnl" sz="2000" spc="-1" strike="noStrike">
                  <a:solidFill>
                    <a:srgbClr val="e1a3c2"/>
                  </a:solidFill>
                  <a:latin typeface="Bookman Old Style"/>
                </a:rPr>
                <a:t>n-m+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3200400" y="3505320"/>
            <a:ext cx="3657600" cy="1574640"/>
          </a:xfrm>
          <a:custGeom>
            <a:avLst/>
            <a:gdLst/>
            <a:ahLst/>
            <a:rect l="l" t="t" r="r" b="b"/>
            <a:pathLst>
              <a:path w="2304" h="992">
                <a:moveTo>
                  <a:pt x="0" y="992"/>
                </a:moveTo>
                <a:cubicBezTo>
                  <a:pt x="48" y="988"/>
                  <a:pt x="96" y="984"/>
                  <a:pt x="144" y="944"/>
                </a:cubicBezTo>
                <a:cubicBezTo>
                  <a:pt x="192" y="904"/>
                  <a:pt x="232" y="832"/>
                  <a:pt x="288" y="752"/>
                </a:cubicBezTo>
                <a:cubicBezTo>
                  <a:pt x="344" y="672"/>
                  <a:pt x="424" y="560"/>
                  <a:pt x="480" y="464"/>
                </a:cubicBezTo>
                <a:cubicBezTo>
                  <a:pt x="536" y="368"/>
                  <a:pt x="576" y="248"/>
                  <a:pt x="624" y="176"/>
                </a:cubicBezTo>
                <a:cubicBezTo>
                  <a:pt x="672" y="104"/>
                  <a:pt x="712" y="56"/>
                  <a:pt x="768" y="32"/>
                </a:cubicBezTo>
                <a:cubicBezTo>
                  <a:pt x="824" y="8"/>
                  <a:pt x="896" y="0"/>
                  <a:pt x="960" y="32"/>
                </a:cubicBezTo>
                <a:cubicBezTo>
                  <a:pt x="1024" y="64"/>
                  <a:pt x="1056" y="136"/>
                  <a:pt x="1152" y="224"/>
                </a:cubicBezTo>
                <a:cubicBezTo>
                  <a:pt x="1248" y="312"/>
                  <a:pt x="1408" y="456"/>
                  <a:pt x="1536" y="560"/>
                </a:cubicBezTo>
                <a:cubicBezTo>
                  <a:pt x="1664" y="664"/>
                  <a:pt x="1792" y="776"/>
                  <a:pt x="1920" y="848"/>
                </a:cubicBezTo>
                <a:cubicBezTo>
                  <a:pt x="2048" y="920"/>
                  <a:pt x="2176" y="956"/>
                  <a:pt x="2304" y="99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00400" y="5334120"/>
            <a:ext cx="68580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0040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09880" y="42670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34290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105520" y="39625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24080" y="5029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867280" y="45720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781680" y="5029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4876920"/>
            <a:ext cx="2590920" cy="11912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e discretiza la integral en n pa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3429000" y="5665680"/>
                <a:ext cx="31240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nΔ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nΔ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07" name="">
            <a:hlinkClick r:id="rId3" action="ppaction://hlinksldjump"/>
          </p:cNvPr>
          <p:cNvSpPr/>
          <p:nvPr/>
        </p:nvSpPr>
        <p:spPr>
          <a:xfrm>
            <a:off x="8610480" y="662940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3794"/>
                </a:moveTo>
                <a:lnTo>
                  <a:pt x="32190" y="10800"/>
                </a:lnTo>
                <a:lnTo>
                  <a:pt x="18177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1066680" y="228600"/>
                <a:ext cx="6489720" cy="19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≡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2</m:t>
                            </m:r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m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M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4114800" y="2438280"/>
                <a:ext cx="3911760" cy="16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m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≡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  <m:e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533520" y="4572000"/>
            <a:ext cx="8001000" cy="111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n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P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h[n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+P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h[(n-1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+...+P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h[(n-m+1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+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      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+P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h[(n-M+1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>
            <a:hlinkClick r:id="" action="ppaction://hlinkshowjump?jump=previousslide"/>
          </p:cNvPr>
          <p:cNvSpPr/>
          <p:nvPr/>
        </p:nvSpPr>
        <p:spPr>
          <a:xfrm>
            <a:off x="8534520" y="632448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5181480" y="5791320"/>
                <a:ext cx="228924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≤</m:t>
                        </m:r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914400" y="5943600"/>
            <a:ext cx="3276720" cy="5101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n-m+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h[(n-M+1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 flipV="1">
            <a:off x="1219320" y="837720"/>
            <a:ext cx="0" cy="449604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19320" y="5334120"/>
            <a:ext cx="609588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95480" y="3797280"/>
            <a:ext cx="3962520" cy="1536840"/>
          </a:xfrm>
          <a:custGeom>
            <a:avLst/>
            <a:gdLst/>
            <a:ahLst/>
            <a:rect l="l" t="t" r="r" b="b"/>
            <a:pathLst>
              <a:path w="2496" h="968">
                <a:moveTo>
                  <a:pt x="0" y="968"/>
                </a:moveTo>
                <a:cubicBezTo>
                  <a:pt x="72" y="956"/>
                  <a:pt x="144" y="944"/>
                  <a:pt x="240" y="872"/>
                </a:cubicBezTo>
                <a:cubicBezTo>
                  <a:pt x="336" y="800"/>
                  <a:pt x="480" y="648"/>
                  <a:pt x="576" y="536"/>
                </a:cubicBezTo>
                <a:cubicBezTo>
                  <a:pt x="672" y="424"/>
                  <a:pt x="728" y="288"/>
                  <a:pt x="816" y="200"/>
                </a:cubicBezTo>
                <a:cubicBezTo>
                  <a:pt x="904" y="112"/>
                  <a:pt x="1008" y="16"/>
                  <a:pt x="1104" y="8"/>
                </a:cubicBezTo>
                <a:cubicBezTo>
                  <a:pt x="1200" y="0"/>
                  <a:pt x="1296" y="80"/>
                  <a:pt x="1392" y="152"/>
                </a:cubicBezTo>
                <a:cubicBezTo>
                  <a:pt x="1488" y="224"/>
                  <a:pt x="1568" y="336"/>
                  <a:pt x="1680" y="440"/>
                </a:cubicBezTo>
                <a:cubicBezTo>
                  <a:pt x="1792" y="544"/>
                  <a:pt x="1928" y="688"/>
                  <a:pt x="2064" y="776"/>
                </a:cubicBezTo>
                <a:cubicBezTo>
                  <a:pt x="2200" y="864"/>
                  <a:pt x="2348" y="916"/>
                  <a:pt x="2496" y="968"/>
                </a:cubicBez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5880" y="3809880"/>
            <a:ext cx="2895840" cy="5101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P</a:t>
            </a:r>
            <a:r>
              <a:rPr b="0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m</a:t>
            </a: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h[(n-m+1)</a:t>
            </a:r>
            <a:r>
              <a:rPr b="0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5409720" y="4267080"/>
            <a:ext cx="1295640" cy="762120"/>
          </a:xfrm>
          <a:prstGeom prst="line">
            <a:avLst/>
          </a:prstGeom>
          <a:ln w="5724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19320" y="4495680"/>
            <a:ext cx="3962160" cy="851040"/>
          </a:xfrm>
          <a:custGeom>
            <a:avLst/>
            <a:gdLst/>
            <a:ahLst/>
            <a:rect l="l" t="t" r="r" b="b"/>
            <a:pathLst>
              <a:path w="2496" h="968">
                <a:moveTo>
                  <a:pt x="0" y="968"/>
                </a:moveTo>
                <a:cubicBezTo>
                  <a:pt x="72" y="956"/>
                  <a:pt x="144" y="944"/>
                  <a:pt x="240" y="872"/>
                </a:cubicBezTo>
                <a:cubicBezTo>
                  <a:pt x="336" y="800"/>
                  <a:pt x="480" y="648"/>
                  <a:pt x="576" y="536"/>
                </a:cubicBezTo>
                <a:cubicBezTo>
                  <a:pt x="672" y="424"/>
                  <a:pt x="728" y="288"/>
                  <a:pt x="816" y="200"/>
                </a:cubicBezTo>
                <a:cubicBezTo>
                  <a:pt x="904" y="112"/>
                  <a:pt x="1008" y="16"/>
                  <a:pt x="1104" y="8"/>
                </a:cubicBezTo>
                <a:cubicBezTo>
                  <a:pt x="1200" y="0"/>
                  <a:pt x="1296" y="80"/>
                  <a:pt x="1392" y="152"/>
                </a:cubicBezTo>
                <a:cubicBezTo>
                  <a:pt x="1488" y="224"/>
                  <a:pt x="1568" y="336"/>
                  <a:pt x="1680" y="440"/>
                </a:cubicBezTo>
                <a:cubicBezTo>
                  <a:pt x="1792" y="544"/>
                  <a:pt x="1928" y="688"/>
                  <a:pt x="2064" y="776"/>
                </a:cubicBezTo>
                <a:cubicBezTo>
                  <a:pt x="2200" y="864"/>
                  <a:pt x="2348" y="916"/>
                  <a:pt x="2496" y="968"/>
                </a:cubicBez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143000" y="6019920"/>
            <a:ext cx="1905120" cy="5101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P</a:t>
            </a:r>
            <a:r>
              <a:rPr b="0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h[n</a:t>
            </a:r>
            <a:r>
              <a:rPr b="0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2743200" y="5028840"/>
            <a:ext cx="152280" cy="1066680"/>
          </a:xfrm>
          <a:prstGeom prst="line">
            <a:avLst/>
          </a:prstGeom>
          <a:ln w="381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219320" y="784080"/>
            <a:ext cx="6553080" cy="4550040"/>
          </a:xfrm>
          <a:custGeom>
            <a:avLst/>
            <a:gdLst/>
            <a:ahLst/>
            <a:rect l="l" t="t" r="r" b="b"/>
            <a:pathLst>
              <a:path w="4128" h="2866">
                <a:moveTo>
                  <a:pt x="0" y="2866"/>
                </a:moveTo>
                <a:cubicBezTo>
                  <a:pt x="33" y="2860"/>
                  <a:pt x="135" y="2847"/>
                  <a:pt x="197" y="2830"/>
                </a:cubicBezTo>
                <a:cubicBezTo>
                  <a:pt x="259" y="2813"/>
                  <a:pt x="306" y="2811"/>
                  <a:pt x="375" y="2765"/>
                </a:cubicBezTo>
                <a:cubicBezTo>
                  <a:pt x="444" y="2719"/>
                  <a:pt x="537" y="2665"/>
                  <a:pt x="611" y="2554"/>
                </a:cubicBezTo>
                <a:cubicBezTo>
                  <a:pt x="685" y="2443"/>
                  <a:pt x="718" y="2342"/>
                  <a:pt x="816" y="2098"/>
                </a:cubicBezTo>
                <a:cubicBezTo>
                  <a:pt x="914" y="1854"/>
                  <a:pt x="1087" y="1388"/>
                  <a:pt x="1200" y="1090"/>
                </a:cubicBezTo>
                <a:cubicBezTo>
                  <a:pt x="1313" y="792"/>
                  <a:pt x="1387" y="488"/>
                  <a:pt x="1494" y="309"/>
                </a:cubicBezTo>
                <a:cubicBezTo>
                  <a:pt x="1601" y="130"/>
                  <a:pt x="1744" y="0"/>
                  <a:pt x="1843" y="17"/>
                </a:cubicBezTo>
                <a:cubicBezTo>
                  <a:pt x="1942" y="34"/>
                  <a:pt x="2001" y="227"/>
                  <a:pt x="2086" y="414"/>
                </a:cubicBezTo>
                <a:cubicBezTo>
                  <a:pt x="2171" y="601"/>
                  <a:pt x="2228" y="865"/>
                  <a:pt x="2352" y="1138"/>
                </a:cubicBezTo>
                <a:cubicBezTo>
                  <a:pt x="2476" y="1411"/>
                  <a:pt x="2632" y="1794"/>
                  <a:pt x="2832" y="2050"/>
                </a:cubicBezTo>
                <a:cubicBezTo>
                  <a:pt x="3032" y="2306"/>
                  <a:pt x="3336" y="2546"/>
                  <a:pt x="3552" y="2674"/>
                </a:cubicBezTo>
                <a:cubicBezTo>
                  <a:pt x="3768" y="2802"/>
                  <a:pt x="3948" y="2810"/>
                  <a:pt x="4128" y="2818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05120" y="49528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295280" y="5486400"/>
            <a:ext cx="68580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95280" y="5410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438280" y="4114800"/>
            <a:ext cx="15264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819520" y="3048120"/>
            <a:ext cx="15228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200400" y="2057400"/>
            <a:ext cx="15228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1066680"/>
            <a:ext cx="15264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14800" y="762120"/>
            <a:ext cx="15228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638680" y="3962520"/>
            <a:ext cx="15264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029200" y="28954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0" y="17524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20120" y="51814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324480" y="4648320"/>
            <a:ext cx="15264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60948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086600" y="5486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609480" y="3200400"/>
            <a:ext cx="7696440" cy="36576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530280" y="304920"/>
            <a:ext cx="7775640" cy="32875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609480" y="3124080"/>
            <a:ext cx="77724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457200" y="4572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Obtención HU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971800" y="914400"/>
            <a:ext cx="1905120" cy="88920"/>
          </a:xfrm>
          <a:custGeom>
            <a:avLst/>
            <a:gdLst/>
            <a:ahLst/>
            <a:rect l="l" t="t" r="r" b="b"/>
            <a:pathLst>
              <a:path w="1008" h="104">
                <a:moveTo>
                  <a:pt x="0" y="0"/>
                </a:moveTo>
                <a:cubicBezTo>
                  <a:pt x="108" y="44"/>
                  <a:pt x="216" y="88"/>
                  <a:pt x="384" y="96"/>
                </a:cubicBezTo>
                <a:cubicBezTo>
                  <a:pt x="552" y="104"/>
                  <a:pt x="904" y="56"/>
                  <a:pt x="1008" y="48"/>
                </a:cubicBezTo>
              </a:path>
            </a:pathLst>
          </a:custGeom>
          <a:noFill/>
          <a:ln w="38160">
            <a:solidFill>
              <a:srgbClr val="c7558e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76920" y="533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Duración de la lluvia efectiva unit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1600200"/>
            <a:ext cx="8686800" cy="5069520"/>
          </a:xfrm>
          <a:prstGeom prst="rect">
            <a:avLst/>
          </a:prstGeom>
          <a:solidFill>
            <a:srgbClr val="660033"/>
          </a:solidFill>
          <a:ln w="9360">
            <a:solidFill>
              <a:srgbClr val="c755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Hidrogramas simples de lluvias intensas de corta duración de distribución espacial y temporal lo mas uniforme po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Determinar pluviograma medio (espacialmente) para la cuen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 base de índices o curvas de infiltración se determina lluvia efectiva y d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Se efectúa separación de las componentes del hidrograma (F. Base y Escorrentía Direc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Se determina Volumen de Escorrentía Dir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= Pef 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. 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rea       P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133720" y="6172200"/>
            <a:ext cx="295200" cy="431640"/>
          </a:xfrm>
          <a:custGeom>
            <a:avLst/>
            <a:gdLst>
              <a:gd name="textAreaLeft" fmla="*/ 36720 w 295200"/>
              <a:gd name="textAreaRight" fmla="*/ 258480 w 29520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33"/>
          </a:solidFill>
          <a:ln w="9360">
            <a:solidFill>
              <a:srgbClr val="c755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436920" y="4332240"/>
            <a:ext cx="4732200" cy="2077920"/>
          </a:xfrm>
          <a:custGeom>
            <a:avLst/>
            <a:gdLst/>
            <a:ahLst/>
            <a:rect l="l" t="t" r="r" b="b"/>
            <a:pathLst>
              <a:path w="2981" h="1309">
                <a:moveTo>
                  <a:pt x="0" y="1309"/>
                </a:moveTo>
                <a:cubicBezTo>
                  <a:pt x="361" y="1291"/>
                  <a:pt x="1689" y="1294"/>
                  <a:pt x="2165" y="1203"/>
                </a:cubicBezTo>
                <a:cubicBezTo>
                  <a:pt x="2641" y="1112"/>
                  <a:pt x="2782" y="945"/>
                  <a:pt x="2854" y="765"/>
                </a:cubicBezTo>
                <a:cubicBezTo>
                  <a:pt x="2926" y="585"/>
                  <a:pt x="2981" y="244"/>
                  <a:pt x="2600" y="122"/>
                </a:cubicBezTo>
                <a:cubicBezTo>
                  <a:pt x="2219" y="0"/>
                  <a:pt x="1407" y="31"/>
                  <a:pt x="571" y="31"/>
                </a:cubicBezTo>
              </a:path>
            </a:pathLst>
          </a:custGeom>
          <a:noFill/>
          <a:ln w="38160">
            <a:solidFill>
              <a:srgbClr val="c7558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62120" y="457200"/>
            <a:ext cx="3886200" cy="5101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mbalse Lineal a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4572000" y="1219320"/>
                <a:ext cx="217188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≡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685800" y="2819520"/>
            <a:ext cx="7696080" cy="369216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 sistemas Line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i una solución f(Q) es multiplicada por c, al función resultante cf(Q), es también solución (principio de proporcional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i 2 soluciones f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(Q) y f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(Q) se suman, la función resultante f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(Q) + f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(Q) es también solución (superposi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76520" y="533520"/>
            <a:ext cx="289548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trada: Función impul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609480"/>
            <a:ext cx="1143000" cy="685800"/>
          </a:xfrm>
          <a:prstGeom prst="rightArrow">
            <a:avLst>
              <a:gd name="adj1" fmla="val 50000"/>
              <a:gd name="adj2" fmla="val 41667"/>
            </a:avLst>
          </a:prstGeom>
          <a:solidFill>
            <a:srgbClr val="e1a3c2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15000" y="533520"/>
            <a:ext cx="3200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alida: Función Impulso res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971800" y="2514600"/>
            <a:ext cx="914400" cy="1447560"/>
            <a:chOff x="2971800" y="2514600"/>
            <a:chExt cx="914400" cy="1447560"/>
          </a:xfrm>
        </p:grpSpPr>
        <p:sp>
          <p:nvSpPr>
            <p:cNvPr id="54" name=""/>
            <p:cNvSpPr/>
            <p:nvPr/>
          </p:nvSpPr>
          <p:spPr>
            <a:xfrm>
              <a:off x="3809880" y="2566080"/>
              <a:ext cx="76320" cy="1396080"/>
            </a:xfrm>
            <a:prstGeom prst="rect">
              <a:avLst/>
            </a:prstGeom>
            <a:solidFill>
              <a:srgbClr val="e1a3c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971800" y="25146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429000" y="1752480"/>
            <a:ext cx="5638680" cy="2820240"/>
            <a:chOff x="3429000" y="1752480"/>
            <a:chExt cx="5638680" cy="2820240"/>
          </a:xfrm>
        </p:grpSpPr>
        <p:sp>
          <p:nvSpPr>
            <p:cNvPr id="57" name=""/>
            <p:cNvSpPr/>
            <p:nvPr/>
          </p:nvSpPr>
          <p:spPr>
            <a:xfrm>
              <a:off x="3429000" y="2007720"/>
              <a:ext cx="1440" cy="1977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29000" y="3985560"/>
              <a:ext cx="541008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504960" y="17524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6800" y="4113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3886200" y="2362320"/>
            <a:ext cx="3657600" cy="1574640"/>
          </a:xfrm>
          <a:custGeom>
            <a:avLst/>
            <a:gdLst/>
            <a:ahLst/>
            <a:rect l="l" t="t" r="r" b="b"/>
            <a:pathLst>
              <a:path w="2304" h="992">
                <a:moveTo>
                  <a:pt x="0" y="992"/>
                </a:moveTo>
                <a:cubicBezTo>
                  <a:pt x="48" y="988"/>
                  <a:pt x="96" y="984"/>
                  <a:pt x="144" y="944"/>
                </a:cubicBezTo>
                <a:cubicBezTo>
                  <a:pt x="192" y="904"/>
                  <a:pt x="232" y="832"/>
                  <a:pt x="288" y="752"/>
                </a:cubicBezTo>
                <a:cubicBezTo>
                  <a:pt x="344" y="672"/>
                  <a:pt x="424" y="560"/>
                  <a:pt x="480" y="464"/>
                </a:cubicBezTo>
                <a:cubicBezTo>
                  <a:pt x="536" y="368"/>
                  <a:pt x="576" y="248"/>
                  <a:pt x="624" y="176"/>
                </a:cubicBezTo>
                <a:cubicBezTo>
                  <a:pt x="672" y="104"/>
                  <a:pt x="712" y="56"/>
                  <a:pt x="768" y="32"/>
                </a:cubicBezTo>
                <a:cubicBezTo>
                  <a:pt x="824" y="8"/>
                  <a:pt x="896" y="0"/>
                  <a:pt x="960" y="32"/>
                </a:cubicBezTo>
                <a:cubicBezTo>
                  <a:pt x="1024" y="64"/>
                  <a:pt x="1056" y="136"/>
                  <a:pt x="1152" y="224"/>
                </a:cubicBezTo>
                <a:cubicBezTo>
                  <a:pt x="1248" y="312"/>
                  <a:pt x="1408" y="456"/>
                  <a:pt x="1536" y="560"/>
                </a:cubicBezTo>
                <a:cubicBezTo>
                  <a:pt x="1664" y="664"/>
                  <a:pt x="1792" y="776"/>
                  <a:pt x="1920" y="848"/>
                </a:cubicBezTo>
                <a:cubicBezTo>
                  <a:pt x="2048" y="920"/>
                  <a:pt x="2176" y="956"/>
                  <a:pt x="2304" y="99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3962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19920" y="2362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u(t-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095520" y="281952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05320" y="1371600"/>
            <a:ext cx="304560" cy="137160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37160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685800" y="4140000"/>
            <a:ext cx="0" cy="2361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6502320"/>
            <a:ext cx="6705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4368960"/>
            <a:ext cx="75960" cy="2133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2120" y="64008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43689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4419720"/>
            <a:ext cx="3657600" cy="2057400"/>
          </a:xfrm>
          <a:custGeom>
            <a:avLst/>
            <a:gdLst/>
            <a:ahLst/>
            <a:rect l="l" t="t" r="r" b="b"/>
            <a:pathLst>
              <a:path w="2304" h="1296">
                <a:moveTo>
                  <a:pt x="0" y="1296"/>
                </a:moveTo>
                <a:cubicBezTo>
                  <a:pt x="24" y="1254"/>
                  <a:pt x="98" y="1134"/>
                  <a:pt x="143" y="1043"/>
                </a:cubicBezTo>
                <a:cubicBezTo>
                  <a:pt x="188" y="952"/>
                  <a:pt x="226" y="859"/>
                  <a:pt x="273" y="751"/>
                </a:cubicBezTo>
                <a:cubicBezTo>
                  <a:pt x="320" y="643"/>
                  <a:pt x="374" y="502"/>
                  <a:pt x="427" y="395"/>
                </a:cubicBezTo>
                <a:cubicBezTo>
                  <a:pt x="480" y="288"/>
                  <a:pt x="534" y="176"/>
                  <a:pt x="589" y="111"/>
                </a:cubicBezTo>
                <a:cubicBezTo>
                  <a:pt x="644" y="46"/>
                  <a:pt x="694" y="0"/>
                  <a:pt x="759" y="5"/>
                </a:cubicBezTo>
                <a:cubicBezTo>
                  <a:pt x="824" y="10"/>
                  <a:pt x="908" y="75"/>
                  <a:pt x="978" y="143"/>
                </a:cubicBezTo>
                <a:cubicBezTo>
                  <a:pt x="1048" y="211"/>
                  <a:pt x="1105" y="324"/>
                  <a:pt x="1181" y="411"/>
                </a:cubicBezTo>
                <a:cubicBezTo>
                  <a:pt x="1257" y="498"/>
                  <a:pt x="1341" y="582"/>
                  <a:pt x="1432" y="662"/>
                </a:cubicBezTo>
                <a:cubicBezTo>
                  <a:pt x="1523" y="742"/>
                  <a:pt x="1625" y="813"/>
                  <a:pt x="1724" y="889"/>
                </a:cubicBezTo>
                <a:cubicBezTo>
                  <a:pt x="1823" y="965"/>
                  <a:pt x="1927" y="1048"/>
                  <a:pt x="2024" y="1116"/>
                </a:cubicBezTo>
                <a:cubicBezTo>
                  <a:pt x="2121" y="1184"/>
                  <a:pt x="2246" y="1258"/>
                  <a:pt x="2304" y="1296"/>
                </a:cubicBezTo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00200" y="5054760"/>
            <a:ext cx="76320" cy="1447560"/>
          </a:xfrm>
          <a:prstGeom prst="rect">
            <a:avLst/>
          </a:prstGeom>
          <a:solidFill>
            <a:srgbClr val="c755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51307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66800" y="4743360"/>
            <a:ext cx="3895920" cy="1758960"/>
          </a:xfrm>
          <a:custGeom>
            <a:avLst/>
            <a:gdLst/>
            <a:ahLst/>
            <a:rect l="l" t="t" r="r" b="b"/>
            <a:pathLst>
              <a:path w="2454" h="1108">
                <a:moveTo>
                  <a:pt x="0" y="1091"/>
                </a:moveTo>
                <a:cubicBezTo>
                  <a:pt x="26" y="1072"/>
                  <a:pt x="98" y="1026"/>
                  <a:pt x="145" y="976"/>
                </a:cubicBezTo>
                <a:cubicBezTo>
                  <a:pt x="192" y="926"/>
                  <a:pt x="237" y="883"/>
                  <a:pt x="283" y="790"/>
                </a:cubicBezTo>
                <a:cubicBezTo>
                  <a:pt x="329" y="697"/>
                  <a:pt x="376" y="527"/>
                  <a:pt x="422" y="418"/>
                </a:cubicBezTo>
                <a:cubicBezTo>
                  <a:pt x="468" y="310"/>
                  <a:pt x="502" y="207"/>
                  <a:pt x="560" y="139"/>
                </a:cubicBezTo>
                <a:cubicBezTo>
                  <a:pt x="618" y="71"/>
                  <a:pt x="709" y="24"/>
                  <a:pt x="770" y="12"/>
                </a:cubicBezTo>
                <a:cubicBezTo>
                  <a:pt x="831" y="0"/>
                  <a:pt x="868" y="38"/>
                  <a:pt x="924" y="69"/>
                </a:cubicBezTo>
                <a:cubicBezTo>
                  <a:pt x="980" y="100"/>
                  <a:pt x="1002" y="118"/>
                  <a:pt x="1103" y="199"/>
                </a:cubicBezTo>
                <a:cubicBezTo>
                  <a:pt x="1204" y="280"/>
                  <a:pt x="1390" y="452"/>
                  <a:pt x="1530" y="558"/>
                </a:cubicBezTo>
                <a:cubicBezTo>
                  <a:pt x="1670" y="664"/>
                  <a:pt x="1807" y="752"/>
                  <a:pt x="1946" y="837"/>
                </a:cubicBezTo>
                <a:cubicBezTo>
                  <a:pt x="2084" y="922"/>
                  <a:pt x="2277" y="1031"/>
                  <a:pt x="2362" y="1069"/>
                </a:cubicBezTo>
                <a:cubicBezTo>
                  <a:pt x="2446" y="1108"/>
                  <a:pt x="2439" y="1069"/>
                  <a:pt x="2454" y="1069"/>
                </a:cubicBezTo>
              </a:path>
            </a:pathLst>
          </a:custGeom>
          <a:noFill/>
          <a:ln w="38160">
            <a:solidFill>
              <a:srgbClr val="c755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71600" y="64008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90720" y="2627280"/>
            <a:ext cx="4495680" cy="3875040"/>
          </a:xfrm>
          <a:custGeom>
            <a:avLst/>
            <a:gdLst/>
            <a:ahLst/>
            <a:rect l="l" t="t" r="r" b="b"/>
            <a:pathLst>
              <a:path w="2832" h="2441">
                <a:moveTo>
                  <a:pt x="0" y="2441"/>
                </a:moveTo>
                <a:cubicBezTo>
                  <a:pt x="28" y="2429"/>
                  <a:pt x="55" y="2414"/>
                  <a:pt x="96" y="2345"/>
                </a:cubicBezTo>
                <a:cubicBezTo>
                  <a:pt x="137" y="2276"/>
                  <a:pt x="198" y="2140"/>
                  <a:pt x="248" y="2026"/>
                </a:cubicBezTo>
                <a:cubicBezTo>
                  <a:pt x="298" y="1912"/>
                  <a:pt x="355" y="1784"/>
                  <a:pt x="394" y="1661"/>
                </a:cubicBezTo>
                <a:cubicBezTo>
                  <a:pt x="433" y="1538"/>
                  <a:pt x="442" y="1431"/>
                  <a:pt x="480" y="1289"/>
                </a:cubicBezTo>
                <a:cubicBezTo>
                  <a:pt x="518" y="1147"/>
                  <a:pt x="592" y="921"/>
                  <a:pt x="624" y="809"/>
                </a:cubicBezTo>
                <a:cubicBezTo>
                  <a:pt x="656" y="697"/>
                  <a:pt x="640" y="721"/>
                  <a:pt x="672" y="617"/>
                </a:cubicBezTo>
                <a:cubicBezTo>
                  <a:pt x="704" y="513"/>
                  <a:pt x="769" y="285"/>
                  <a:pt x="816" y="185"/>
                </a:cubicBezTo>
                <a:cubicBezTo>
                  <a:pt x="863" y="85"/>
                  <a:pt x="892" y="32"/>
                  <a:pt x="953" y="16"/>
                </a:cubicBezTo>
                <a:cubicBezTo>
                  <a:pt x="1014" y="0"/>
                  <a:pt x="1119" y="35"/>
                  <a:pt x="1180" y="89"/>
                </a:cubicBezTo>
                <a:cubicBezTo>
                  <a:pt x="1241" y="143"/>
                  <a:pt x="1243" y="188"/>
                  <a:pt x="1318" y="340"/>
                </a:cubicBezTo>
                <a:cubicBezTo>
                  <a:pt x="1393" y="492"/>
                  <a:pt x="1516" y="788"/>
                  <a:pt x="1632" y="1001"/>
                </a:cubicBezTo>
                <a:cubicBezTo>
                  <a:pt x="1748" y="1214"/>
                  <a:pt x="1886" y="1427"/>
                  <a:pt x="2015" y="1621"/>
                </a:cubicBezTo>
                <a:cubicBezTo>
                  <a:pt x="2144" y="1815"/>
                  <a:pt x="2269" y="2027"/>
                  <a:pt x="2405" y="2164"/>
                </a:cubicBezTo>
                <a:cubicBezTo>
                  <a:pt x="2541" y="2301"/>
                  <a:pt x="2743" y="2383"/>
                  <a:pt x="2832" y="2441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219320" y="380880"/>
            <a:ext cx="701028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Impulsos continuos son tratados como suma de impulsos infinitesim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2120" y="2057400"/>
            <a:ext cx="80010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tre 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y 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+d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entra al sistema i(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d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(lluv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38080" y="2895480"/>
            <a:ext cx="7315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ale Escorrentía Directa en (t-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= i(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 u(t-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 d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990720" y="4724280"/>
            <a:ext cx="914400" cy="838440"/>
            <a:chOff x="990720" y="4724280"/>
            <a:chExt cx="914400" cy="838440"/>
          </a:xfrm>
        </p:grpSpPr>
        <p:sp>
          <p:nvSpPr>
            <p:cNvPr id="82" name=""/>
            <p:cNvSpPr/>
            <p:nvPr/>
          </p:nvSpPr>
          <p:spPr>
            <a:xfrm>
              <a:off x="990720" y="53341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371600" y="47242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676520" y="53341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819520" y="4419720"/>
                <a:ext cx="373356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1981080" y="6095880"/>
            <a:ext cx="64008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Integral de conv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676520" y="533520"/>
            <a:ext cx="289548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trada: Función Escal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609480"/>
            <a:ext cx="1143000" cy="685800"/>
          </a:xfrm>
          <a:prstGeom prst="rightArrow">
            <a:avLst>
              <a:gd name="adj1" fmla="val 50000"/>
              <a:gd name="adj2" fmla="val 41667"/>
            </a:avLst>
          </a:prstGeom>
          <a:solidFill>
            <a:srgbClr val="e1a3c2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15000" y="533520"/>
            <a:ext cx="3200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alida: Función Escalón res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4920" y="1803240"/>
            <a:ext cx="914400" cy="2133720"/>
            <a:chOff x="304920" y="1803240"/>
            <a:chExt cx="914400" cy="2133720"/>
          </a:xfrm>
        </p:grpSpPr>
        <p:sp>
          <p:nvSpPr>
            <p:cNvPr id="91" name=""/>
            <p:cNvSpPr/>
            <p:nvPr/>
          </p:nvSpPr>
          <p:spPr>
            <a:xfrm>
              <a:off x="1143000" y="1879560"/>
              <a:ext cx="76320" cy="2057400"/>
            </a:xfrm>
            <a:prstGeom prst="rect">
              <a:avLst/>
            </a:prstGeom>
            <a:solidFill>
              <a:srgbClr val="e1a3c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4920" y="18032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762120" y="1270080"/>
            <a:ext cx="5638680" cy="3278880"/>
            <a:chOff x="762120" y="1270080"/>
            <a:chExt cx="5638680" cy="3278880"/>
          </a:xfrm>
        </p:grpSpPr>
        <p:sp>
          <p:nvSpPr>
            <p:cNvPr id="94" name=""/>
            <p:cNvSpPr/>
            <p:nvPr/>
          </p:nvSpPr>
          <p:spPr>
            <a:xfrm>
              <a:off x="762120" y="1574640"/>
              <a:ext cx="1440" cy="2361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62120" y="3936960"/>
              <a:ext cx="541008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38080" y="12700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019920" y="40892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1143000" y="2362320"/>
            <a:ext cx="3657600" cy="1574640"/>
          </a:xfrm>
          <a:custGeom>
            <a:avLst/>
            <a:gdLst/>
            <a:ahLst/>
            <a:rect l="l" t="t" r="r" b="b"/>
            <a:pathLst>
              <a:path w="2304" h="992">
                <a:moveTo>
                  <a:pt x="0" y="992"/>
                </a:moveTo>
                <a:cubicBezTo>
                  <a:pt x="48" y="988"/>
                  <a:pt x="96" y="984"/>
                  <a:pt x="144" y="944"/>
                </a:cubicBezTo>
                <a:cubicBezTo>
                  <a:pt x="192" y="904"/>
                  <a:pt x="232" y="832"/>
                  <a:pt x="288" y="752"/>
                </a:cubicBezTo>
                <a:cubicBezTo>
                  <a:pt x="344" y="672"/>
                  <a:pt x="424" y="560"/>
                  <a:pt x="480" y="464"/>
                </a:cubicBezTo>
                <a:cubicBezTo>
                  <a:pt x="536" y="368"/>
                  <a:pt x="576" y="248"/>
                  <a:pt x="624" y="176"/>
                </a:cubicBezTo>
                <a:cubicBezTo>
                  <a:pt x="672" y="104"/>
                  <a:pt x="712" y="56"/>
                  <a:pt x="768" y="32"/>
                </a:cubicBezTo>
                <a:cubicBezTo>
                  <a:pt x="824" y="8"/>
                  <a:pt x="896" y="0"/>
                  <a:pt x="960" y="32"/>
                </a:cubicBezTo>
                <a:cubicBezTo>
                  <a:pt x="1024" y="64"/>
                  <a:pt x="1056" y="136"/>
                  <a:pt x="1152" y="224"/>
                </a:cubicBezTo>
                <a:cubicBezTo>
                  <a:pt x="1248" y="312"/>
                  <a:pt x="1408" y="456"/>
                  <a:pt x="1536" y="560"/>
                </a:cubicBezTo>
                <a:cubicBezTo>
                  <a:pt x="1664" y="664"/>
                  <a:pt x="1792" y="776"/>
                  <a:pt x="1920" y="848"/>
                </a:cubicBezTo>
                <a:cubicBezTo>
                  <a:pt x="2048" y="920"/>
                  <a:pt x="2176" y="956"/>
                  <a:pt x="2304" y="99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4419720"/>
            <a:ext cx="5105520" cy="2057400"/>
          </a:xfrm>
          <a:prstGeom prst="rect">
            <a:avLst/>
          </a:pr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44197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762120" y="3809880"/>
            <a:ext cx="5638680" cy="3279240"/>
            <a:chOff x="762120" y="3809880"/>
            <a:chExt cx="5638680" cy="3279240"/>
          </a:xfrm>
        </p:grpSpPr>
        <p:sp>
          <p:nvSpPr>
            <p:cNvPr id="102" name=""/>
            <p:cNvSpPr/>
            <p:nvPr/>
          </p:nvSpPr>
          <p:spPr>
            <a:xfrm>
              <a:off x="762120" y="4114800"/>
              <a:ext cx="144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2120" y="6477120"/>
              <a:ext cx="5410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8080" y="38098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19920" y="6629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143000" y="4419720"/>
            <a:ext cx="4740120" cy="2046240"/>
          </a:xfrm>
          <a:custGeom>
            <a:avLst/>
            <a:gdLst/>
            <a:ahLst/>
            <a:rect l="l" t="t" r="r" b="b"/>
            <a:pathLst>
              <a:path w="2986" h="1289">
                <a:moveTo>
                  <a:pt x="0" y="1289"/>
                </a:moveTo>
                <a:cubicBezTo>
                  <a:pt x="48" y="1285"/>
                  <a:pt x="82" y="1275"/>
                  <a:pt x="144" y="1241"/>
                </a:cubicBezTo>
                <a:cubicBezTo>
                  <a:pt x="206" y="1207"/>
                  <a:pt x="297" y="1158"/>
                  <a:pt x="375" y="1085"/>
                </a:cubicBezTo>
                <a:cubicBezTo>
                  <a:pt x="453" y="1012"/>
                  <a:pt x="539" y="891"/>
                  <a:pt x="610" y="801"/>
                </a:cubicBezTo>
                <a:cubicBezTo>
                  <a:pt x="681" y="711"/>
                  <a:pt x="735" y="618"/>
                  <a:pt x="804" y="542"/>
                </a:cubicBezTo>
                <a:cubicBezTo>
                  <a:pt x="873" y="466"/>
                  <a:pt x="930" y="405"/>
                  <a:pt x="1023" y="347"/>
                </a:cubicBezTo>
                <a:cubicBezTo>
                  <a:pt x="1116" y="289"/>
                  <a:pt x="1261" y="232"/>
                  <a:pt x="1364" y="193"/>
                </a:cubicBezTo>
                <a:cubicBezTo>
                  <a:pt x="1467" y="154"/>
                  <a:pt x="1533" y="136"/>
                  <a:pt x="1640" y="112"/>
                </a:cubicBezTo>
                <a:cubicBezTo>
                  <a:pt x="1747" y="88"/>
                  <a:pt x="1866" y="64"/>
                  <a:pt x="2005" y="47"/>
                </a:cubicBezTo>
                <a:cubicBezTo>
                  <a:pt x="2144" y="30"/>
                  <a:pt x="2312" y="14"/>
                  <a:pt x="2475" y="7"/>
                </a:cubicBezTo>
                <a:cubicBezTo>
                  <a:pt x="2638" y="0"/>
                  <a:pt x="2880" y="7"/>
                  <a:pt x="2986" y="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81680" y="1828800"/>
            <a:ext cx="144792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man Old Style"/>
              </a:rPr>
              <a:t>I(t)=1 para t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Bookman Old Style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124080" y="2819160"/>
            <a:ext cx="0" cy="373356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47242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3880" y="3657600"/>
            <a:ext cx="22860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3429000"/>
            <a:ext cx="45720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3200400"/>
            <a:ext cx="68580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81080" y="2895480"/>
            <a:ext cx="99072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33720" y="2666880"/>
            <a:ext cx="99036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62320" y="2438280"/>
            <a:ext cx="76176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6248520" y="3159000"/>
                <a:ext cx="289548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6705720" y="4419720"/>
            <a:ext cx="2438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33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t-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  d</a:t>
            </a:r>
            <a:r>
              <a:rPr b="1" i="1" lang="es-ES_tradnl" sz="2400" spc="-1" strike="noStrike">
                <a:solidFill>
                  <a:srgbClr val="660033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-d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6629400" y="5038560"/>
                <a:ext cx="2171880" cy="18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3962520" y="1447920"/>
            <a:ext cx="914400" cy="3733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657600" y="1371600"/>
            <a:ext cx="2666880" cy="327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676520" y="533520"/>
            <a:ext cx="289548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trada: Función Pul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0" y="609480"/>
            <a:ext cx="1143000" cy="685800"/>
          </a:xfrm>
          <a:prstGeom prst="rightArrow">
            <a:avLst>
              <a:gd name="adj1" fmla="val 50000"/>
              <a:gd name="adj2" fmla="val 41667"/>
            </a:avLst>
          </a:prstGeom>
          <a:solidFill>
            <a:srgbClr val="e1a3c2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533520"/>
            <a:ext cx="3200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alida: Función Pulso res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762120" y="1270080"/>
            <a:ext cx="5638680" cy="3278880"/>
            <a:chOff x="762120" y="1270080"/>
            <a:chExt cx="5638680" cy="3278880"/>
          </a:xfrm>
        </p:grpSpPr>
        <p:sp>
          <p:nvSpPr>
            <p:cNvPr id="125" name=""/>
            <p:cNvSpPr/>
            <p:nvPr/>
          </p:nvSpPr>
          <p:spPr>
            <a:xfrm>
              <a:off x="762120" y="1574640"/>
              <a:ext cx="1440" cy="2361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2120" y="3936960"/>
              <a:ext cx="541008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38080" y="12700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19920" y="40892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1143000" y="4495680"/>
            <a:ext cx="4876920" cy="19814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441972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e1a3c2"/>
                </a:solidFill>
                <a:uFillTx/>
                <a:latin typeface="Bookman Old Style"/>
              </a:rPr>
              <a:t> </a:t>
            </a:r>
            <a:r>
              <a:rPr b="1" lang="es-ES_tradnl" sz="2400" spc="-1" strike="noStrike" u="sng">
                <a:solidFill>
                  <a:srgbClr val="e1a3c2"/>
                </a:solidFill>
                <a:uFillTx/>
                <a:latin typeface="Bookman Old Style"/>
              </a:rPr>
              <a:t>1 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62120" y="3809880"/>
            <a:ext cx="5638680" cy="3279240"/>
            <a:chOff x="762120" y="3809880"/>
            <a:chExt cx="5638680" cy="3279240"/>
          </a:xfrm>
        </p:grpSpPr>
        <p:sp>
          <p:nvSpPr>
            <p:cNvPr id="132" name=""/>
            <p:cNvSpPr/>
            <p:nvPr/>
          </p:nvSpPr>
          <p:spPr>
            <a:xfrm>
              <a:off x="762120" y="4114800"/>
              <a:ext cx="144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62120" y="6477120"/>
              <a:ext cx="5410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38080" y="38098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6629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1143000" y="1905120"/>
            <a:ext cx="4740120" cy="2046240"/>
          </a:xfrm>
          <a:custGeom>
            <a:avLst/>
            <a:gdLst/>
            <a:ahLst/>
            <a:rect l="l" t="t" r="r" b="b"/>
            <a:pathLst>
              <a:path w="2986" h="1289">
                <a:moveTo>
                  <a:pt x="0" y="1289"/>
                </a:moveTo>
                <a:cubicBezTo>
                  <a:pt x="48" y="1285"/>
                  <a:pt x="82" y="1275"/>
                  <a:pt x="144" y="1241"/>
                </a:cubicBezTo>
                <a:cubicBezTo>
                  <a:pt x="206" y="1207"/>
                  <a:pt x="297" y="1158"/>
                  <a:pt x="375" y="1085"/>
                </a:cubicBezTo>
                <a:cubicBezTo>
                  <a:pt x="453" y="1012"/>
                  <a:pt x="539" y="891"/>
                  <a:pt x="610" y="801"/>
                </a:cubicBezTo>
                <a:cubicBezTo>
                  <a:pt x="681" y="711"/>
                  <a:pt x="735" y="618"/>
                  <a:pt x="804" y="542"/>
                </a:cubicBezTo>
                <a:cubicBezTo>
                  <a:pt x="873" y="466"/>
                  <a:pt x="930" y="405"/>
                  <a:pt x="1023" y="347"/>
                </a:cubicBezTo>
                <a:cubicBezTo>
                  <a:pt x="1116" y="289"/>
                  <a:pt x="1261" y="232"/>
                  <a:pt x="1364" y="193"/>
                </a:cubicBezTo>
                <a:cubicBezTo>
                  <a:pt x="1467" y="154"/>
                  <a:pt x="1533" y="136"/>
                  <a:pt x="1640" y="112"/>
                </a:cubicBezTo>
                <a:cubicBezTo>
                  <a:pt x="1747" y="88"/>
                  <a:pt x="1866" y="64"/>
                  <a:pt x="2005" y="47"/>
                </a:cubicBezTo>
                <a:cubicBezTo>
                  <a:pt x="2144" y="30"/>
                  <a:pt x="2312" y="14"/>
                  <a:pt x="2475" y="7"/>
                </a:cubicBezTo>
                <a:cubicBezTo>
                  <a:pt x="2638" y="0"/>
                  <a:pt x="2880" y="7"/>
                  <a:pt x="2986" y="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410080" y="1752480"/>
            <a:ext cx="3505320" cy="10159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I(t)=1/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 para 0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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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    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0  para t&gt;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24480" y="2971800"/>
            <a:ext cx="2286000" cy="9169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Escalón empieza en 0 respuesta es g(t)/</a:t>
            </a:r>
            <a:r>
              <a:rPr b="0" lang="es-ES_tradnl" sz="18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77120" y="3962520"/>
            <a:ext cx="2286000" cy="9169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Escalón empieza en </a:t>
            </a:r>
            <a:r>
              <a:rPr b="0" lang="es-ES_tradnl" sz="18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t respuesta es -g(t-</a:t>
            </a:r>
            <a:r>
              <a:rPr b="0" lang="es-ES_tradnl" sz="18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t)/</a:t>
            </a:r>
            <a:r>
              <a:rPr b="0" lang="es-ES_tradnl" sz="18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09680" y="1905120"/>
            <a:ext cx="4740480" cy="2046240"/>
          </a:xfrm>
          <a:custGeom>
            <a:avLst/>
            <a:gdLst/>
            <a:ahLst/>
            <a:rect l="l" t="t" r="r" b="b"/>
            <a:pathLst>
              <a:path w="2986" h="1289">
                <a:moveTo>
                  <a:pt x="0" y="1289"/>
                </a:moveTo>
                <a:cubicBezTo>
                  <a:pt x="48" y="1285"/>
                  <a:pt x="82" y="1275"/>
                  <a:pt x="144" y="1241"/>
                </a:cubicBezTo>
                <a:cubicBezTo>
                  <a:pt x="206" y="1207"/>
                  <a:pt x="297" y="1158"/>
                  <a:pt x="375" y="1085"/>
                </a:cubicBezTo>
                <a:cubicBezTo>
                  <a:pt x="453" y="1012"/>
                  <a:pt x="539" y="891"/>
                  <a:pt x="610" y="801"/>
                </a:cubicBezTo>
                <a:cubicBezTo>
                  <a:pt x="681" y="711"/>
                  <a:pt x="735" y="618"/>
                  <a:pt x="804" y="542"/>
                </a:cubicBezTo>
                <a:cubicBezTo>
                  <a:pt x="873" y="466"/>
                  <a:pt x="930" y="405"/>
                  <a:pt x="1023" y="347"/>
                </a:cubicBezTo>
                <a:cubicBezTo>
                  <a:pt x="1116" y="289"/>
                  <a:pt x="1261" y="232"/>
                  <a:pt x="1364" y="193"/>
                </a:cubicBezTo>
                <a:cubicBezTo>
                  <a:pt x="1467" y="154"/>
                  <a:pt x="1533" y="136"/>
                  <a:pt x="1640" y="112"/>
                </a:cubicBezTo>
                <a:cubicBezTo>
                  <a:pt x="1747" y="88"/>
                  <a:pt x="1866" y="64"/>
                  <a:pt x="2005" y="47"/>
                </a:cubicBezTo>
                <a:cubicBezTo>
                  <a:pt x="2144" y="30"/>
                  <a:pt x="2312" y="14"/>
                  <a:pt x="2475" y="7"/>
                </a:cubicBezTo>
                <a:cubicBezTo>
                  <a:pt x="2638" y="0"/>
                  <a:pt x="2880" y="7"/>
                  <a:pt x="2986" y="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09680" y="4495680"/>
            <a:ext cx="3810240" cy="198144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4406760"/>
            <a:ext cx="3962520" cy="20703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64" y="1296"/>
                  <a:pt x="128" y="1288"/>
                  <a:pt x="192" y="1256"/>
                </a:cubicBezTo>
                <a:cubicBezTo>
                  <a:pt x="256" y="1224"/>
                  <a:pt x="320" y="1176"/>
                  <a:pt x="384" y="1112"/>
                </a:cubicBezTo>
                <a:cubicBezTo>
                  <a:pt x="448" y="1048"/>
                  <a:pt x="528" y="960"/>
                  <a:pt x="576" y="872"/>
                </a:cubicBezTo>
                <a:cubicBezTo>
                  <a:pt x="624" y="784"/>
                  <a:pt x="641" y="674"/>
                  <a:pt x="672" y="584"/>
                </a:cubicBezTo>
                <a:cubicBezTo>
                  <a:pt x="703" y="494"/>
                  <a:pt x="724" y="417"/>
                  <a:pt x="764" y="329"/>
                </a:cubicBezTo>
                <a:cubicBezTo>
                  <a:pt x="804" y="241"/>
                  <a:pt x="855" y="101"/>
                  <a:pt x="912" y="56"/>
                </a:cubicBezTo>
                <a:cubicBezTo>
                  <a:pt x="969" y="11"/>
                  <a:pt x="1040" y="0"/>
                  <a:pt x="1104" y="56"/>
                </a:cubicBezTo>
                <a:cubicBezTo>
                  <a:pt x="1168" y="112"/>
                  <a:pt x="1200" y="264"/>
                  <a:pt x="1296" y="392"/>
                </a:cubicBezTo>
                <a:cubicBezTo>
                  <a:pt x="1392" y="520"/>
                  <a:pt x="1544" y="704"/>
                  <a:pt x="1680" y="824"/>
                </a:cubicBezTo>
                <a:cubicBezTo>
                  <a:pt x="1816" y="944"/>
                  <a:pt x="1976" y="1048"/>
                  <a:pt x="2112" y="1112"/>
                </a:cubicBezTo>
                <a:cubicBezTo>
                  <a:pt x="2248" y="1176"/>
                  <a:pt x="2432" y="1192"/>
                  <a:pt x="2496" y="1208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029200" y="5038560"/>
                <a:ext cx="3843360" cy="18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[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 flipH="1">
            <a:off x="1752480" y="1371600"/>
            <a:ext cx="533520" cy="3962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6400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3428640" y="1371600"/>
            <a:ext cx="2971800" cy="3886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990720" y="609480"/>
            <a:ext cx="7162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Tahoma"/>
              </a:rPr>
              <a:t>Hidrograma Unitario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(Sherman, 193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Tahoma"/>
              </a:rPr>
              <a:t>HED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que resulta de una Pef unitaria (1mm, 1 cm...) que se produce uniformemente sobre la cuenca, con intensidad constante durante una duración especific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657600" y="3200400"/>
            <a:ext cx="1905120" cy="1015920"/>
          </a:xfrm>
          <a:prstGeom prst="rect">
            <a:avLst/>
          </a:prstGeom>
          <a:solidFill>
            <a:srgbClr val="660033"/>
          </a:solidFill>
          <a:ln w="9360">
            <a:solidFill>
              <a:srgbClr val="c755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Hidrogra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Un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05120" y="3048120"/>
            <a:ext cx="1658880" cy="1244520"/>
          </a:xfrm>
          <a:prstGeom prst="rightArrow">
            <a:avLst>
              <a:gd name="adj1" fmla="val 50000"/>
              <a:gd name="adj2" fmla="val 33324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38680" y="3200400"/>
            <a:ext cx="1327320" cy="1244520"/>
          </a:xfrm>
          <a:prstGeom prst="rightArrow">
            <a:avLst>
              <a:gd name="adj1" fmla="val 50000"/>
              <a:gd name="adj2" fmla="val 26663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335268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7558e"/>
                </a:solidFill>
                <a:latin typeface="Tahoma"/>
              </a:rPr>
              <a:t>Precipitación efecti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934320" y="358128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7558e"/>
                </a:solidFill>
                <a:latin typeface="Tahoma"/>
              </a:rPr>
              <a:t>Escorrentía Direc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4400" y="49528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Teoría HU aplicable a 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sistema lineal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con cualquier entrada y 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33520" y="228600"/>
            <a:ext cx="2590560" cy="52056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1a3c2"/>
                </a:solidFill>
                <a:latin typeface="Tahoma"/>
              </a:rPr>
              <a:t>Hipót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1143000"/>
            <a:ext cx="8915400" cy="54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-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Lluvia efectiva uniforme espacial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  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Limitar a cuencas de superficie &lt; 3000 a 5000 Km</a:t>
            </a:r>
            <a:r>
              <a:rPr b="1" lang="es-ES_tradnl" sz="2000" spc="-1" strike="noStrike" baseline="30000">
                <a:solidFill>
                  <a:srgbClr val="e1a3c2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       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Si régimen de Pp es orográfico, configuración se  mantiene de una tormenta a otra y efecto poco impor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-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Lluvia efectiva uniforme en el tiempo para la duración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    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Obtener HU para tormentas de corta duración (tiempo de desfase/4 o 1/3 a 1/5 t</a:t>
            </a:r>
            <a:r>
              <a:rPr b="1" lang="es-ES_tradnl" sz="2000" spc="-1" strike="noStrike" baseline="-25000">
                <a:solidFill>
                  <a:srgbClr val="e1a3c2"/>
                </a:solidFill>
                <a:latin typeface="Tahoma"/>
              </a:rPr>
              <a:t>c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e inferior a 24 horas)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-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b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del HED es prácticamente constante para lluvias efectivas de igual d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     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Como T</a:t>
            </a:r>
            <a:r>
              <a:rPr b="1" lang="es-ES_tradnl" sz="2000" spc="-1" strike="noStrike" baseline="-25000">
                <a:solidFill>
                  <a:srgbClr val="e1a3c2"/>
                </a:solidFill>
                <a:latin typeface="Tahoma"/>
              </a:rPr>
              <a:t>b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 depende de método separación componentes del HET,  se acepta tolerancia ± 25% en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304920"/>
            <a:ext cx="9144000" cy="58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- Ordenadas homólogas de los HED de = Tb son directamente proporcionales al Volumen Total de escorrentía directa de cada 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principio de linealidad o superposición.(Principal defecto de la teoría H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En una cuenca específica, el hidrograma de una crecida correspondiente a lluvia determinada, refleja todo el conjunto de características físicas de la cuenca (forma, tamaño, pendiente, suelos, vegetación, etc.) y éstas se suponen invariantes en el tiemp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Cuenca no varía            limitación import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133720" y="1752480"/>
            <a:ext cx="4266720" cy="2476440"/>
            <a:chOff x="2133720" y="1752480"/>
            <a:chExt cx="4266720" cy="2476440"/>
          </a:xfrm>
        </p:grpSpPr>
        <p:sp>
          <p:nvSpPr>
            <p:cNvPr id="158" name=""/>
            <p:cNvSpPr/>
            <p:nvPr/>
          </p:nvSpPr>
          <p:spPr>
            <a:xfrm>
              <a:off x="2133720" y="2031480"/>
              <a:ext cx="0" cy="1581840"/>
            </a:xfrm>
            <a:prstGeom prst="line">
              <a:avLst/>
            </a:prstGeom>
            <a:ln w="9360">
              <a:solidFill>
                <a:srgbClr val="c7558e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133720" y="3613680"/>
              <a:ext cx="4177800" cy="0"/>
            </a:xfrm>
            <a:prstGeom prst="line">
              <a:avLst/>
            </a:prstGeom>
            <a:ln w="9360">
              <a:solidFill>
                <a:srgbClr val="c7558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311200" y="2031480"/>
              <a:ext cx="266400" cy="185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11200" y="2651760"/>
              <a:ext cx="2933280" cy="961560"/>
            </a:xfrm>
            <a:custGeom>
              <a:avLst/>
              <a:gdLst/>
              <a:ahLst/>
              <a:rect l="l" t="t" r="r" b="b"/>
              <a:pathLst>
                <a:path w="1584" h="496">
                  <a:moveTo>
                    <a:pt x="0" y="496"/>
                  </a:moveTo>
                  <a:cubicBezTo>
                    <a:pt x="72" y="468"/>
                    <a:pt x="144" y="440"/>
                    <a:pt x="192" y="400"/>
                  </a:cubicBezTo>
                  <a:cubicBezTo>
                    <a:pt x="240" y="360"/>
                    <a:pt x="256" y="312"/>
                    <a:pt x="288" y="256"/>
                  </a:cubicBezTo>
                  <a:cubicBezTo>
                    <a:pt x="320" y="200"/>
                    <a:pt x="352" y="104"/>
                    <a:pt x="384" y="64"/>
                  </a:cubicBezTo>
                  <a:cubicBezTo>
                    <a:pt x="416" y="24"/>
                    <a:pt x="448" y="0"/>
                    <a:pt x="480" y="16"/>
                  </a:cubicBezTo>
                  <a:cubicBezTo>
                    <a:pt x="512" y="32"/>
                    <a:pt x="544" y="120"/>
                    <a:pt x="576" y="160"/>
                  </a:cubicBezTo>
                  <a:cubicBezTo>
                    <a:pt x="608" y="200"/>
                    <a:pt x="616" y="216"/>
                    <a:pt x="672" y="256"/>
                  </a:cubicBezTo>
                  <a:cubicBezTo>
                    <a:pt x="728" y="296"/>
                    <a:pt x="824" y="368"/>
                    <a:pt x="912" y="400"/>
                  </a:cubicBezTo>
                  <a:cubicBezTo>
                    <a:pt x="1000" y="432"/>
                    <a:pt x="1088" y="432"/>
                    <a:pt x="1200" y="448"/>
                  </a:cubicBezTo>
                  <a:cubicBezTo>
                    <a:pt x="1312" y="464"/>
                    <a:pt x="1520" y="488"/>
                    <a:pt x="1584" y="496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67160" y="2031480"/>
              <a:ext cx="266400" cy="371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467160" y="1752480"/>
              <a:ext cx="2933280" cy="1865160"/>
            </a:xfrm>
            <a:custGeom>
              <a:avLst/>
              <a:gdLst/>
              <a:ahLst/>
              <a:rect l="l" t="t" r="r" b="b"/>
              <a:pathLst>
                <a:path w="1584" h="962">
                  <a:moveTo>
                    <a:pt x="0" y="962"/>
                  </a:moveTo>
                  <a:cubicBezTo>
                    <a:pt x="30" y="926"/>
                    <a:pt x="134" y="819"/>
                    <a:pt x="182" y="744"/>
                  </a:cubicBezTo>
                  <a:cubicBezTo>
                    <a:pt x="230" y="669"/>
                    <a:pt x="255" y="606"/>
                    <a:pt x="288" y="514"/>
                  </a:cubicBezTo>
                  <a:cubicBezTo>
                    <a:pt x="321" y="422"/>
                    <a:pt x="348" y="278"/>
                    <a:pt x="379" y="192"/>
                  </a:cubicBezTo>
                  <a:cubicBezTo>
                    <a:pt x="410" y="106"/>
                    <a:pt x="447" y="0"/>
                    <a:pt x="475" y="0"/>
                  </a:cubicBezTo>
                  <a:cubicBezTo>
                    <a:pt x="503" y="0"/>
                    <a:pt x="516" y="110"/>
                    <a:pt x="547" y="192"/>
                  </a:cubicBezTo>
                  <a:cubicBezTo>
                    <a:pt x="578" y="274"/>
                    <a:pt x="601" y="395"/>
                    <a:pt x="662" y="490"/>
                  </a:cubicBezTo>
                  <a:cubicBezTo>
                    <a:pt x="723" y="585"/>
                    <a:pt x="822" y="702"/>
                    <a:pt x="912" y="764"/>
                  </a:cubicBezTo>
                  <a:cubicBezTo>
                    <a:pt x="1002" y="826"/>
                    <a:pt x="1088" y="827"/>
                    <a:pt x="1200" y="860"/>
                  </a:cubicBezTo>
                  <a:cubicBezTo>
                    <a:pt x="1312" y="893"/>
                    <a:pt x="1504" y="941"/>
                    <a:pt x="1584" y="962"/>
                  </a:cubicBezTo>
                </a:path>
              </a:pathLst>
            </a:custGeom>
            <a:noFill/>
            <a:ln w="381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311200" y="3706920"/>
              <a:ext cx="2844360" cy="336240"/>
              <a:chOff x="2311200" y="3706920"/>
              <a:chExt cx="2844360" cy="336240"/>
            </a:xfrm>
          </p:grpSpPr>
          <p:sp>
            <p:nvSpPr>
              <p:cNvPr id="165" name=""/>
              <p:cNvSpPr/>
              <p:nvPr/>
            </p:nvSpPr>
            <p:spPr>
              <a:xfrm>
                <a:off x="3111120" y="3706920"/>
                <a:ext cx="533160" cy="336240"/>
              </a:xfrm>
              <a:prstGeom prst="rect">
                <a:avLst/>
              </a:prstGeom>
              <a:noFill/>
              <a:ln w="9360">
                <a:solidFill>
                  <a:srgbClr val="c7558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r>
                  <a:rPr b="0" lang="es-ES_tradnl" sz="1400" spc="-1" strike="noStrike" baseline="-25000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2311200" y="3892680"/>
                <a:ext cx="888480" cy="0"/>
              </a:xfrm>
              <a:prstGeom prst="line">
                <a:avLst/>
              </a:prstGeom>
              <a:ln w="9360">
                <a:solidFill>
                  <a:srgbClr val="c7558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466440" y="3892680"/>
                <a:ext cx="1689120" cy="0"/>
              </a:xfrm>
              <a:prstGeom prst="line">
                <a:avLst/>
              </a:prstGeom>
              <a:ln w="9360">
                <a:solidFill>
                  <a:srgbClr val="c7558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3556080" y="3892680"/>
              <a:ext cx="2844000" cy="336240"/>
              <a:chOff x="3556080" y="3892680"/>
              <a:chExt cx="2844000" cy="336240"/>
            </a:xfrm>
          </p:grpSpPr>
          <p:sp>
            <p:nvSpPr>
              <p:cNvPr id="169" name=""/>
              <p:cNvSpPr/>
              <p:nvPr/>
            </p:nvSpPr>
            <p:spPr>
              <a:xfrm>
                <a:off x="4356000" y="3892680"/>
                <a:ext cx="533160" cy="336240"/>
              </a:xfrm>
              <a:prstGeom prst="rect">
                <a:avLst/>
              </a:prstGeom>
              <a:noFill/>
              <a:ln w="9360">
                <a:solidFill>
                  <a:srgbClr val="c7558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r>
                  <a:rPr b="0" lang="es-ES_tradnl" sz="1400" spc="-1" strike="noStrike" baseline="-25000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3556080" y="4078440"/>
                <a:ext cx="888480" cy="0"/>
              </a:xfrm>
              <a:prstGeom prst="line">
                <a:avLst/>
              </a:prstGeom>
              <a:ln w="9360">
                <a:solidFill>
                  <a:srgbClr val="c7558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711320" y="4078440"/>
                <a:ext cx="1688760" cy="0"/>
              </a:xfrm>
              <a:prstGeom prst="line">
                <a:avLst/>
              </a:prstGeom>
              <a:ln w="9360">
                <a:solidFill>
                  <a:srgbClr val="c7558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2" name=""/>
          <p:cNvSpPr/>
          <p:nvPr/>
        </p:nvSpPr>
        <p:spPr>
          <a:xfrm>
            <a:off x="2590920" y="579132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660033"/>
          </a:solidFill>
          <a:ln w="9360">
            <a:solidFill>
              <a:srgbClr val="c755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2T13:55:06Z</dcterms:created>
  <dc:creator>Ximena Vargas</dc:creator>
  <dc:description/>
  <dc:language>en-US</dc:language>
  <cp:lastModifiedBy>Ximena Vargas</cp:lastModifiedBy>
  <dcterms:modified xsi:type="dcterms:W3CDTF">2001-06-22T13:58:26Z</dcterms:modified>
  <cp:revision>1</cp:revision>
  <dc:subject/>
  <dc:title>Sin título de diapositiva</dc:title>
</cp:coreProperties>
</file>