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51B-C582-48B6-9937-5FD7676A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4B8-6458-400B-8C28-0621029D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017-B534-4BA7-8D24-9EAD7084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AD0-772C-4BFC-8F2F-5A42C2D3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C051-E9A1-4492-8888-4C2313C1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0796-5D90-4B37-A369-6892BAA2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E521-0484-40F1-998A-A46DC75A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BAE7-5ECA-482B-AE3D-91C88C14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14C1-991A-48B5-BD40-389C730A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7247-15EB-43B3-8AA6-12AA093E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0BE9-0414-43F5-A931-AB177E99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DCB-C53D-4CC6-85D1-DC9284F2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AA40-CF11-4040-98AA-AA8343F1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1349-29D9-4066-A0F0-99D6B4C6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1492-C0F8-40F4-8A5C-1A1509F8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7255-2257-4271-A9CC-D8FCC906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1660-C0ED-430F-A968-722A80C9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711-5013-4A1E-B0B0-98800E09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BAB-BD08-4BB3-934B-6B380210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60B-DE6C-45D1-B8A9-FCCC068D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28E-7808-4CA0-9804-B3B42EE6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8BB-177E-4F6B-9D70-3B58927B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97F-F682-4E4C-B51F-EB4F9517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3AD-DFFD-457C-9DE3-7664AEC5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F9F6-2B92-4CDF-923E-5B2DE5B26D83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B5CB-5B42-4DB1-B35E-DABC2F33A2F1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reci1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crec2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reci1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crec3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reci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crec4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Ximena Vargas</cp:lastModifiedBy>
  <dcterms:modified xsi:type="dcterms:W3CDTF">1990-01-29T18:58:20Z</dcterms:modified>
  <cp:revision>24</cp:revision>
  <dc:subject/>
  <dc:title>TEMARIO DEL TRABAJO DE TÍTULO </dc:title>
</cp:coreProperties>
</file>