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592-17F6-4F44-B099-0215B297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6D9-3D4C-43F6-B906-A033C8A5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B78-7542-48D6-9A86-12AD7988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655-A078-4945-B38C-500C82A9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E4B9-75ED-4784-AB50-9150AB7A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5BEA-C792-4E1E-97FD-97C55D8A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F4B3-E691-4A84-9C82-E625D37F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3769-3A42-42CE-B003-E5F0AE5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2ED3-7C1E-4D87-A019-EFBC3883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1F1C-EDBA-4FAE-AC41-5A69F9D7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5217-FD96-4FD1-98B1-C387F46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355-58E5-40D8-B295-72D63FB1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DAF5-D42A-4A1F-B503-313F926D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DAE5-80D7-4BE2-86BE-11EBA0A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2CD-41D2-4176-BB1B-B1E3BF02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BDDF-35A9-480E-9CCF-59EA238C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71C-1976-4483-98CD-790DB223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A32-C412-438C-9ACF-3633C6BD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DA7-FB23-4032-9732-D3F728D8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299-A977-42A4-B2EB-35B87A1F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C17-500C-439A-BE42-CC1C434F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084-E6ED-49FF-9C33-DF8490C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B5C-2AAC-45B1-8AF7-994010BA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9F8-660A-4D22-A832-C9D91310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B67-2062-4BDE-BC9B-5E0069B7050F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043E-3F1D-4837-8168-DAC18AC368F3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creci1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crec2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reci1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crec3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creci1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crec4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imena Vargas</cp:lastModifiedBy>
  <dcterms:modified xsi:type="dcterms:W3CDTF">1990-01-29T18:58:20Z</dcterms:modified>
  <cp:revision>24</cp:revision>
  <dc:subject/>
  <dc:title>TEMARIO DEL TRABAJO DE TÍTULO </dc:title>
</cp:coreProperties>
</file>