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12E-50AB-488D-8BC4-3E5D38C7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BDE-4E14-40D8-8B74-574A16DD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80A-A17F-4EAB-BAF7-BA332486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D81-8103-4238-9012-C8A6BBAA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31B9-C5E0-48C0-B4A2-A3BECF66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FBC8-778F-4B39-8A73-F002895B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D0DF-1FE8-4775-AAB3-D15A9247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ECA2-CE23-44E0-A51E-A15268A7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59F1-BF97-4EC3-9BEE-213D3DEF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3719-B193-4011-B3C9-2BAF225C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19EC-4AF6-4BAF-8C3A-669CF366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CFB-DA48-48E1-A487-FFC6D44B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0CA4-5229-4215-BD30-D87D16DB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6BAA-F8F4-4423-8B16-096896D3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471A-B5DC-48E8-9974-1BC7F685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8A31-A385-4F2E-BEB7-5DDF5661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7181-1350-4A6E-B283-8D0019DF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4EE-18C6-4B96-9CC2-10872FFB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2C8-B5B7-49E3-8612-9E750DBB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382-F824-4CFE-9910-02EDC7DB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B53-1761-4536-8289-3C48D68F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3EE-7743-4216-B073-AC9B6C42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B78-A54C-4DB9-BEDB-3634771B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640-FB07-4F10-80F3-9842796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4244-459C-4ACB-B79C-2EDC9C6581F6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6F9F-E5A7-4EA4-BF6E-1ADCF1DFE15D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reci1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crec2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reci1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crec3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reci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crec4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imena Vargas</cp:lastModifiedBy>
  <dcterms:modified xsi:type="dcterms:W3CDTF">1990-01-29T18:58:20Z</dcterms:modified>
  <cp:revision>24</cp:revision>
  <dc:subject/>
  <dc:title>TEMARIO DEL TRABAJO DE TÍTULO </dc:title>
</cp:coreProperties>
</file>