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309-5836-43B8-823A-E6FFDD29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615-ED01-46EA-B6F6-2393C582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D15-2DB5-44AC-8C03-68D0EA83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846-19BC-4D82-B029-EBA029D2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844-C29C-4FD8-8216-DDB4EDBE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00D-F466-4436-BE78-D2BD3E45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B44-8C8D-4AB7-9CA9-8E32392D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D83-EB07-4260-86DB-62F85487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3CD-FBC4-4A79-9F65-0E6FC74D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029-7214-4688-8903-30C948D9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7A1-F547-4C05-9B4C-E4A7140E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6CD-A449-4222-A484-8EF9CAE9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E5A4-AC81-4436-9C7B-C309BAFAF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Mis%20documentos/Hidrologia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lood12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55623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40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6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7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Monotype Sorts"/>
                  <a:ea typeface="Monotype Sorts"/>
                </a:rPr>
                <a:t>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Monotype Sorts"/>
                  <a:ea typeface="Monotype Sorts"/>
                </a:rPr>
                <a:t>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Ximena Vargas</cp:lastModifiedBy>
  <dcterms:modified xsi:type="dcterms:W3CDTF">1990-01-20T20:46:56Z</dcterms:modified>
  <cp:revision>28</cp:revision>
  <dc:subject/>
  <dc:title>CAPITULO 8</dc:title>
</cp:coreProperties>
</file>