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141-8787-4505-83C3-6E85ACFA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BE2-F8DE-4814-A3CC-EEB65E99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EB0-616A-417A-8215-A64EE20C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FAB-6F05-44EF-9CB8-5404EE46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946-CEBE-408A-94B3-E4E18E70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5B3-C61A-4733-9C02-414F09AB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D15-558E-4799-B9F7-480F734C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FCC-DAF2-4F51-A18D-B94FC32C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01A-3A68-424B-93A1-146D938D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A9F-8546-473E-BA1E-D125FD2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EBB-839A-44D9-A38B-4702499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4E4-127D-4AE0-AA69-372534CB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27C8-5872-4522-AB70-01F3E341B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Mis%20documentos/Hidrologia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od12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40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6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7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Monotype Sorts"/>
                  <a:ea typeface="Monotype Sorts"/>
                </a:rPr>
                <a:t>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Monotype Sorts"/>
                  <a:ea typeface="Monotype Sorts"/>
                </a:rPr>
                <a:t>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imena Vargas</cp:lastModifiedBy>
  <dcterms:modified xsi:type="dcterms:W3CDTF">1990-01-20T20:46:56Z</dcterms:modified>
  <cp:revision>28</cp:revision>
  <dc:subject/>
  <dc:title>CAPITULO 8</dc:title>
</cp:coreProperties>
</file>