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5BF2-0E73-48B4-9F77-31C7E272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AED6-3B89-4425-A5FB-13FC1198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1C74-AB0B-46BA-A226-521BB386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523B-C8F7-4951-9039-518964F96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8858-734A-4CB6-B713-D32FBD43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BCA8-4F4C-4A65-B0F4-D16D84DF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9443-3898-4281-8C56-486416B1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2D08-C276-42C3-8D9C-C31AC2C7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E711-46AB-49E3-8FE3-BA8537B4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7288-F6ED-472B-B06F-F404BB45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BB0E-B521-4C0E-BB86-D57AD5AE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A35B-0E55-4F40-B349-6F9BA84F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3FF6-3633-44D3-A5E0-46B78D137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_WEL_009" descr=""/>
          <p:cNvPicPr/>
          <p:nvPr/>
        </p:nvPicPr>
        <p:blipFill>
          <a:blip r:embed="rId1"/>
          <a:stretch/>
        </p:blipFill>
        <p:spPr>
          <a:xfrm>
            <a:off x="1295280" y="74304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647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ccff"/>
                </a:solidFill>
                <a:latin typeface="Times New Roman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76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ccff"/>
                </a:solidFill>
                <a:latin typeface="Tahoma"/>
              </a:rPr>
              <a:t>ESTUDIO DE CRECI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ccff"/>
                </a:solidFill>
                <a:latin typeface="Tahoma"/>
              </a:rPr>
              <a:t>ANALISIS DE FRECUENCIAS REG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0754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6107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6696000" cy="2086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69055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6705360" cy="3952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67820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107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71600" y="762120"/>
            <a:ext cx="7391520" cy="55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NA HOMOGENEA Dp (PLUVIAL-GUMBEL-EXORREIC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VA DE FRECUENCIA REGIONAL QMD MAXI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"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(T)/Q(10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OL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ño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6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8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8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9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8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9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6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6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7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09680" y="762120"/>
            <a:ext cx="5619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380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Ejemplo de Apl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380880"/>
            <a:ext cx="419112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Cuenca en R. Metr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L=9 Km;  Lg=4 Km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Cota Salida=800 ms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 =0,47    PMA=500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24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10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=90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31800" y="1531800"/>
            <a:ext cx="1801800" cy="1711440"/>
            <a:chOff x="631800" y="1531800"/>
            <a:chExt cx="1801800" cy="1711440"/>
          </a:xfrm>
        </p:grpSpPr>
        <p:sp>
          <p:nvSpPr>
            <p:cNvPr id="55" name=""/>
            <p:cNvSpPr/>
            <p:nvPr/>
          </p:nvSpPr>
          <p:spPr>
            <a:xfrm>
              <a:off x="631800" y="1531800"/>
              <a:ext cx="1801800" cy="1711440"/>
            </a:xfrm>
            <a:custGeom>
              <a:avLst/>
              <a:gdLst/>
              <a:ahLst/>
              <a:rect l="l" t="t" r="r" b="b"/>
              <a:pathLst>
                <a:path w="1135" h="1078">
                  <a:moveTo>
                    <a:pt x="16" y="932"/>
                  </a:moveTo>
                  <a:cubicBezTo>
                    <a:pt x="52" y="920"/>
                    <a:pt x="49" y="906"/>
                    <a:pt x="64" y="875"/>
                  </a:cubicBezTo>
                  <a:cubicBezTo>
                    <a:pt x="85" y="832"/>
                    <a:pt x="73" y="867"/>
                    <a:pt x="97" y="835"/>
                  </a:cubicBezTo>
                  <a:cubicBezTo>
                    <a:pt x="130" y="792"/>
                    <a:pt x="147" y="739"/>
                    <a:pt x="202" y="721"/>
                  </a:cubicBezTo>
                  <a:cubicBezTo>
                    <a:pt x="226" y="649"/>
                    <a:pt x="216" y="569"/>
                    <a:pt x="234" y="494"/>
                  </a:cubicBezTo>
                  <a:cubicBezTo>
                    <a:pt x="228" y="408"/>
                    <a:pt x="214" y="340"/>
                    <a:pt x="194" y="259"/>
                  </a:cubicBezTo>
                  <a:cubicBezTo>
                    <a:pt x="201" y="183"/>
                    <a:pt x="192" y="140"/>
                    <a:pt x="251" y="97"/>
                  </a:cubicBezTo>
                  <a:cubicBezTo>
                    <a:pt x="280" y="54"/>
                    <a:pt x="330" y="17"/>
                    <a:pt x="380" y="0"/>
                  </a:cubicBezTo>
                  <a:cubicBezTo>
                    <a:pt x="426" y="3"/>
                    <a:pt x="473" y="0"/>
                    <a:pt x="518" y="8"/>
                  </a:cubicBezTo>
                  <a:cubicBezTo>
                    <a:pt x="555" y="15"/>
                    <a:pt x="588" y="36"/>
                    <a:pt x="624" y="48"/>
                  </a:cubicBezTo>
                  <a:cubicBezTo>
                    <a:pt x="680" y="87"/>
                    <a:pt x="610" y="43"/>
                    <a:pt x="689" y="73"/>
                  </a:cubicBezTo>
                  <a:cubicBezTo>
                    <a:pt x="723" y="86"/>
                    <a:pt x="773" y="113"/>
                    <a:pt x="802" y="138"/>
                  </a:cubicBezTo>
                  <a:cubicBezTo>
                    <a:pt x="840" y="172"/>
                    <a:pt x="872" y="199"/>
                    <a:pt x="916" y="227"/>
                  </a:cubicBezTo>
                  <a:cubicBezTo>
                    <a:pt x="962" y="257"/>
                    <a:pt x="984" y="310"/>
                    <a:pt x="1029" y="340"/>
                  </a:cubicBezTo>
                  <a:cubicBezTo>
                    <a:pt x="1048" y="370"/>
                    <a:pt x="1061" y="396"/>
                    <a:pt x="1086" y="421"/>
                  </a:cubicBezTo>
                  <a:cubicBezTo>
                    <a:pt x="1097" y="468"/>
                    <a:pt x="1122" y="511"/>
                    <a:pt x="1135" y="559"/>
                  </a:cubicBezTo>
                  <a:cubicBezTo>
                    <a:pt x="1125" y="693"/>
                    <a:pt x="1132" y="716"/>
                    <a:pt x="1053" y="811"/>
                  </a:cubicBezTo>
                  <a:cubicBezTo>
                    <a:pt x="1030" y="838"/>
                    <a:pt x="1014" y="865"/>
                    <a:pt x="981" y="884"/>
                  </a:cubicBezTo>
                  <a:cubicBezTo>
                    <a:pt x="939" y="909"/>
                    <a:pt x="874" y="902"/>
                    <a:pt x="826" y="916"/>
                  </a:cubicBezTo>
                  <a:cubicBezTo>
                    <a:pt x="810" y="921"/>
                    <a:pt x="794" y="927"/>
                    <a:pt x="778" y="932"/>
                  </a:cubicBezTo>
                  <a:cubicBezTo>
                    <a:pt x="770" y="935"/>
                    <a:pt x="753" y="940"/>
                    <a:pt x="753" y="940"/>
                  </a:cubicBezTo>
                  <a:cubicBezTo>
                    <a:pt x="741" y="953"/>
                    <a:pt x="733" y="969"/>
                    <a:pt x="721" y="981"/>
                  </a:cubicBezTo>
                  <a:cubicBezTo>
                    <a:pt x="703" y="999"/>
                    <a:pt x="676" y="1013"/>
                    <a:pt x="656" y="1029"/>
                  </a:cubicBezTo>
                  <a:cubicBezTo>
                    <a:pt x="650" y="1034"/>
                    <a:pt x="647" y="1042"/>
                    <a:pt x="640" y="1046"/>
                  </a:cubicBezTo>
                  <a:cubicBezTo>
                    <a:pt x="617" y="1058"/>
                    <a:pt x="591" y="1062"/>
                    <a:pt x="567" y="1070"/>
                  </a:cubicBezTo>
                  <a:cubicBezTo>
                    <a:pt x="559" y="1073"/>
                    <a:pt x="543" y="1078"/>
                    <a:pt x="543" y="1078"/>
                  </a:cubicBezTo>
                  <a:cubicBezTo>
                    <a:pt x="491" y="1068"/>
                    <a:pt x="446" y="1047"/>
                    <a:pt x="397" y="1029"/>
                  </a:cubicBezTo>
                  <a:cubicBezTo>
                    <a:pt x="345" y="981"/>
                    <a:pt x="239" y="1010"/>
                    <a:pt x="186" y="1013"/>
                  </a:cubicBezTo>
                  <a:cubicBezTo>
                    <a:pt x="175" y="1046"/>
                    <a:pt x="161" y="1051"/>
                    <a:pt x="129" y="1062"/>
                  </a:cubicBezTo>
                  <a:cubicBezTo>
                    <a:pt x="100" y="1052"/>
                    <a:pt x="40" y="1038"/>
                    <a:pt x="40" y="1038"/>
                  </a:cubicBezTo>
                  <a:cubicBezTo>
                    <a:pt x="37" y="1016"/>
                    <a:pt x="41" y="993"/>
                    <a:pt x="32" y="973"/>
                  </a:cubicBezTo>
                  <a:cubicBezTo>
                    <a:pt x="28" y="965"/>
                    <a:pt x="11" y="973"/>
                    <a:pt x="7" y="965"/>
                  </a:cubicBezTo>
                  <a:cubicBezTo>
                    <a:pt x="0" y="951"/>
                    <a:pt x="32" y="926"/>
                    <a:pt x="32" y="916"/>
                  </a:cubicBezTo>
                  <a:cubicBezTo>
                    <a:pt x="32" y="908"/>
                    <a:pt x="21" y="927"/>
                    <a:pt x="16" y="932"/>
                  </a:cubicBezTo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2960" y="2478240"/>
              <a:ext cx="1428840" cy="558720"/>
            </a:xfrm>
            <a:custGeom>
              <a:avLst/>
              <a:gdLst/>
              <a:ahLst/>
              <a:rect l="l" t="t" r="r" b="b"/>
              <a:pathLst>
                <a:path w="900" h="352">
                  <a:moveTo>
                    <a:pt x="0" y="352"/>
                  </a:moveTo>
                  <a:cubicBezTo>
                    <a:pt x="35" y="349"/>
                    <a:pt x="71" y="350"/>
                    <a:pt x="106" y="344"/>
                  </a:cubicBezTo>
                  <a:cubicBezTo>
                    <a:pt x="115" y="342"/>
                    <a:pt x="121" y="332"/>
                    <a:pt x="130" y="328"/>
                  </a:cubicBezTo>
                  <a:cubicBezTo>
                    <a:pt x="153" y="318"/>
                    <a:pt x="179" y="312"/>
                    <a:pt x="203" y="304"/>
                  </a:cubicBezTo>
                  <a:cubicBezTo>
                    <a:pt x="211" y="301"/>
                    <a:pt x="227" y="296"/>
                    <a:pt x="227" y="296"/>
                  </a:cubicBezTo>
                  <a:cubicBezTo>
                    <a:pt x="256" y="267"/>
                    <a:pt x="237" y="281"/>
                    <a:pt x="292" y="263"/>
                  </a:cubicBezTo>
                  <a:cubicBezTo>
                    <a:pt x="300" y="260"/>
                    <a:pt x="317" y="255"/>
                    <a:pt x="317" y="255"/>
                  </a:cubicBezTo>
                  <a:cubicBezTo>
                    <a:pt x="383" y="260"/>
                    <a:pt x="428" y="266"/>
                    <a:pt x="487" y="288"/>
                  </a:cubicBezTo>
                  <a:cubicBezTo>
                    <a:pt x="518" y="279"/>
                    <a:pt x="539" y="267"/>
                    <a:pt x="568" y="255"/>
                  </a:cubicBezTo>
                  <a:cubicBezTo>
                    <a:pt x="599" y="242"/>
                    <a:pt x="617" y="252"/>
                    <a:pt x="649" y="231"/>
                  </a:cubicBezTo>
                  <a:cubicBezTo>
                    <a:pt x="694" y="201"/>
                    <a:pt x="734" y="164"/>
                    <a:pt x="771" y="125"/>
                  </a:cubicBezTo>
                  <a:cubicBezTo>
                    <a:pt x="781" y="95"/>
                    <a:pt x="797" y="51"/>
                    <a:pt x="828" y="36"/>
                  </a:cubicBezTo>
                  <a:cubicBezTo>
                    <a:pt x="900" y="0"/>
                    <a:pt x="856" y="40"/>
                    <a:pt x="892" y="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74760" y="1892160"/>
              <a:ext cx="299880" cy="1003320"/>
            </a:xfrm>
            <a:custGeom>
              <a:avLst/>
              <a:gdLst/>
              <a:ahLst/>
              <a:rect l="l" t="t" r="r" b="b"/>
              <a:pathLst>
                <a:path w="189" h="632">
                  <a:moveTo>
                    <a:pt x="0" y="632"/>
                  </a:moveTo>
                  <a:cubicBezTo>
                    <a:pt x="34" y="609"/>
                    <a:pt x="47" y="574"/>
                    <a:pt x="81" y="551"/>
                  </a:cubicBezTo>
                  <a:cubicBezTo>
                    <a:pt x="92" y="535"/>
                    <a:pt x="99" y="515"/>
                    <a:pt x="113" y="502"/>
                  </a:cubicBezTo>
                  <a:cubicBezTo>
                    <a:pt x="119" y="497"/>
                    <a:pt x="125" y="492"/>
                    <a:pt x="130" y="486"/>
                  </a:cubicBezTo>
                  <a:cubicBezTo>
                    <a:pt x="142" y="471"/>
                    <a:pt x="151" y="454"/>
                    <a:pt x="162" y="438"/>
                  </a:cubicBezTo>
                  <a:cubicBezTo>
                    <a:pt x="167" y="430"/>
                    <a:pt x="178" y="413"/>
                    <a:pt x="178" y="413"/>
                  </a:cubicBezTo>
                  <a:cubicBezTo>
                    <a:pt x="189" y="369"/>
                    <a:pt x="179" y="338"/>
                    <a:pt x="154" y="300"/>
                  </a:cubicBezTo>
                  <a:cubicBezTo>
                    <a:pt x="144" y="270"/>
                    <a:pt x="140" y="245"/>
                    <a:pt x="121" y="219"/>
                  </a:cubicBezTo>
                  <a:cubicBezTo>
                    <a:pt x="111" y="168"/>
                    <a:pt x="102" y="117"/>
                    <a:pt x="73" y="73"/>
                  </a:cubicBezTo>
                  <a:cubicBezTo>
                    <a:pt x="64" y="45"/>
                    <a:pt x="45" y="21"/>
                    <a:pt x="24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362320" y="3429000"/>
            <a:ext cx="6019560" cy="193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Area Aportante Pluvial según Línea de nie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Latitud 33,0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o</a:t>
            </a: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LN en 2000ms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Area=19 Km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 y H =12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9436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c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=0,78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5486400"/>
            <a:ext cx="4419720" cy="12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1,72 hrs   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91,52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/s/(Km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0,313 hrs 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8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00200" y="45720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R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 = 0,39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371600"/>
            <a:ext cx="510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e debe corregir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p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y 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133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Zona Homogénea 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335268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V-K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7,4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2971800"/>
            <a:ext cx="266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=10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4267080"/>
            <a:ext cx="518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FR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8,9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5105520"/>
            <a:ext cx="350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HU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 45,3  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617220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MI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A-R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 7,8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4800600"/>
            <a:ext cx="2971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A.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5562720"/>
            <a:ext cx="320040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md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10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4,1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181480" y="457200"/>
          <a:ext cx="3743280" cy="279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457200"/>
                    <a:ext cx="374328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4T16:29:54Z</dcterms:created>
  <dc:creator>Ximena Vargas</dc:creator>
  <dc:description/>
  <dc:language>en-US</dc:language>
  <cp:lastModifiedBy>Ximena Vargas</cp:lastModifiedBy>
  <dcterms:modified xsi:type="dcterms:W3CDTF">2001-06-21T21:09:20Z</dcterms:modified>
  <cp:revision>12</cp:revision>
  <dc:subject/>
  <dc:title>CAPITULO 8</dc:title>
</cp:coreProperties>
</file>