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D22-3A0E-4E1F-AB6C-3083FDAA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910-D45C-4F14-91BB-E7AD707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575-DC17-4A09-9905-9EAD51CD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2C-B1C4-4F09-9BF4-2ACDFC9C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79F-8425-4ED6-A832-78FE675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DAA-50D1-4413-98A9-CEA303C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EAF-3F75-4B48-B6EC-57DFD7C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9ED-565A-4354-B365-DE5F07EF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C81-A190-48BE-A3FD-64F97AA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BBE-AF45-49F0-A737-2909F55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B2B-2586-41FD-9736-76B57EA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6A7-04B5-4353-A0FA-0A95682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9E2-3ACD-4B08-9C74-227450FA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WEL_009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imena Vargas</cp:lastModifiedBy>
  <dcterms:modified xsi:type="dcterms:W3CDTF">2001-06-21T21:09:20Z</dcterms:modified>
  <cp:revision>12</cp:revision>
  <dc:subject/>
  <dc:title>CAPITULO 8</dc:title>
</cp:coreProperties>
</file>