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51F-319D-4C89-97B9-947E78BF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8D5-F324-48E0-A99D-0DDA7F07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E17-DA81-412C-8E8B-637B0A84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CEB-AC5F-4D71-9EA0-D953AFF5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079-51BA-4E52-8A7C-0EA595C2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1DD-DDD6-41D3-8751-B54AA2A6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D69-7769-4654-8EBB-9AF1BB40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03B-0698-4FE0-A23D-4A7AC0EC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87C-AC21-455A-9968-2564AAEB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A01-B165-4948-BB38-4C3C9853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B85-39F1-42F8-9347-4A447C1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CB1-5ED3-4617-9A72-06A3A671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FB14-228B-47E9-8482-35E2CA122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AP8-3.ppt#Slide 1" TargetMode="External"/><Relationship Id="rId2" Type="http://schemas.openxmlformats.org/officeDocument/2006/relationships/slide" Target="slide18.xml"/><Relationship Id="rId3" Type="http://schemas.openxmlformats.org/officeDocument/2006/relationships/hyperlink" Target="file:///CAP8-4.ppt#Slide 1" TargetMode="Externa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10a00101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6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1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79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3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Fórmula de Verni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1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16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Ximena Vargas</cp:lastModifiedBy>
  <dcterms:modified xsi:type="dcterms:W3CDTF">2002-06-21T16:29:13Z</dcterms:modified>
  <cp:revision>22</cp:revision>
  <dc:subject/>
  <dc:title>CAPITULO 8</dc:title>
</cp:coreProperties>
</file>