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E25-0BE0-47B3-85CC-6A340AF7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308-4D56-4B86-B295-CC53008E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6D0-FD31-447C-B723-9D765EE8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9D9-6E7A-4645-9722-60345F4C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F15-9D67-4A45-AA02-76DE716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AE5-FA45-4A07-8FC7-D41B60E4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8F4-BB3A-4CB7-B523-05769A16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864-0841-47EC-A00D-FBFEC72A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DB8-F885-49E7-A8E1-D1176BF1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4CF-7142-450F-BA3D-4458BA64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AC5-BD4B-44E4-83B2-84094B0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318-F2F8-445D-8074-21270590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E6CA-4565-4349-A904-1CCCC3E35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AP8-3.ppt#Slide 1" TargetMode="External"/><Relationship Id="rId2" Type="http://schemas.openxmlformats.org/officeDocument/2006/relationships/slide" Target="slide18.xml"/><Relationship Id="rId3" Type="http://schemas.openxmlformats.org/officeDocument/2006/relationships/hyperlink" Target="file:///CAP8-4.ppt#Slide 1" TargetMode="Externa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10a00101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6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1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79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3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Fórmula de Verni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1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16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imena Vargas</cp:lastModifiedBy>
  <dcterms:modified xsi:type="dcterms:W3CDTF">2002-06-21T16:29:13Z</dcterms:modified>
  <cp:revision>22</cp:revision>
  <dc:subject/>
  <dc:title>CAPITULO 8</dc:title>
</cp:coreProperties>
</file>