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5.wmf" ContentType="image/x-wmf"/>
  <Override PartName="/ppt/media/image1.png" ContentType="image/pn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85F-75CB-4E68-BAC7-4BC04CF5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15D-5ECD-4AD5-A1D4-FBD4F74B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EF9-6EE7-44DB-B4B3-CC1CC7BC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568-D703-4BDD-BA01-0FB4346C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4B7-DBBB-4FB9-9959-DF72E891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9B3-C719-42EA-8BC7-265B0CB9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CA7-57F1-4E25-87FE-005DE0DF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FAD-F211-4EFE-BF7B-2BBEBDC7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3B4-A0D3-4F68-BE73-332D3D7D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F5F-9A35-4476-B549-5F70F3B3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DC1-58F1-4AD5-B4F2-F0846E4C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837-948A-418E-8269-BB0ED9E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91AE-769B-4EB2-AF72-593D07F9F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867280" y="1066680"/>
                <a:ext cx="20703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7339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2599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verted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puentes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4-05-31T22:57:13Z</dcterms:modified>
  <cp:revision>14</cp:revision>
  <dc:subject/>
  <dc:title>CAPITULO 8</dc:title>
</cp:coreProperties>
</file>