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15.wmf" ContentType="image/x-wmf"/>
  <Override PartName="/ppt/media/image1.png" ContentType="image/png"/>
  <Override PartName="/ppt/media/image3.png" ContentType="image/png"/>
  <Override PartName="/ppt/media/image5.jpeg" ContentType="image/jpeg"/>
  <Override PartName="/ppt/media/image14.wmf" ContentType="image/x-wmf"/>
  <Override PartName="/ppt/media/image6.png" ContentType="image/png"/>
  <Override PartName="/ppt/media/image7.jpeg" ContentType="image/jpeg"/>
  <Override PartName="/ppt/media/image10.wmf" ContentType="image/x-wmf"/>
  <Override PartName="/ppt/media/image2.png" ContentType="image/png"/>
  <Override PartName="/ppt/media/image4.jpeg" ContentType="image/jpeg"/>
  <Override PartName="/ppt/media/image9.jpeg" ContentType="image/jpeg"/>
  <Override PartName="/ppt/media/image11.jpeg" ContentType="image/jpeg"/>
  <Override PartName="/ppt/media/image1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8F5D-0D03-4ED6-A738-30E8FAC18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AC71-E390-40BF-9A5E-F7B766A0F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9416-F5CC-4A9D-95F2-0501A214E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E616-1227-410F-B49A-B284DA2AE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6E93-BD54-4D45-A48B-7B72B989A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7924-F0AE-455F-838B-5B45E2A23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20C3-5D62-45B8-9CCA-AD5FF8E20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93A2-D38B-41E0-9731-4649CD876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22FE-78BE-43AF-B161-47A8AC0E8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4CB4-49E0-49D0-99A2-7D1ECAA54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DB66-F6A3-492D-87E7-ECD3BB2A8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C20C-C1E1-4410-80CB-8A44503B4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14826-546C-407E-A1CC-8F6C18CA0A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7.xml"/><Relationship Id="rId3" Type="http://schemas.openxmlformats.org/officeDocument/2006/relationships/image" Target="../media/image10.wmf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disegno" descr=""/>
          <p:cNvPicPr/>
          <p:nvPr/>
        </p:nvPicPr>
        <p:blipFill>
          <a:blip r:embed="rId2"/>
          <a:stretch/>
        </p:blipFill>
        <p:spPr>
          <a:xfrm>
            <a:off x="609480" y="324000"/>
            <a:ext cx="8001000" cy="6210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ahoma"/>
              </a:rPr>
              <a:t>CAPITULO 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Tahoma"/>
              </a:rPr>
              <a:t>ESTUDIO DE CRECID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914400" y="7621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Bar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971800" y="1219320"/>
            <a:ext cx="2057400" cy="5101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Q(t)=Q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ahoma"/>
              </a:rPr>
              <a:t>o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495680" y="2209680"/>
            <a:ext cx="1349640" cy="520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820" y="1281"/>
                </a:moveTo>
                <a:lnTo>
                  <a:pt x="23150" y="1281"/>
                </a:lnTo>
                <a:lnTo>
                  <a:pt x="23150" y="-13255"/>
                </a:lnTo>
                <a:lnTo>
                  <a:pt x="351" y="-28188"/>
                </a:lnTo>
              </a:path>
              <a:path w="21600" h="21600">
                <a:moveTo>
                  <a:pt x="22820" y="0"/>
                </a:moveTo>
                <a:lnTo>
                  <a:pt x="22820" y="21600"/>
                </a:lnTo>
              </a:path>
            </a:pathLst>
          </a:custGeom>
          <a:solidFill>
            <a:srgbClr val="c0ff8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Tahoma"/>
              </a:rPr>
              <a:t>Varia con </a:t>
            </a:r>
            <a:r>
              <a:rPr b="1" lang="en-US" sz="1400" spc="-1" strike="noStrike">
                <a:solidFill>
                  <a:srgbClr val="008000"/>
                </a:solidFill>
                <a:latin typeface="Symbol"/>
                <a:ea typeface="Symbol"/>
              </a:rPr>
              <a:t></a:t>
            </a:r>
            <a:r>
              <a:rPr b="1" lang="en-US" sz="1400" spc="-1" strike="noStrike">
                <a:solidFill>
                  <a:srgbClr val="008000"/>
                </a:solidFill>
                <a:latin typeface="Tahoma"/>
              </a:rPr>
              <a:t> y est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676520" y="3276720"/>
                <a:ext cx="223344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≡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5486400" y="4114800"/>
            <a:ext cx="259092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-dS=Q</a:t>
            </a:r>
            <a:r>
              <a:rPr b="1" lang="en-US" sz="2400" spc="-1" strike="noStrike" baseline="-25000">
                <a:solidFill>
                  <a:srgbClr val="008000"/>
                </a:solidFill>
                <a:latin typeface="Tahoma"/>
              </a:rPr>
              <a:t>o</a:t>
            </a: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K</a:t>
            </a:r>
            <a:r>
              <a:rPr b="1" lang="en-US" sz="2400" spc="-1" strike="noStrike" baseline="30000">
                <a:solidFill>
                  <a:srgbClr val="008000"/>
                </a:solidFill>
                <a:latin typeface="Tahoma"/>
              </a:rPr>
              <a:t>t</a:t>
            </a: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819520" y="4648320"/>
            <a:ext cx="4572000" cy="533160"/>
          </a:xfrm>
          <a:custGeom>
            <a:avLst/>
            <a:gdLst>
              <a:gd name="textAreaLeft" fmla="*/ 799920 w 4572000"/>
              <a:gd name="textAreaRight" fmla="*/ 3314880 w 457200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gradFill rotWithShape="0">
            <a:gsLst>
              <a:gs pos="0">
                <a:srgbClr val="c0ff81"/>
              </a:gs>
              <a:gs pos="50000">
                <a:srgbClr val="008000"/>
              </a:gs>
              <a:gs pos="100000">
                <a:srgbClr val="c0ff81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457200" y="5634000"/>
                <a:ext cx="3505320" cy="10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e>
                    </m:nary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sub>
                      <m:sup>
                        <m:r>
                          <m:t xml:space="preserve">t</m:t>
                        </m:r>
                      </m:sup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sub>
                      <m:sup>
                        <m:r>
                          <m:t xml:space="preserve">t</m:t>
                        </m:r>
                      </m:sup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e>
                    </m:nary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7" name=""/>
          <p:cNvSpPr/>
          <p:nvPr/>
        </p:nvSpPr>
        <p:spPr>
          <a:xfrm>
            <a:off x="4267080" y="5638680"/>
            <a:ext cx="1143000" cy="9907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339933"/>
              </a:gs>
              <a:gs pos="100000">
                <a:srgbClr val="c0ff8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5486400" y="5430960"/>
                <a:ext cx="2819520" cy="114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5867280" y="1066680"/>
                <a:ext cx="2070360" cy="110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≡</m:t>
                    </m:r>
                    <m:f>
                      <m:num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0" name=""/>
          <p:cNvSpPr/>
          <p:nvPr/>
        </p:nvSpPr>
        <p:spPr>
          <a:xfrm>
            <a:off x="838080" y="457200"/>
            <a:ext cx="4876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lmacenamiento Reman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1143000"/>
            <a:ext cx="3886200" cy="45972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=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 Q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=0,  S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80880" y="3733920"/>
            <a:ext cx="8305920" cy="2669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0ff8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SEPARACION DE LAS COMPONENTES DEL HIDROGRAM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FLUJO BASE (E. SUBTERRANEA Y FLUJO INTERMEDIO LENT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ESCORRENTIA DIRECTA (FLUJO SUPERFICIAL E INTERMEDIO RÁPID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447920" y="5562720"/>
            <a:ext cx="4419360" cy="459720"/>
          </a:xfrm>
          <a:prstGeom prst="rect">
            <a:avLst/>
          </a:prstGeom>
          <a:solidFill>
            <a:srgbClr val="c0ff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Método de la línea rec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4191120"/>
            <a:ext cx="65530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066680" y="609480"/>
            <a:ext cx="7086600" cy="2930760"/>
          </a:xfrm>
          <a:custGeom>
            <a:avLst/>
            <a:gdLst/>
            <a:ahLst/>
            <a:rect l="l" t="t" r="r" b="b"/>
            <a:pathLst>
              <a:path w="4464" h="1846">
                <a:moveTo>
                  <a:pt x="0" y="1846"/>
                </a:moveTo>
                <a:cubicBezTo>
                  <a:pt x="216" y="1842"/>
                  <a:pt x="432" y="1838"/>
                  <a:pt x="624" y="1750"/>
                </a:cubicBezTo>
                <a:cubicBezTo>
                  <a:pt x="816" y="1662"/>
                  <a:pt x="1000" y="1494"/>
                  <a:pt x="1152" y="1318"/>
                </a:cubicBezTo>
                <a:cubicBezTo>
                  <a:pt x="1304" y="1142"/>
                  <a:pt x="1432" y="870"/>
                  <a:pt x="1536" y="694"/>
                </a:cubicBezTo>
                <a:cubicBezTo>
                  <a:pt x="1640" y="518"/>
                  <a:pt x="1688" y="374"/>
                  <a:pt x="1776" y="262"/>
                </a:cubicBezTo>
                <a:cubicBezTo>
                  <a:pt x="1864" y="150"/>
                  <a:pt x="1968" y="40"/>
                  <a:pt x="2066" y="20"/>
                </a:cubicBezTo>
                <a:cubicBezTo>
                  <a:pt x="2164" y="0"/>
                  <a:pt x="2209" y="2"/>
                  <a:pt x="2366" y="141"/>
                </a:cubicBezTo>
                <a:cubicBezTo>
                  <a:pt x="2523" y="280"/>
                  <a:pt x="2845" y="678"/>
                  <a:pt x="3007" y="855"/>
                </a:cubicBezTo>
                <a:cubicBezTo>
                  <a:pt x="3169" y="1032"/>
                  <a:pt x="3208" y="1070"/>
                  <a:pt x="3339" y="1203"/>
                </a:cubicBezTo>
                <a:cubicBezTo>
                  <a:pt x="3470" y="1336"/>
                  <a:pt x="3605" y="1555"/>
                  <a:pt x="3792" y="1654"/>
                </a:cubicBezTo>
                <a:cubicBezTo>
                  <a:pt x="3979" y="1753"/>
                  <a:pt x="4240" y="1762"/>
                  <a:pt x="4464" y="1798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219320" y="2362320"/>
            <a:ext cx="380880" cy="459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5920" y="5290"/>
                </a:moveTo>
                <a:lnTo>
                  <a:pt x="37080" y="5290"/>
                </a:lnTo>
                <a:lnTo>
                  <a:pt x="37080" y="28212"/>
                </a:lnTo>
                <a:lnTo>
                  <a:pt x="32308" y="51972"/>
                </a:lnTo>
              </a:path>
            </a:pathLst>
          </a:custGeom>
          <a:solidFill>
            <a:srgbClr val="c0ff81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391520" y="2666880"/>
            <a:ext cx="500040" cy="459720"/>
          </a:xfrm>
          <a:prstGeom prst="borderCallout2">
            <a:avLst>
              <a:gd name="adj1" fmla="val 18750"/>
              <a:gd name="adj2" fmla="val -8333"/>
              <a:gd name="adj3" fmla="val 24490"/>
              <a:gd name="adj4" fmla="val -55875"/>
              <a:gd name="adj5" fmla="val 85287"/>
              <a:gd name="adj6" fmla="val -97768"/>
            </a:avLst>
          </a:prstGeom>
          <a:solidFill>
            <a:srgbClr val="c0ff81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752480" y="3124080"/>
            <a:ext cx="5105520" cy="1067040"/>
          </a:xfrm>
          <a:custGeom>
            <a:avLst/>
            <a:gdLst/>
            <a:ahLst/>
            <a:rect l="l" t="t" r="r" b="b"/>
            <a:pathLst>
              <a:path w="3216" h="672">
                <a:moveTo>
                  <a:pt x="0" y="192"/>
                </a:moveTo>
                <a:lnTo>
                  <a:pt x="0" y="672"/>
                </a:lnTo>
                <a:lnTo>
                  <a:pt x="3216" y="672"/>
                </a:lnTo>
                <a:lnTo>
                  <a:pt x="3216" y="0"/>
                </a:lnTo>
                <a:lnTo>
                  <a:pt x="0" y="240"/>
                </a:lnTo>
              </a:path>
            </a:pathLst>
          </a:custGeom>
          <a:solidFill>
            <a:srgbClr val="c0ff81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752480" y="3123720"/>
            <a:ext cx="5105520" cy="381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895480" y="36576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Fluj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505320" y="190512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Escorrentía Direc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854360" y="3124080"/>
            <a:ext cx="5003640" cy="1067040"/>
          </a:xfrm>
          <a:custGeom>
            <a:avLst/>
            <a:gdLst/>
            <a:ahLst/>
            <a:rect l="l" t="t" r="r" b="b"/>
            <a:pathLst>
              <a:path w="3152" h="672">
                <a:moveTo>
                  <a:pt x="0" y="651"/>
                </a:moveTo>
                <a:cubicBezTo>
                  <a:pt x="0" y="592"/>
                  <a:pt x="0" y="478"/>
                  <a:pt x="0" y="408"/>
                </a:cubicBezTo>
                <a:lnTo>
                  <a:pt x="0" y="229"/>
                </a:lnTo>
                <a:lnTo>
                  <a:pt x="1616" y="384"/>
                </a:lnTo>
                <a:lnTo>
                  <a:pt x="3152" y="0"/>
                </a:lnTo>
                <a:lnTo>
                  <a:pt x="3152" y="672"/>
                </a:lnTo>
                <a:lnTo>
                  <a:pt x="0" y="651"/>
                </a:lnTo>
                <a:close/>
              </a:path>
            </a:pathLst>
          </a:custGeom>
          <a:solidFill>
            <a:srgbClr val="c0ff81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447920" y="4191120"/>
            <a:ext cx="65530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11080" y="609480"/>
            <a:ext cx="7342200" cy="2905200"/>
          </a:xfrm>
          <a:custGeom>
            <a:avLst/>
            <a:gdLst/>
            <a:ahLst/>
            <a:rect l="l" t="t" r="r" b="b"/>
            <a:pathLst>
              <a:path w="4625" h="1830">
                <a:moveTo>
                  <a:pt x="0" y="1732"/>
                </a:moveTo>
                <a:cubicBezTo>
                  <a:pt x="88" y="1743"/>
                  <a:pt x="396" y="1794"/>
                  <a:pt x="527" y="1797"/>
                </a:cubicBezTo>
                <a:cubicBezTo>
                  <a:pt x="658" y="1800"/>
                  <a:pt x="654" y="1830"/>
                  <a:pt x="785" y="1750"/>
                </a:cubicBezTo>
                <a:cubicBezTo>
                  <a:pt x="916" y="1670"/>
                  <a:pt x="1161" y="1494"/>
                  <a:pt x="1313" y="1318"/>
                </a:cubicBezTo>
                <a:cubicBezTo>
                  <a:pt x="1465" y="1142"/>
                  <a:pt x="1593" y="870"/>
                  <a:pt x="1697" y="694"/>
                </a:cubicBezTo>
                <a:cubicBezTo>
                  <a:pt x="1801" y="518"/>
                  <a:pt x="1849" y="374"/>
                  <a:pt x="1937" y="262"/>
                </a:cubicBezTo>
                <a:cubicBezTo>
                  <a:pt x="2025" y="150"/>
                  <a:pt x="2129" y="40"/>
                  <a:pt x="2227" y="20"/>
                </a:cubicBezTo>
                <a:cubicBezTo>
                  <a:pt x="2325" y="0"/>
                  <a:pt x="2370" y="2"/>
                  <a:pt x="2527" y="141"/>
                </a:cubicBezTo>
                <a:cubicBezTo>
                  <a:pt x="2684" y="280"/>
                  <a:pt x="3006" y="678"/>
                  <a:pt x="3168" y="855"/>
                </a:cubicBezTo>
                <a:cubicBezTo>
                  <a:pt x="3330" y="1032"/>
                  <a:pt x="3369" y="1070"/>
                  <a:pt x="3500" y="1203"/>
                </a:cubicBezTo>
                <a:cubicBezTo>
                  <a:pt x="3631" y="1336"/>
                  <a:pt x="3766" y="1555"/>
                  <a:pt x="3953" y="1654"/>
                </a:cubicBezTo>
                <a:cubicBezTo>
                  <a:pt x="4140" y="1753"/>
                  <a:pt x="4401" y="1762"/>
                  <a:pt x="4625" y="1798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295280" y="2362320"/>
            <a:ext cx="381240" cy="459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5920" y="5290"/>
                </a:moveTo>
                <a:lnTo>
                  <a:pt x="37080" y="5290"/>
                </a:lnTo>
                <a:lnTo>
                  <a:pt x="37080" y="28212"/>
                </a:lnTo>
                <a:lnTo>
                  <a:pt x="32298" y="51972"/>
                </a:lnTo>
              </a:path>
            </a:pathLst>
          </a:custGeom>
          <a:solidFill>
            <a:srgbClr val="c0ff81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391520" y="2666880"/>
            <a:ext cx="500040" cy="459720"/>
          </a:xfrm>
          <a:prstGeom prst="borderCallout2">
            <a:avLst>
              <a:gd name="adj1" fmla="val 18750"/>
              <a:gd name="adj2" fmla="val -8333"/>
              <a:gd name="adj3" fmla="val 24490"/>
              <a:gd name="adj4" fmla="val -55875"/>
              <a:gd name="adj5" fmla="val 85287"/>
              <a:gd name="adj6" fmla="val -97768"/>
            </a:avLst>
          </a:prstGeom>
          <a:solidFill>
            <a:srgbClr val="c0ff81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895480" y="36576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Fluj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419720" y="45720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066680" y="3429000"/>
            <a:ext cx="3353040" cy="304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4419720" y="3124080"/>
            <a:ext cx="2438280" cy="609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057400" y="4952880"/>
            <a:ext cx="5105520" cy="825480"/>
          </a:xfrm>
          <a:prstGeom prst="rect">
            <a:avLst/>
          </a:prstGeom>
          <a:solidFill>
            <a:srgbClr val="c0ff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ahoma"/>
              </a:rPr>
              <a:t>Método de las dos líneas rectas o Base Fi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828800" y="2514600"/>
            <a:ext cx="5210280" cy="1679400"/>
          </a:xfrm>
          <a:custGeom>
            <a:avLst/>
            <a:gdLst/>
            <a:ahLst/>
            <a:rect l="l" t="t" r="r" b="b"/>
            <a:pathLst>
              <a:path w="3282" h="1058">
                <a:moveTo>
                  <a:pt x="0" y="624"/>
                </a:moveTo>
                <a:lnTo>
                  <a:pt x="0" y="1056"/>
                </a:lnTo>
                <a:lnTo>
                  <a:pt x="3282" y="1058"/>
                </a:lnTo>
                <a:lnTo>
                  <a:pt x="3282" y="450"/>
                </a:lnTo>
                <a:lnTo>
                  <a:pt x="1920" y="0"/>
                </a:lnTo>
                <a:lnTo>
                  <a:pt x="1632" y="768"/>
                </a:lnTo>
                <a:lnTo>
                  <a:pt x="0" y="624"/>
                </a:lnTo>
                <a:close/>
              </a:path>
            </a:pathLst>
          </a:custGeom>
          <a:solidFill>
            <a:srgbClr val="c0ff81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47920" y="4191120"/>
            <a:ext cx="65530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219320" y="2362320"/>
            <a:ext cx="380880" cy="459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5920" y="5290"/>
                </a:moveTo>
                <a:lnTo>
                  <a:pt x="37080" y="5290"/>
                </a:lnTo>
                <a:lnTo>
                  <a:pt x="37080" y="28212"/>
                </a:lnTo>
                <a:lnTo>
                  <a:pt x="32308" y="51972"/>
                </a:lnTo>
              </a:path>
            </a:pathLst>
          </a:custGeom>
          <a:solidFill>
            <a:srgbClr val="c0ff81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543800" y="2819520"/>
            <a:ext cx="500040" cy="459720"/>
          </a:xfrm>
          <a:prstGeom prst="borderCallout2">
            <a:avLst>
              <a:gd name="adj1" fmla="val 18750"/>
              <a:gd name="adj2" fmla="val -8333"/>
              <a:gd name="adj3" fmla="val 24490"/>
              <a:gd name="adj4" fmla="val -55875"/>
              <a:gd name="adj5" fmla="val 85287"/>
              <a:gd name="adj6" fmla="val -97768"/>
            </a:avLst>
          </a:prstGeom>
          <a:solidFill>
            <a:srgbClr val="c0ff81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895480" y="36576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Fluj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11080" y="609480"/>
            <a:ext cx="7342200" cy="2905200"/>
          </a:xfrm>
          <a:custGeom>
            <a:avLst/>
            <a:gdLst/>
            <a:ahLst/>
            <a:rect l="l" t="t" r="r" b="b"/>
            <a:pathLst>
              <a:path w="4625" h="1830">
                <a:moveTo>
                  <a:pt x="0" y="1732"/>
                </a:moveTo>
                <a:cubicBezTo>
                  <a:pt x="88" y="1743"/>
                  <a:pt x="396" y="1794"/>
                  <a:pt x="527" y="1797"/>
                </a:cubicBezTo>
                <a:cubicBezTo>
                  <a:pt x="658" y="1800"/>
                  <a:pt x="654" y="1830"/>
                  <a:pt x="785" y="1750"/>
                </a:cubicBezTo>
                <a:cubicBezTo>
                  <a:pt x="916" y="1670"/>
                  <a:pt x="1161" y="1494"/>
                  <a:pt x="1313" y="1318"/>
                </a:cubicBezTo>
                <a:cubicBezTo>
                  <a:pt x="1465" y="1142"/>
                  <a:pt x="1593" y="870"/>
                  <a:pt x="1697" y="694"/>
                </a:cubicBezTo>
                <a:cubicBezTo>
                  <a:pt x="1801" y="518"/>
                  <a:pt x="1849" y="374"/>
                  <a:pt x="1937" y="262"/>
                </a:cubicBezTo>
                <a:cubicBezTo>
                  <a:pt x="2025" y="150"/>
                  <a:pt x="2129" y="40"/>
                  <a:pt x="2227" y="20"/>
                </a:cubicBezTo>
                <a:cubicBezTo>
                  <a:pt x="2325" y="0"/>
                  <a:pt x="2370" y="2"/>
                  <a:pt x="2527" y="141"/>
                </a:cubicBezTo>
                <a:cubicBezTo>
                  <a:pt x="2684" y="280"/>
                  <a:pt x="3006" y="678"/>
                  <a:pt x="3168" y="855"/>
                </a:cubicBezTo>
                <a:cubicBezTo>
                  <a:pt x="3330" y="1032"/>
                  <a:pt x="3369" y="1070"/>
                  <a:pt x="3500" y="1203"/>
                </a:cubicBezTo>
                <a:cubicBezTo>
                  <a:pt x="3631" y="1336"/>
                  <a:pt x="3766" y="1555"/>
                  <a:pt x="3953" y="1654"/>
                </a:cubicBezTo>
                <a:cubicBezTo>
                  <a:pt x="4140" y="1753"/>
                  <a:pt x="4401" y="1762"/>
                  <a:pt x="4625" y="1798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419720" y="45720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066680" y="3429000"/>
            <a:ext cx="3353040" cy="304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 flipV="1">
            <a:off x="4266720" y="2285640"/>
            <a:ext cx="3124440" cy="106668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876920" y="533520"/>
            <a:ext cx="0" cy="2133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4419720" y="2514600"/>
            <a:ext cx="457200" cy="12193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410080" y="914400"/>
            <a:ext cx="419400" cy="459720"/>
          </a:xfrm>
          <a:prstGeom prst="borderCallout1">
            <a:avLst>
              <a:gd name="adj1" fmla="val -24045"/>
              <a:gd name="adj2" fmla="val -1385"/>
              <a:gd name="adj3" fmla="val 15709"/>
              <a:gd name="adj4" fmla="val -1395"/>
            </a:avLst>
          </a:prstGeom>
          <a:solidFill>
            <a:srgbClr val="c0ff81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209680" y="4952880"/>
            <a:ext cx="5257800" cy="825480"/>
          </a:xfrm>
          <a:prstGeom prst="rect">
            <a:avLst/>
          </a:prstGeom>
          <a:solidFill>
            <a:srgbClr val="c0ff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ahoma"/>
              </a:rPr>
              <a:t>Método de la línea curva o pendiente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447920" y="4191120"/>
            <a:ext cx="65530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543800" y="2819520"/>
            <a:ext cx="500040" cy="459720"/>
          </a:xfrm>
          <a:prstGeom prst="borderCallout2">
            <a:avLst>
              <a:gd name="adj1" fmla="val 18750"/>
              <a:gd name="adj2" fmla="val -8333"/>
              <a:gd name="adj3" fmla="val 24490"/>
              <a:gd name="adj4" fmla="val -55875"/>
              <a:gd name="adj5" fmla="val 85287"/>
              <a:gd name="adj6" fmla="val -97768"/>
            </a:avLst>
          </a:prstGeom>
          <a:solidFill>
            <a:srgbClr val="c0ff81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11080" y="609480"/>
            <a:ext cx="7342200" cy="2905200"/>
          </a:xfrm>
          <a:custGeom>
            <a:avLst/>
            <a:gdLst/>
            <a:ahLst/>
            <a:rect l="l" t="t" r="r" b="b"/>
            <a:pathLst>
              <a:path w="4625" h="1830">
                <a:moveTo>
                  <a:pt x="0" y="1732"/>
                </a:moveTo>
                <a:cubicBezTo>
                  <a:pt x="88" y="1743"/>
                  <a:pt x="396" y="1794"/>
                  <a:pt x="527" y="1797"/>
                </a:cubicBezTo>
                <a:cubicBezTo>
                  <a:pt x="658" y="1800"/>
                  <a:pt x="654" y="1830"/>
                  <a:pt x="785" y="1750"/>
                </a:cubicBezTo>
                <a:cubicBezTo>
                  <a:pt x="916" y="1670"/>
                  <a:pt x="1161" y="1494"/>
                  <a:pt x="1313" y="1318"/>
                </a:cubicBezTo>
                <a:cubicBezTo>
                  <a:pt x="1465" y="1142"/>
                  <a:pt x="1593" y="870"/>
                  <a:pt x="1697" y="694"/>
                </a:cubicBezTo>
                <a:cubicBezTo>
                  <a:pt x="1801" y="518"/>
                  <a:pt x="1849" y="374"/>
                  <a:pt x="1937" y="262"/>
                </a:cubicBezTo>
                <a:cubicBezTo>
                  <a:pt x="2025" y="150"/>
                  <a:pt x="2129" y="40"/>
                  <a:pt x="2227" y="20"/>
                </a:cubicBezTo>
                <a:cubicBezTo>
                  <a:pt x="2325" y="0"/>
                  <a:pt x="2370" y="2"/>
                  <a:pt x="2527" y="141"/>
                </a:cubicBezTo>
                <a:cubicBezTo>
                  <a:pt x="2684" y="280"/>
                  <a:pt x="3006" y="678"/>
                  <a:pt x="3168" y="855"/>
                </a:cubicBezTo>
                <a:cubicBezTo>
                  <a:pt x="3330" y="1032"/>
                  <a:pt x="3369" y="1070"/>
                  <a:pt x="3500" y="1203"/>
                </a:cubicBezTo>
                <a:cubicBezTo>
                  <a:pt x="3631" y="1336"/>
                  <a:pt x="3766" y="1555"/>
                  <a:pt x="3953" y="1654"/>
                </a:cubicBezTo>
                <a:cubicBezTo>
                  <a:pt x="4140" y="1753"/>
                  <a:pt x="4401" y="1762"/>
                  <a:pt x="4625" y="1798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419720" y="45720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609480" y="304920"/>
            <a:ext cx="8001000" cy="947160"/>
          </a:xfrm>
          <a:prstGeom prst="rect">
            <a:avLst/>
          </a:prstGeom>
          <a:solidFill>
            <a:srgbClr val="c0ff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Tahoma"/>
              </a:rPr>
              <a:t>Determinación de punto D de inicio de la curva de agota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447920" y="5029200"/>
            <a:ext cx="65530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543800" y="3657600"/>
            <a:ext cx="500040" cy="459720"/>
          </a:xfrm>
          <a:prstGeom prst="borderCallout2">
            <a:avLst>
              <a:gd name="adj1" fmla="val 18750"/>
              <a:gd name="adj2" fmla="val -8333"/>
              <a:gd name="adj3" fmla="val 24490"/>
              <a:gd name="adj4" fmla="val -55875"/>
              <a:gd name="adj5" fmla="val 85287"/>
              <a:gd name="adj6" fmla="val -97768"/>
            </a:avLst>
          </a:prstGeom>
          <a:solidFill>
            <a:srgbClr val="c0ff81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11080" y="1447920"/>
            <a:ext cx="7342200" cy="2904840"/>
          </a:xfrm>
          <a:custGeom>
            <a:avLst/>
            <a:gdLst/>
            <a:ahLst/>
            <a:rect l="l" t="t" r="r" b="b"/>
            <a:pathLst>
              <a:path w="4625" h="1830">
                <a:moveTo>
                  <a:pt x="0" y="1732"/>
                </a:moveTo>
                <a:cubicBezTo>
                  <a:pt x="88" y="1743"/>
                  <a:pt x="396" y="1794"/>
                  <a:pt x="527" y="1797"/>
                </a:cubicBezTo>
                <a:cubicBezTo>
                  <a:pt x="658" y="1800"/>
                  <a:pt x="654" y="1830"/>
                  <a:pt x="785" y="1750"/>
                </a:cubicBezTo>
                <a:cubicBezTo>
                  <a:pt x="916" y="1670"/>
                  <a:pt x="1161" y="1494"/>
                  <a:pt x="1313" y="1318"/>
                </a:cubicBezTo>
                <a:cubicBezTo>
                  <a:pt x="1465" y="1142"/>
                  <a:pt x="1593" y="870"/>
                  <a:pt x="1697" y="694"/>
                </a:cubicBezTo>
                <a:cubicBezTo>
                  <a:pt x="1801" y="518"/>
                  <a:pt x="1849" y="374"/>
                  <a:pt x="1937" y="262"/>
                </a:cubicBezTo>
                <a:cubicBezTo>
                  <a:pt x="2025" y="150"/>
                  <a:pt x="2129" y="40"/>
                  <a:pt x="2227" y="20"/>
                </a:cubicBezTo>
                <a:cubicBezTo>
                  <a:pt x="2325" y="0"/>
                  <a:pt x="2370" y="2"/>
                  <a:pt x="2527" y="141"/>
                </a:cubicBezTo>
                <a:cubicBezTo>
                  <a:pt x="2684" y="280"/>
                  <a:pt x="3006" y="678"/>
                  <a:pt x="3168" y="855"/>
                </a:cubicBezTo>
                <a:cubicBezTo>
                  <a:pt x="3330" y="1032"/>
                  <a:pt x="3369" y="1070"/>
                  <a:pt x="3500" y="1203"/>
                </a:cubicBezTo>
                <a:cubicBezTo>
                  <a:pt x="3631" y="1336"/>
                  <a:pt x="3766" y="1555"/>
                  <a:pt x="3953" y="1654"/>
                </a:cubicBezTo>
                <a:cubicBezTo>
                  <a:pt x="4140" y="1753"/>
                  <a:pt x="4401" y="1762"/>
                  <a:pt x="4625" y="1798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419720" y="129528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334120" y="3886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419720" y="4343400"/>
            <a:ext cx="26668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3276720" y="5356080"/>
                <a:ext cx="1981080" cy="100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den>
                    </m:f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0,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4876920" y="6019920"/>
            <a:ext cx="1523880" cy="2286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400800" y="61722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609480" y="533520"/>
            <a:ext cx="2895840" cy="459720"/>
          </a:xfrm>
          <a:prstGeom prst="rect">
            <a:avLst/>
          </a:prstGeom>
          <a:solidFill>
            <a:srgbClr val="c0ff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Método Gráf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886200" y="1600200"/>
            <a:ext cx="2895480" cy="510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Q(t) = Q</a:t>
            </a:r>
            <a:r>
              <a:rPr b="1" lang="en-US" sz="2400" spc="-1" strike="noStrike" baseline="-25000">
                <a:solidFill>
                  <a:srgbClr val="008000"/>
                </a:solidFill>
                <a:latin typeface="Verdana"/>
              </a:rPr>
              <a:t>o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 e</a:t>
            </a:r>
            <a:r>
              <a:rPr b="1" lang="en-US" sz="2400" spc="-1" strike="noStrike" baseline="30000">
                <a:solidFill>
                  <a:srgbClr val="008000"/>
                </a:solidFill>
                <a:latin typeface="Verdana"/>
              </a:rPr>
              <a:t>-K’t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2173320" y="3584520"/>
                <a:ext cx="2720880" cy="138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t</m:t>
                        </m:r>
                        <m:r>
                          <m:t xml:space="preserve">'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1066680" y="814320"/>
            <a:ext cx="6782040" cy="50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457200" y="360360"/>
            <a:ext cx="8229600" cy="613728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5029200" y="25909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181480" y="2971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819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2438280" y="3200400"/>
            <a:ext cx="763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2438280" y="3276720"/>
            <a:ext cx="2743200" cy="45720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533520" y="414360"/>
            <a:ext cx="7696080" cy="574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Mappastor%20fern" descr=""/>
          <p:cNvPicPr/>
          <p:nvPr/>
        </p:nvPicPr>
        <p:blipFill>
          <a:blip r:embed="rId2"/>
          <a:stretch/>
        </p:blipFill>
        <p:spPr>
          <a:xfrm>
            <a:off x="2743200" y="3675240"/>
            <a:ext cx="4792680" cy="31827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914400" y="0"/>
            <a:ext cx="7772400" cy="5259960"/>
          </a:xfrm>
          <a:prstGeom prst="rect">
            <a:avLst/>
          </a:prstGeom>
          <a:solidFill>
            <a:srgbClr val="66ff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ahoma"/>
              </a:rPr>
              <a:t>Estimar caudales máximos asociados a cierta  probabilidad para diseñ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3300"/>
                </a:solidFill>
                <a:latin typeface="Tahoma"/>
              </a:rPr>
              <a:t>obras de evacuación y control (verteder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3300"/>
                </a:solidFill>
                <a:latin typeface="Tahoma"/>
              </a:rPr>
              <a:t>obras de drenaje (puentes y alcantarillas de caminos, redes de aguas lluvia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ahoma"/>
              </a:rPr>
              <a:t>obras de protección contra inundaciones (defensas ribereñas, encauzamient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3300"/>
                </a:solidFill>
                <a:latin typeface="Tahoma"/>
              </a:rPr>
              <a:t>Pronóstico de crecidas a corto plazo par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ahoma"/>
              </a:rPr>
              <a:t>operación de compuertas en vertede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ahoma"/>
              </a:rPr>
              <a:t>tomar medidas de protección y salvataje de centros urba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16270800">
            <a:off x="-663120" y="2267280"/>
            <a:ext cx="1910520" cy="58140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Tahoma"/>
              </a:rPr>
              <a:t>Objeti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457200" y="360360"/>
            <a:ext cx="7162920" cy="534204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1981080" y="594360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o existe flujo intermedio rápi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295280" y="2666880"/>
            <a:ext cx="5334120" cy="45972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Nivel Freático bajo y decre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msotw9_temp0" descr=""/>
          <p:cNvPicPr/>
          <p:nvPr/>
        </p:nvPicPr>
        <p:blipFill>
          <a:blip r:embed="rId2"/>
          <a:stretch/>
        </p:blipFill>
        <p:spPr>
          <a:xfrm>
            <a:off x="1219320" y="2514600"/>
            <a:ext cx="5790960" cy="13669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981080" y="4114800"/>
            <a:ext cx="5791320" cy="155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Inicio Pp en Cauces, Intercepción, Infiltración y almacenamiento en depresiones. Solo escorrentía en superficies imperme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SAT3A2" descr=""/>
          <p:cNvPicPr/>
          <p:nvPr/>
        </p:nvPicPr>
        <p:blipFill>
          <a:blip r:embed="rId3"/>
          <a:stretch/>
        </p:blipFill>
        <p:spPr>
          <a:xfrm>
            <a:off x="1828800" y="762120"/>
            <a:ext cx="5676840" cy="19796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600200" y="533520"/>
            <a:ext cx="5029200" cy="45972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ahoma"/>
              </a:rPr>
              <a:t>Ciclo de escorrent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msotw9_temp0" descr=""/>
          <p:cNvPicPr/>
          <p:nvPr/>
        </p:nvPicPr>
        <p:blipFill>
          <a:blip r:embed="rId4"/>
          <a:stretch/>
        </p:blipFill>
        <p:spPr>
          <a:xfrm>
            <a:off x="1447920" y="3865680"/>
            <a:ext cx="7086600" cy="21938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600200" y="6248520"/>
            <a:ext cx="396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Zona de aireación satur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msotw9_temp0" descr=""/>
          <p:cNvPicPr/>
          <p:nvPr/>
        </p:nvPicPr>
        <p:blipFill>
          <a:blip r:embed="rId2"/>
          <a:stretch/>
        </p:blipFill>
        <p:spPr>
          <a:xfrm>
            <a:off x="838080" y="685800"/>
            <a:ext cx="6363000" cy="35719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762120" y="4495680"/>
            <a:ext cx="746748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Se agotan posibilidades de almacenamiento. Contribuye escorrentía subsuperfi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772400" y="838080"/>
            <a:ext cx="809640" cy="4800600"/>
          </a:xfrm>
          <a:custGeom>
            <a:avLst/>
            <a:gdLst>
              <a:gd name="textAreaLeft" fmla="*/ 108360 w 809640"/>
              <a:gd name="textAreaRight" fmla="*/ 701280 w 809640"/>
              <a:gd name="textAreaTop" fmla="*/ 839880 h 4800600"/>
              <a:gd name="textAreaBottom" fmla="*/ 3480480 h 4800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295280" y="5638680"/>
            <a:ext cx="57913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Pp cesa. Agua de zona de aireación pasa a cauces o acuífe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0864200">
            <a:off x="379440" y="3049560"/>
            <a:ext cx="914400" cy="3276720"/>
          </a:xfrm>
          <a:custGeom>
            <a:avLst/>
            <a:gdLst>
              <a:gd name="textAreaLeft" fmla="*/ 122400 w 914400"/>
              <a:gd name="textAreaRight" fmla="*/ 792000 w 914400"/>
              <a:gd name="textAreaTop" fmla="*/ 573480 h 3276720"/>
              <a:gd name="textAreaBottom" fmla="*/ 237564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28600" y="533520"/>
            <a:ext cx="8534520" cy="3581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378080" y="1519200"/>
            <a:ext cx="6422760" cy="1917720"/>
          </a:xfrm>
          <a:custGeom>
            <a:avLst/>
            <a:gdLst/>
            <a:ahLst/>
            <a:rect l="l" t="t" r="r" b="b"/>
            <a:pathLst>
              <a:path w="4046" h="1208">
                <a:moveTo>
                  <a:pt x="0" y="0"/>
                </a:moveTo>
                <a:cubicBezTo>
                  <a:pt x="77" y="11"/>
                  <a:pt x="151" y="33"/>
                  <a:pt x="227" y="48"/>
                </a:cubicBezTo>
                <a:cubicBezTo>
                  <a:pt x="261" y="72"/>
                  <a:pt x="280" y="108"/>
                  <a:pt x="308" y="138"/>
                </a:cubicBezTo>
                <a:cubicBezTo>
                  <a:pt x="316" y="171"/>
                  <a:pt x="311" y="224"/>
                  <a:pt x="332" y="251"/>
                </a:cubicBezTo>
                <a:cubicBezTo>
                  <a:pt x="354" y="278"/>
                  <a:pt x="404" y="271"/>
                  <a:pt x="429" y="275"/>
                </a:cubicBezTo>
                <a:cubicBezTo>
                  <a:pt x="467" y="280"/>
                  <a:pt x="505" y="293"/>
                  <a:pt x="543" y="300"/>
                </a:cubicBezTo>
                <a:cubicBezTo>
                  <a:pt x="551" y="305"/>
                  <a:pt x="559" y="311"/>
                  <a:pt x="567" y="316"/>
                </a:cubicBezTo>
                <a:cubicBezTo>
                  <a:pt x="578" y="322"/>
                  <a:pt x="590" y="325"/>
                  <a:pt x="600" y="332"/>
                </a:cubicBezTo>
                <a:cubicBezTo>
                  <a:pt x="662" y="371"/>
                  <a:pt x="691" y="404"/>
                  <a:pt x="762" y="421"/>
                </a:cubicBezTo>
                <a:cubicBezTo>
                  <a:pt x="786" y="446"/>
                  <a:pt x="810" y="472"/>
                  <a:pt x="827" y="502"/>
                </a:cubicBezTo>
                <a:cubicBezTo>
                  <a:pt x="844" y="532"/>
                  <a:pt x="841" y="542"/>
                  <a:pt x="867" y="567"/>
                </a:cubicBezTo>
                <a:cubicBezTo>
                  <a:pt x="889" y="589"/>
                  <a:pt x="921" y="589"/>
                  <a:pt x="948" y="600"/>
                </a:cubicBezTo>
                <a:cubicBezTo>
                  <a:pt x="985" y="616"/>
                  <a:pt x="991" y="623"/>
                  <a:pt x="1029" y="648"/>
                </a:cubicBezTo>
                <a:cubicBezTo>
                  <a:pt x="1056" y="666"/>
                  <a:pt x="1086" y="737"/>
                  <a:pt x="1102" y="762"/>
                </a:cubicBezTo>
                <a:cubicBezTo>
                  <a:pt x="1143" y="825"/>
                  <a:pt x="1194" y="867"/>
                  <a:pt x="1257" y="908"/>
                </a:cubicBezTo>
                <a:cubicBezTo>
                  <a:pt x="1303" y="976"/>
                  <a:pt x="1378" y="1008"/>
                  <a:pt x="1451" y="1037"/>
                </a:cubicBezTo>
                <a:cubicBezTo>
                  <a:pt x="1540" y="1073"/>
                  <a:pt x="1633" y="1095"/>
                  <a:pt x="1727" y="1119"/>
                </a:cubicBezTo>
                <a:cubicBezTo>
                  <a:pt x="1768" y="1130"/>
                  <a:pt x="1806" y="1149"/>
                  <a:pt x="1848" y="1159"/>
                </a:cubicBezTo>
                <a:cubicBezTo>
                  <a:pt x="1891" y="1186"/>
                  <a:pt x="1990" y="1201"/>
                  <a:pt x="2043" y="1208"/>
                </a:cubicBezTo>
                <a:cubicBezTo>
                  <a:pt x="2067" y="1205"/>
                  <a:pt x="2092" y="1206"/>
                  <a:pt x="2116" y="1200"/>
                </a:cubicBezTo>
                <a:cubicBezTo>
                  <a:pt x="2125" y="1198"/>
                  <a:pt x="2131" y="1188"/>
                  <a:pt x="2140" y="1183"/>
                </a:cubicBezTo>
                <a:cubicBezTo>
                  <a:pt x="2161" y="1171"/>
                  <a:pt x="2183" y="1162"/>
                  <a:pt x="2205" y="1151"/>
                </a:cubicBezTo>
                <a:cubicBezTo>
                  <a:pt x="2301" y="1104"/>
                  <a:pt x="2391" y="1050"/>
                  <a:pt x="2497" y="1029"/>
                </a:cubicBezTo>
                <a:cubicBezTo>
                  <a:pt x="2570" y="982"/>
                  <a:pt x="2674" y="985"/>
                  <a:pt x="2757" y="965"/>
                </a:cubicBezTo>
                <a:cubicBezTo>
                  <a:pt x="2801" y="918"/>
                  <a:pt x="2824" y="855"/>
                  <a:pt x="2878" y="819"/>
                </a:cubicBezTo>
                <a:cubicBezTo>
                  <a:pt x="2900" y="777"/>
                  <a:pt x="2933" y="746"/>
                  <a:pt x="2959" y="705"/>
                </a:cubicBezTo>
                <a:cubicBezTo>
                  <a:pt x="2979" y="674"/>
                  <a:pt x="2978" y="626"/>
                  <a:pt x="2992" y="592"/>
                </a:cubicBezTo>
                <a:cubicBezTo>
                  <a:pt x="3004" y="563"/>
                  <a:pt x="3032" y="545"/>
                  <a:pt x="3049" y="519"/>
                </a:cubicBezTo>
                <a:cubicBezTo>
                  <a:pt x="3092" y="455"/>
                  <a:pt x="3135" y="381"/>
                  <a:pt x="3195" y="332"/>
                </a:cubicBezTo>
                <a:cubicBezTo>
                  <a:pt x="3233" y="301"/>
                  <a:pt x="3205" y="331"/>
                  <a:pt x="3251" y="300"/>
                </a:cubicBezTo>
                <a:cubicBezTo>
                  <a:pt x="3287" y="276"/>
                  <a:pt x="3356" y="220"/>
                  <a:pt x="3405" y="219"/>
                </a:cubicBezTo>
                <a:cubicBezTo>
                  <a:pt x="3619" y="216"/>
                  <a:pt x="3832" y="219"/>
                  <a:pt x="4046" y="219"/>
                </a:cubicBezTo>
              </a:path>
            </a:pathLst>
          </a:custGeom>
          <a:noFill/>
          <a:ln w="3816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895480"/>
            <a:ext cx="259056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2502000"/>
            <a:ext cx="3200400" cy="393480"/>
          </a:xfrm>
          <a:custGeom>
            <a:avLst/>
            <a:gdLst/>
            <a:ahLst/>
            <a:rect l="l" t="t" r="r" b="b"/>
            <a:pathLst>
              <a:path w="2016" h="248">
                <a:moveTo>
                  <a:pt x="2016" y="248"/>
                </a:moveTo>
                <a:cubicBezTo>
                  <a:pt x="1868" y="216"/>
                  <a:pt x="1720" y="184"/>
                  <a:pt x="1488" y="152"/>
                </a:cubicBezTo>
                <a:cubicBezTo>
                  <a:pt x="1256" y="120"/>
                  <a:pt x="848" y="80"/>
                  <a:pt x="624" y="56"/>
                </a:cubicBezTo>
                <a:cubicBezTo>
                  <a:pt x="400" y="32"/>
                  <a:pt x="248" y="16"/>
                  <a:pt x="144" y="8"/>
                </a:cubicBezTo>
                <a:cubicBezTo>
                  <a:pt x="40" y="0"/>
                  <a:pt x="20" y="4"/>
                  <a:pt x="0" y="8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867280" y="2577960"/>
            <a:ext cx="2590920" cy="317520"/>
          </a:xfrm>
          <a:custGeom>
            <a:avLst/>
            <a:gdLst/>
            <a:ahLst/>
            <a:rect l="l" t="t" r="r" b="b"/>
            <a:pathLst>
              <a:path w="1632" h="200">
                <a:moveTo>
                  <a:pt x="0" y="200"/>
                </a:moveTo>
                <a:cubicBezTo>
                  <a:pt x="128" y="164"/>
                  <a:pt x="256" y="128"/>
                  <a:pt x="384" y="104"/>
                </a:cubicBezTo>
                <a:cubicBezTo>
                  <a:pt x="512" y="80"/>
                  <a:pt x="632" y="72"/>
                  <a:pt x="768" y="56"/>
                </a:cubicBezTo>
                <a:cubicBezTo>
                  <a:pt x="904" y="40"/>
                  <a:pt x="1056" y="16"/>
                  <a:pt x="1200" y="8"/>
                </a:cubicBezTo>
                <a:cubicBezTo>
                  <a:pt x="1344" y="0"/>
                  <a:pt x="1488" y="4"/>
                  <a:pt x="1632" y="8"/>
                </a:cubicBezTo>
              </a:path>
            </a:pathLst>
          </a:custGeom>
          <a:noFill/>
          <a:ln w="1908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371600" y="2895480"/>
            <a:ext cx="1523880" cy="152640"/>
          </a:xfrm>
          <a:custGeom>
            <a:avLst/>
            <a:gdLst/>
            <a:ahLst/>
            <a:rect l="l" t="t" r="r" b="b"/>
            <a:pathLst>
              <a:path w="960" h="96">
                <a:moveTo>
                  <a:pt x="0" y="0"/>
                </a:moveTo>
                <a:cubicBezTo>
                  <a:pt x="0" y="0"/>
                  <a:pt x="480" y="48"/>
                  <a:pt x="960" y="96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6019920" y="2971800"/>
            <a:ext cx="914400" cy="1522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3809880"/>
            <a:ext cx="8458200" cy="2895840"/>
          </a:xfrm>
          <a:prstGeom prst="rect">
            <a:avLst/>
          </a:prstGeom>
          <a:solidFill>
            <a:srgbClr val="ccccff"/>
          </a:solidFill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295280" y="4191120"/>
            <a:ext cx="6423120" cy="1917720"/>
          </a:xfrm>
          <a:custGeom>
            <a:avLst/>
            <a:gdLst/>
            <a:ahLst/>
            <a:rect l="l" t="t" r="r" b="b"/>
            <a:pathLst>
              <a:path w="4046" h="1208">
                <a:moveTo>
                  <a:pt x="0" y="0"/>
                </a:moveTo>
                <a:cubicBezTo>
                  <a:pt x="77" y="11"/>
                  <a:pt x="151" y="33"/>
                  <a:pt x="227" y="48"/>
                </a:cubicBezTo>
                <a:cubicBezTo>
                  <a:pt x="261" y="72"/>
                  <a:pt x="280" y="108"/>
                  <a:pt x="308" y="138"/>
                </a:cubicBezTo>
                <a:cubicBezTo>
                  <a:pt x="316" y="171"/>
                  <a:pt x="311" y="224"/>
                  <a:pt x="332" y="251"/>
                </a:cubicBezTo>
                <a:cubicBezTo>
                  <a:pt x="354" y="278"/>
                  <a:pt x="404" y="271"/>
                  <a:pt x="429" y="275"/>
                </a:cubicBezTo>
                <a:cubicBezTo>
                  <a:pt x="467" y="280"/>
                  <a:pt x="505" y="293"/>
                  <a:pt x="543" y="300"/>
                </a:cubicBezTo>
                <a:cubicBezTo>
                  <a:pt x="551" y="305"/>
                  <a:pt x="559" y="311"/>
                  <a:pt x="567" y="316"/>
                </a:cubicBezTo>
                <a:cubicBezTo>
                  <a:pt x="578" y="322"/>
                  <a:pt x="590" y="325"/>
                  <a:pt x="600" y="332"/>
                </a:cubicBezTo>
                <a:cubicBezTo>
                  <a:pt x="662" y="371"/>
                  <a:pt x="691" y="404"/>
                  <a:pt x="762" y="421"/>
                </a:cubicBezTo>
                <a:cubicBezTo>
                  <a:pt x="786" y="446"/>
                  <a:pt x="810" y="472"/>
                  <a:pt x="827" y="502"/>
                </a:cubicBezTo>
                <a:cubicBezTo>
                  <a:pt x="844" y="532"/>
                  <a:pt x="841" y="542"/>
                  <a:pt x="867" y="567"/>
                </a:cubicBezTo>
                <a:cubicBezTo>
                  <a:pt x="889" y="589"/>
                  <a:pt x="921" y="589"/>
                  <a:pt x="948" y="600"/>
                </a:cubicBezTo>
                <a:cubicBezTo>
                  <a:pt x="985" y="616"/>
                  <a:pt x="991" y="623"/>
                  <a:pt x="1029" y="648"/>
                </a:cubicBezTo>
                <a:cubicBezTo>
                  <a:pt x="1056" y="666"/>
                  <a:pt x="1086" y="737"/>
                  <a:pt x="1102" y="762"/>
                </a:cubicBezTo>
                <a:cubicBezTo>
                  <a:pt x="1143" y="825"/>
                  <a:pt x="1194" y="867"/>
                  <a:pt x="1257" y="908"/>
                </a:cubicBezTo>
                <a:cubicBezTo>
                  <a:pt x="1303" y="976"/>
                  <a:pt x="1378" y="1008"/>
                  <a:pt x="1451" y="1037"/>
                </a:cubicBezTo>
                <a:cubicBezTo>
                  <a:pt x="1540" y="1073"/>
                  <a:pt x="1633" y="1095"/>
                  <a:pt x="1727" y="1119"/>
                </a:cubicBezTo>
                <a:cubicBezTo>
                  <a:pt x="1768" y="1130"/>
                  <a:pt x="1806" y="1149"/>
                  <a:pt x="1848" y="1159"/>
                </a:cubicBezTo>
                <a:cubicBezTo>
                  <a:pt x="1891" y="1186"/>
                  <a:pt x="1990" y="1201"/>
                  <a:pt x="2043" y="1208"/>
                </a:cubicBezTo>
                <a:cubicBezTo>
                  <a:pt x="2067" y="1205"/>
                  <a:pt x="2092" y="1206"/>
                  <a:pt x="2116" y="1200"/>
                </a:cubicBezTo>
                <a:cubicBezTo>
                  <a:pt x="2125" y="1198"/>
                  <a:pt x="2131" y="1188"/>
                  <a:pt x="2140" y="1183"/>
                </a:cubicBezTo>
                <a:cubicBezTo>
                  <a:pt x="2161" y="1171"/>
                  <a:pt x="2183" y="1162"/>
                  <a:pt x="2205" y="1151"/>
                </a:cubicBezTo>
                <a:cubicBezTo>
                  <a:pt x="2301" y="1104"/>
                  <a:pt x="2391" y="1050"/>
                  <a:pt x="2497" y="1029"/>
                </a:cubicBezTo>
                <a:cubicBezTo>
                  <a:pt x="2570" y="982"/>
                  <a:pt x="2674" y="985"/>
                  <a:pt x="2757" y="965"/>
                </a:cubicBezTo>
                <a:cubicBezTo>
                  <a:pt x="2801" y="918"/>
                  <a:pt x="2824" y="855"/>
                  <a:pt x="2878" y="819"/>
                </a:cubicBezTo>
                <a:cubicBezTo>
                  <a:pt x="2900" y="777"/>
                  <a:pt x="2933" y="746"/>
                  <a:pt x="2959" y="705"/>
                </a:cubicBezTo>
                <a:cubicBezTo>
                  <a:pt x="2979" y="674"/>
                  <a:pt x="2978" y="626"/>
                  <a:pt x="2992" y="592"/>
                </a:cubicBezTo>
                <a:cubicBezTo>
                  <a:pt x="3004" y="563"/>
                  <a:pt x="3032" y="545"/>
                  <a:pt x="3049" y="519"/>
                </a:cubicBezTo>
                <a:cubicBezTo>
                  <a:pt x="3092" y="455"/>
                  <a:pt x="3135" y="381"/>
                  <a:pt x="3195" y="332"/>
                </a:cubicBezTo>
                <a:cubicBezTo>
                  <a:pt x="3233" y="301"/>
                  <a:pt x="3205" y="331"/>
                  <a:pt x="3251" y="300"/>
                </a:cubicBezTo>
                <a:cubicBezTo>
                  <a:pt x="3287" y="276"/>
                  <a:pt x="3356" y="220"/>
                  <a:pt x="3405" y="219"/>
                </a:cubicBezTo>
                <a:cubicBezTo>
                  <a:pt x="3619" y="216"/>
                  <a:pt x="3832" y="219"/>
                  <a:pt x="4046" y="219"/>
                </a:cubicBezTo>
              </a:path>
            </a:pathLst>
          </a:custGeom>
          <a:noFill/>
          <a:ln w="3816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514600" y="4952880"/>
            <a:ext cx="373392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343400" y="5105520"/>
            <a:ext cx="4572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419720" y="5257800"/>
            <a:ext cx="2286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343400" y="2971800"/>
            <a:ext cx="38088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495680" y="3048120"/>
            <a:ext cx="15264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0880" y="4940280"/>
            <a:ext cx="2210040" cy="774720"/>
          </a:xfrm>
          <a:custGeom>
            <a:avLst/>
            <a:gdLst/>
            <a:ahLst/>
            <a:rect l="l" t="t" r="r" b="b"/>
            <a:pathLst>
              <a:path w="1392" h="488">
                <a:moveTo>
                  <a:pt x="1392" y="8"/>
                </a:moveTo>
                <a:cubicBezTo>
                  <a:pt x="1292" y="4"/>
                  <a:pt x="1192" y="0"/>
                  <a:pt x="1008" y="56"/>
                </a:cubicBezTo>
                <a:cubicBezTo>
                  <a:pt x="824" y="112"/>
                  <a:pt x="456" y="272"/>
                  <a:pt x="288" y="344"/>
                </a:cubicBezTo>
                <a:cubicBezTo>
                  <a:pt x="120" y="416"/>
                  <a:pt x="60" y="452"/>
                  <a:pt x="0" y="488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590560" y="5334120"/>
            <a:ext cx="685800" cy="30456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172200" y="4952880"/>
            <a:ext cx="2057400" cy="685800"/>
          </a:xfrm>
          <a:custGeom>
            <a:avLst/>
            <a:gdLst/>
            <a:ahLst/>
            <a:rect l="l" t="t" r="r" b="b"/>
            <a:pathLst>
              <a:path w="1296" h="432">
                <a:moveTo>
                  <a:pt x="0" y="0"/>
                </a:moveTo>
                <a:cubicBezTo>
                  <a:pt x="156" y="12"/>
                  <a:pt x="312" y="24"/>
                  <a:pt x="528" y="96"/>
                </a:cubicBezTo>
                <a:cubicBezTo>
                  <a:pt x="744" y="168"/>
                  <a:pt x="1020" y="300"/>
                  <a:pt x="1296" y="432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562720" y="5334120"/>
            <a:ext cx="838080" cy="3808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09680" y="838080"/>
            <a:ext cx="441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ahoma"/>
              </a:rPr>
              <a:t>Flujo Base proviene de flujo subterráneo o flujo intermed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762120" y="2819520"/>
            <a:ext cx="1295280" cy="1371600"/>
          </a:xfrm>
          <a:prstGeom prst="rect">
            <a:avLst/>
          </a:prstGeom>
          <a:solidFill>
            <a:srgbClr val="c0ff8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447920" y="4191120"/>
            <a:ext cx="655308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609480"/>
            <a:ext cx="7086600" cy="2930760"/>
          </a:xfrm>
          <a:custGeom>
            <a:avLst/>
            <a:gdLst/>
            <a:ahLst/>
            <a:rect l="l" t="t" r="r" b="b"/>
            <a:pathLst>
              <a:path w="4464" h="1846">
                <a:moveTo>
                  <a:pt x="0" y="1846"/>
                </a:moveTo>
                <a:cubicBezTo>
                  <a:pt x="216" y="1842"/>
                  <a:pt x="432" y="1838"/>
                  <a:pt x="624" y="1750"/>
                </a:cubicBezTo>
                <a:cubicBezTo>
                  <a:pt x="816" y="1662"/>
                  <a:pt x="1000" y="1494"/>
                  <a:pt x="1152" y="1318"/>
                </a:cubicBezTo>
                <a:cubicBezTo>
                  <a:pt x="1304" y="1142"/>
                  <a:pt x="1432" y="870"/>
                  <a:pt x="1536" y="694"/>
                </a:cubicBezTo>
                <a:cubicBezTo>
                  <a:pt x="1640" y="518"/>
                  <a:pt x="1688" y="374"/>
                  <a:pt x="1776" y="262"/>
                </a:cubicBezTo>
                <a:cubicBezTo>
                  <a:pt x="1864" y="150"/>
                  <a:pt x="1968" y="40"/>
                  <a:pt x="2066" y="20"/>
                </a:cubicBezTo>
                <a:cubicBezTo>
                  <a:pt x="2164" y="0"/>
                  <a:pt x="2209" y="2"/>
                  <a:pt x="2366" y="141"/>
                </a:cubicBezTo>
                <a:cubicBezTo>
                  <a:pt x="2523" y="280"/>
                  <a:pt x="2845" y="678"/>
                  <a:pt x="3007" y="855"/>
                </a:cubicBezTo>
                <a:cubicBezTo>
                  <a:pt x="3169" y="1032"/>
                  <a:pt x="3208" y="1070"/>
                  <a:pt x="3339" y="1203"/>
                </a:cubicBezTo>
                <a:cubicBezTo>
                  <a:pt x="3470" y="1336"/>
                  <a:pt x="3605" y="1555"/>
                  <a:pt x="3792" y="1654"/>
                </a:cubicBezTo>
                <a:cubicBezTo>
                  <a:pt x="3979" y="1753"/>
                  <a:pt x="4240" y="1762"/>
                  <a:pt x="4464" y="1798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457200"/>
            <a:ext cx="3124440" cy="825480"/>
          </a:xfrm>
          <a:prstGeom prst="rect">
            <a:avLst/>
          </a:prstGeom>
          <a:solidFill>
            <a:srgbClr val="c0ff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CURVA DE CONCENTR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rot="3517200">
            <a:off x="2361600" y="1371240"/>
            <a:ext cx="990720" cy="838440"/>
          </a:xfrm>
          <a:prstGeom prst="rightArrow">
            <a:avLst>
              <a:gd name="adj1" fmla="val 50000"/>
              <a:gd name="adj2" fmla="val 29541"/>
            </a:avLst>
          </a:prstGeom>
          <a:gradFill rotWithShape="0">
            <a:gsLst>
              <a:gs pos="0">
                <a:srgbClr val="c0ff81"/>
              </a:gs>
              <a:gs pos="50000">
                <a:srgbClr val="58753b"/>
              </a:gs>
              <a:gs pos="100000">
                <a:srgbClr val="c0ff81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867280" y="228600"/>
            <a:ext cx="2057400" cy="825480"/>
          </a:xfrm>
          <a:prstGeom prst="rect">
            <a:avLst/>
          </a:prstGeom>
          <a:solidFill>
            <a:srgbClr val="c0ff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CURVA DE RECE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rot="2276400">
            <a:off x="5790960" y="1143000"/>
            <a:ext cx="838080" cy="6858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c0ff81"/>
              </a:gs>
              <a:gs pos="50000">
                <a:srgbClr val="58753b"/>
              </a:gs>
              <a:gs pos="100000">
                <a:srgbClr val="c0ff81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19320" y="2362320"/>
            <a:ext cx="380880" cy="459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5920" y="5290"/>
                </a:moveTo>
                <a:lnTo>
                  <a:pt x="37080" y="5290"/>
                </a:lnTo>
                <a:lnTo>
                  <a:pt x="37080" y="28212"/>
                </a:lnTo>
                <a:lnTo>
                  <a:pt x="32308" y="51972"/>
                </a:lnTo>
              </a:path>
            </a:pathLst>
          </a:custGeom>
          <a:solidFill>
            <a:srgbClr val="c0ff81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038480" y="1854360"/>
            <a:ext cx="455760" cy="459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5213" y="4000"/>
                </a:moveTo>
                <a:lnTo>
                  <a:pt x="26191" y="4000"/>
                </a:lnTo>
                <a:lnTo>
                  <a:pt x="26191" y="-9844"/>
                </a:lnTo>
                <a:lnTo>
                  <a:pt x="-12633" y="-24068"/>
                </a:lnTo>
              </a:path>
            </a:pathLst>
          </a:custGeom>
          <a:solidFill>
            <a:srgbClr val="c0ff81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10080" y="914400"/>
            <a:ext cx="419400" cy="459720"/>
          </a:xfrm>
          <a:prstGeom prst="borderCallout1">
            <a:avLst>
              <a:gd name="adj1" fmla="val -24045"/>
              <a:gd name="adj2" fmla="val -1385"/>
              <a:gd name="adj3" fmla="val 15709"/>
              <a:gd name="adj4" fmla="val -1395"/>
            </a:avLst>
          </a:prstGeom>
          <a:solidFill>
            <a:srgbClr val="c0ff81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272360" y="2460600"/>
            <a:ext cx="500040" cy="459720"/>
          </a:xfrm>
          <a:prstGeom prst="borderCallout2">
            <a:avLst>
              <a:gd name="adj1" fmla="val 18750"/>
              <a:gd name="adj2" fmla="val -8333"/>
              <a:gd name="adj3" fmla="val 24490"/>
              <a:gd name="adj4" fmla="val -55875"/>
              <a:gd name="adj5" fmla="val 85287"/>
              <a:gd name="adj6" fmla="val -97768"/>
            </a:avLst>
          </a:prstGeom>
          <a:solidFill>
            <a:srgbClr val="c0ff81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276720" y="5791320"/>
            <a:ext cx="1066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ahoma"/>
              </a:rPr>
              <a:t>H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334120" y="4459320"/>
            <a:ext cx="2068560" cy="825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396" y="2968"/>
                </a:moveTo>
                <a:lnTo>
                  <a:pt x="22611" y="2968"/>
                </a:lnTo>
                <a:lnTo>
                  <a:pt x="22611" y="-12779"/>
                </a:lnTo>
                <a:lnTo>
                  <a:pt x="20653" y="-29801"/>
                </a:lnTo>
              </a:path>
            </a:pathLst>
          </a:custGeom>
          <a:solidFill>
            <a:srgbClr val="c0ff81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va de agot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447920" y="4191120"/>
            <a:ext cx="65530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325520" y="1371600"/>
            <a:ext cx="6654960" cy="2900520"/>
          </a:xfrm>
          <a:custGeom>
            <a:avLst/>
            <a:gdLst/>
            <a:ahLst/>
            <a:rect l="l" t="t" r="r" b="b"/>
            <a:pathLst>
              <a:path w="4192" h="1827">
                <a:moveTo>
                  <a:pt x="0" y="1779"/>
                </a:moveTo>
                <a:cubicBezTo>
                  <a:pt x="65" y="1774"/>
                  <a:pt x="242" y="1827"/>
                  <a:pt x="396" y="1750"/>
                </a:cubicBezTo>
                <a:cubicBezTo>
                  <a:pt x="550" y="1673"/>
                  <a:pt x="772" y="1494"/>
                  <a:pt x="924" y="1318"/>
                </a:cubicBezTo>
                <a:cubicBezTo>
                  <a:pt x="1076" y="1142"/>
                  <a:pt x="1204" y="870"/>
                  <a:pt x="1308" y="694"/>
                </a:cubicBezTo>
                <a:cubicBezTo>
                  <a:pt x="1412" y="518"/>
                  <a:pt x="1460" y="374"/>
                  <a:pt x="1548" y="262"/>
                </a:cubicBezTo>
                <a:cubicBezTo>
                  <a:pt x="1636" y="150"/>
                  <a:pt x="1740" y="40"/>
                  <a:pt x="1838" y="20"/>
                </a:cubicBezTo>
                <a:cubicBezTo>
                  <a:pt x="1936" y="0"/>
                  <a:pt x="1950" y="4"/>
                  <a:pt x="2138" y="141"/>
                </a:cubicBezTo>
                <a:cubicBezTo>
                  <a:pt x="2326" y="278"/>
                  <a:pt x="2766" y="672"/>
                  <a:pt x="2968" y="840"/>
                </a:cubicBezTo>
                <a:cubicBezTo>
                  <a:pt x="3170" y="1008"/>
                  <a:pt x="3215" y="1036"/>
                  <a:pt x="3349" y="1148"/>
                </a:cubicBezTo>
                <a:cubicBezTo>
                  <a:pt x="3483" y="1260"/>
                  <a:pt x="3659" y="1421"/>
                  <a:pt x="3771" y="1513"/>
                </a:cubicBezTo>
                <a:cubicBezTo>
                  <a:pt x="3883" y="1605"/>
                  <a:pt x="3952" y="1656"/>
                  <a:pt x="4022" y="1700"/>
                </a:cubicBezTo>
                <a:cubicBezTo>
                  <a:pt x="4092" y="1744"/>
                  <a:pt x="4157" y="1763"/>
                  <a:pt x="4192" y="1779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90920" y="22860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Zona del máxi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733920" y="838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9200" y="91440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733920" y="990720"/>
            <a:ext cx="129528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2514600"/>
            <a:ext cx="914400" cy="1676520"/>
          </a:xfrm>
          <a:prstGeom prst="rect">
            <a:avLst/>
          </a:prstGeom>
          <a:solidFill>
            <a:srgbClr val="99ff3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876920" y="297180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876920" y="3124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276720" y="4495680"/>
            <a:ext cx="106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1" i="1" lang="en-US" sz="2400" spc="-1" strike="noStrike" baseline="-25000">
                <a:solidFill>
                  <a:srgbClr val="ffffff"/>
                </a:solidFill>
                <a:latin typeface="Copperplate Gothic Bold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752480" y="4800600"/>
            <a:ext cx="152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733920" y="480060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657600" y="175248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ahoma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1904760" y="198108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962520" y="19810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00200" y="43434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295280" y="43434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562720" y="182880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ahoma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4419360" y="198108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943600" y="1981080"/>
            <a:ext cx="1905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733920" y="5105520"/>
            <a:ext cx="3429000" cy="45972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empo de desf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3504960" y="4952520"/>
            <a:ext cx="2286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581280" y="594360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1828440" y="617220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962520" y="6172200"/>
            <a:ext cx="39621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705720" y="228600"/>
            <a:ext cx="1143000" cy="5205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H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752480" y="609480"/>
            <a:ext cx="0" cy="60962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>
            <a:hlinkClick r:id="" action="ppaction://hlinkshowjump?jump=previousslide"/>
          </p:cNvPr>
          <p:cNvSpPr/>
          <p:nvPr/>
        </p:nvSpPr>
        <p:spPr>
          <a:xfrm>
            <a:off x="8458200" y="411480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c0ff8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80880" y="762120"/>
            <a:ext cx="51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n curva de concentració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523880" y="1752480"/>
                <a:ext cx="152424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−</m:t>
                    </m:r>
                    <m:r>
                      <m:t xml:space="preserve">Q</m:t>
                    </m:r>
                    <m:r>
                      <m:t xml:space="preserve">≡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3276720" y="2743200"/>
            <a:ext cx="23619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Q=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Q =K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catastrofe_en_santiago" descr=""/>
          <p:cNvPicPr/>
          <p:nvPr/>
        </p:nvPicPr>
        <p:blipFill>
          <a:blip r:embed="rId2"/>
          <a:stretch/>
        </p:blipFill>
        <p:spPr>
          <a:xfrm>
            <a:off x="5791320" y="0"/>
            <a:ext cx="3352680" cy="27655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9480" y="3886200"/>
                <a:ext cx="174636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−</m:t>
                    </m:r>
                    <m:r>
                      <m:t xml:space="preserve">Q</m:t>
                    </m:r>
                    <m:r>
                      <m:t xml:space="preserve">≡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K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5105520" y="5486400"/>
                <a:ext cx="335268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≡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Kt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25" name=""/>
          <p:cNvGrpSpPr/>
          <p:nvPr/>
        </p:nvGrpSpPr>
        <p:grpSpPr>
          <a:xfrm>
            <a:off x="2060640" y="3880080"/>
            <a:ext cx="3270240" cy="2679480"/>
            <a:chOff x="2060640" y="3880080"/>
            <a:chExt cx="3270240" cy="2679480"/>
          </a:xfrm>
        </p:grpSpPr>
        <p:sp>
          <p:nvSpPr>
            <p:cNvPr id="126" name=""/>
            <p:cNvSpPr/>
            <p:nvPr/>
          </p:nvSpPr>
          <p:spPr>
            <a:xfrm rot="1317000">
              <a:off x="2286000" y="4343400"/>
              <a:ext cx="2819520" cy="1752480"/>
            </a:xfrm>
            <a:prstGeom prst="rightArrow">
              <a:avLst>
                <a:gd name="adj1" fmla="val 50000"/>
                <a:gd name="adj2" fmla="val 40222"/>
              </a:avLst>
            </a:prstGeom>
            <a:gradFill rotWithShape="0">
              <a:gsLst>
                <a:gs pos="0">
                  <a:srgbClr val="c0ff81"/>
                </a:gs>
                <a:gs pos="50000">
                  <a:srgbClr val="33cc33"/>
                </a:gs>
                <a:gs pos="100000">
                  <a:srgbClr val="c0ff81"/>
                </a:gs>
              </a:gsLst>
              <a:lin ang="8100000"/>
            </a:gradFill>
            <a:ln w="9360">
              <a:solidFill>
                <a:srgbClr val="008000"/>
              </a:solidFill>
              <a:miter/>
            </a:ln>
            <a:effectLst>
              <a:outerShdw dist="107932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1317000">
              <a:off x="2462760" y="4898520"/>
              <a:ext cx="221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Tahoma"/>
                </a:rPr>
                <a:t>t=0      Q=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>
            <a:hlinkClick r:id="" action="ppaction://hlinkshowjump?jump=previousslide"/>
          </p:cNvPr>
          <p:cNvSpPr/>
          <p:nvPr/>
        </p:nvSpPr>
        <p:spPr>
          <a:xfrm>
            <a:off x="8458200" y="34290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533520" y="60948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URVA DE RECE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219320" y="1523880"/>
            <a:ext cx="3352680" cy="45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o hay entrada, I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867280" y="2743200"/>
            <a:ext cx="2362320" cy="459720"/>
          </a:xfrm>
          <a:prstGeom prst="rect">
            <a:avLst/>
          </a:prstGeom>
          <a:solidFill>
            <a:srgbClr val="c0ff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ahoma"/>
              </a:rPr>
              <a:t>dQ = K’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>
            <a:hlinkClick r:id="rId2" action="ppaction://hlinksldjump"/>
          </p:cNvPr>
          <p:cNvSpPr/>
          <p:nvPr/>
        </p:nvSpPr>
        <p:spPr>
          <a:xfrm>
            <a:off x="4800600" y="213372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8" h="21600">
                <a:moveTo>
                  <a:pt x="8118" y="10800"/>
                </a:moveTo>
                <a:lnTo>
                  <a:pt x="22131" y="3794"/>
                </a:lnTo>
                <a:lnTo>
                  <a:pt x="22131" y="17806"/>
                </a:lnTo>
                <a:close/>
              </a:path>
            </a:pathLst>
          </a:custGeom>
          <a:solidFill>
            <a:srgbClr val="c0ff8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6019920" y="3733920"/>
                <a:ext cx="2209680" cy="88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≡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≡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t xml:space="preserve">K</m:t>
                        </m:r>
                        <m:r>
                          <m:t xml:space="preserve">'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8381880" y="3048120"/>
            <a:ext cx="533520" cy="1371600"/>
          </a:xfrm>
          <a:custGeom>
            <a:avLst/>
            <a:gdLst>
              <a:gd name="textAreaLeft" fmla="*/ 71280 w 533520"/>
              <a:gd name="textAreaRight" fmla="*/ 462240 w 533520"/>
              <a:gd name="textAreaTop" fmla="*/ 239760 h 1371600"/>
              <a:gd name="textAreaBottom" fmla="*/ 99432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gradFill rotWithShape="0">
            <a:gsLst>
              <a:gs pos="0">
                <a:srgbClr val="c0ff81"/>
              </a:gs>
              <a:gs pos="50000">
                <a:srgbClr val="58753b"/>
              </a:gs>
              <a:gs pos="100000">
                <a:srgbClr val="c0ff81"/>
              </a:gs>
            </a:gsLst>
            <a:lin ang="810000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945520" y="4191120"/>
            <a:ext cx="1805400" cy="510120"/>
          </a:xfrm>
          <a:prstGeom prst="rect">
            <a:avLst/>
          </a:prstGeom>
          <a:solidFill>
            <a:srgbClr val="c0ff81"/>
          </a:solidFill>
          <a:ln w="9360">
            <a:solidFill>
              <a:srgbClr val="008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t=t</a:t>
            </a:r>
            <a:r>
              <a:rPr b="1" lang="en-US" sz="2400" spc="-1" strike="noStrike" baseline="-25000">
                <a:solidFill>
                  <a:srgbClr val="008000"/>
                </a:solidFill>
                <a:latin typeface="Tahoma"/>
              </a:rPr>
              <a:t>o     </a:t>
            </a: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Q =Q</a:t>
            </a:r>
            <a:r>
              <a:rPr b="1" lang="en-US" sz="2400" spc="-1" strike="noStrike" baseline="-25000">
                <a:solidFill>
                  <a:srgbClr val="008000"/>
                </a:solidFill>
                <a:latin typeface="Tahoma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4572000" y="4648320"/>
            <a:ext cx="1828800" cy="13618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3962520" y="6019920"/>
            <a:ext cx="2895480" cy="510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Q(t) = Q</a:t>
            </a:r>
            <a:r>
              <a:rPr b="1" lang="en-US" sz="2400" spc="-1" strike="noStrike" baseline="-25000">
                <a:solidFill>
                  <a:srgbClr val="008000"/>
                </a:solidFill>
                <a:latin typeface="Verdana"/>
              </a:rPr>
              <a:t>o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 e</a:t>
            </a:r>
            <a:r>
              <a:rPr b="1" lang="en-US" sz="2400" spc="-1" strike="noStrike" baseline="30000">
                <a:solidFill>
                  <a:srgbClr val="008000"/>
                </a:solidFill>
                <a:latin typeface="Verdana"/>
              </a:rPr>
              <a:t>-K’t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066680" y="6248520"/>
            <a:ext cx="2590920" cy="5101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’ =t-t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el_dia_que_colapso_stgo" descr=""/>
          <p:cNvPicPr/>
          <p:nvPr/>
        </p:nvPicPr>
        <p:blipFill>
          <a:blip r:embed="rId4"/>
          <a:stretch/>
        </p:blipFill>
        <p:spPr>
          <a:xfrm>
            <a:off x="6400800" y="0"/>
            <a:ext cx="2743200" cy="22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3T21:52:52Z</dcterms:created>
  <dc:creator>Ximena Vargas</dc:creator>
  <dc:description/>
  <dc:language>en-US</dc:language>
  <cp:lastModifiedBy>xv</cp:lastModifiedBy>
  <dcterms:modified xsi:type="dcterms:W3CDTF">2004-05-31T22:57:13Z</dcterms:modified>
  <cp:revision>14</cp:revision>
  <dc:subject/>
  <dc:title>CAPITULO 8</dc:title>
</cp:coreProperties>
</file>