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5.wmf" ContentType="image/x-wmf"/>
  <Override PartName="/ppt/media/image1.png" ContentType="image/pn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13A-158A-4203-A6DA-75D6FDD7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786-28E1-43CB-AE22-FF9EB611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3F8-6444-42BD-8EE4-31C36672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76D-30A8-469E-A83B-A0B7E4F9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FEC-03F4-4F95-8E35-D56C1CD5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ADE-8980-4679-8A8F-655778B5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6C1-BB74-49F8-ABA4-FD604529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045-519C-4F9B-AD6B-358CDC7F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648-ECE2-4211-B526-996887B6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429-F03D-46DD-8195-59BABD20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30E-62C1-4D8E-B5FD-65B2267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FF1-790A-48AE-8878-54020B52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29A9-ACD5-4780-9EE2-93C434B77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867280" y="1066680"/>
                <a:ext cx="20703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7339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2599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verted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puentes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4-05-31T22:57:13Z</dcterms:modified>
  <cp:revision>14</cp:revision>
  <dc:subject/>
  <dc:title>CAPITULO 8</dc:title>
</cp:coreProperties>
</file>