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5.wmf" ContentType="image/x-wmf"/>
  <Override PartName="/ppt/media/image1.png" ContentType="image/pn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31D-4E43-4D0E-B8F8-E7B2682E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68A-C720-4BF6-BFAD-EB2A72E9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B94-9AB6-4E9C-A0BC-6A0C2EE9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A79-175E-498C-AFDB-D600743A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96D-610F-405D-8050-94C55D39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67F-ED23-4905-A851-580F40EB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258-B440-4BB4-A25B-B5E5715A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289-3A0A-4B2B-A271-9100A14D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C6D-AAC3-4092-A910-70A692D2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770-9D53-4B40-863C-9CC3E3B9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B52-E618-43D5-BE19-88242E9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899-FEA5-435A-878E-71D85C49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7A6E-E400-4054-B882-B40891E0D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867280" y="1066680"/>
                <a:ext cx="20703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7339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2599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verted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puentes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4-05-31T22:57:13Z</dcterms:modified>
  <cp:revision>14</cp:revision>
  <dc:subject/>
  <dc:title>CAPITULO 8</dc:title>
</cp:coreProperties>
</file>