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22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3.jpeg" ContentType="image/jpeg"/>
  <Override PartName="/ppt/media/image12.wmf" ContentType="image/x-wmf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541-947B-42D7-BBC7-EDC414EA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45D-0E8F-4E9A-BC3C-CAE3BAAF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561-8483-4608-8B6E-D3B53D7C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E76-49CA-43D9-9091-AD953EB7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E17E-0520-40B0-B604-F11D82BF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EBDF-CA3E-4D4A-8200-05DD6E6E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CC11-9626-4566-80EF-2D7A097D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5D26-A74A-4577-8554-88948EC8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847B-3E1E-4B28-A23E-3A46A28A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A4C9-7309-4582-B8C3-571E560F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B21C-226E-4961-BE45-924F4356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F90-B0A4-4073-957C-84533C09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5B1C-39E5-4E56-8CD6-3F0CF015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1AEC-61BB-4DAC-990E-FBF6F4A7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126E-8C40-4FEF-8C40-EA737EEC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77CF-DC00-457F-8CCF-5518FF9E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BB7D-2BD6-4B0C-A56B-4EACDE2B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DA4-17AE-4964-B4BA-7E0247AF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2B5-489E-41AA-A7FB-625C7125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495-F231-4C2B-A8F9-A84E5248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E62-95FE-4668-8AC0-7D9F2F25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846-B234-4E0E-A72C-14AB4123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F0B-62E7-4587-8A79-0239780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7E2-E8FC-4B63-BCEA-097644A7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914400"/>
            <a:ext cx="9148680" cy="5409720"/>
            <a:chOff x="-7920" y="914400"/>
            <a:chExt cx="9148680" cy="540972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237000"/>
              <a:ext cx="3143160" cy="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914400"/>
              <a:ext cx="4495680" cy="11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5262-2C05-40BD-B6A5-E2C073CE2CC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8DA2-70C4-41DE-A0A5-B1BFD5B2020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álisis de frecu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27180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ncorporaci</a:t>
            </a:r>
            <a:r>
              <a:rPr b="0" lang="es-CL" sz="3600" spc="-1" strike="noStrike">
                <a:solidFill>
                  <a:srgbClr val="ffcc00"/>
                </a:solidFill>
                <a:latin typeface="Arial"/>
              </a:rPr>
              <a:t>ón de información históric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gistro histór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eriódic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rt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rcadores de crecid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leocreci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nillos de árbo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pósitos de sedimen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Boulder-Creek-Damage_bw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4800600" cy="2911320"/>
          </a:xfrm>
          <a:prstGeom prst="rect">
            <a:avLst/>
          </a:prstGeom>
          <a:ln w="0">
            <a:noFill/>
          </a:ln>
        </p:spPr>
      </p:pic>
      <p:pic>
        <p:nvPicPr>
          <p:cNvPr id="117" name="flood" descr=""/>
          <p:cNvPicPr/>
          <p:nvPr/>
        </p:nvPicPr>
        <p:blipFill>
          <a:blip r:embed="rId3"/>
          <a:stretch/>
        </p:blipFill>
        <p:spPr>
          <a:xfrm>
            <a:off x="5867280" y="76320"/>
            <a:ext cx="2362320" cy="1776240"/>
          </a:xfrm>
          <a:prstGeom prst="rect">
            <a:avLst/>
          </a:prstGeom>
          <a:ln w="0">
            <a:noFill/>
          </a:ln>
        </p:spPr>
      </p:pic>
      <p:pic>
        <p:nvPicPr>
          <p:cNvPr id="118" name="img004" descr=""/>
          <p:cNvPicPr/>
          <p:nvPr/>
        </p:nvPicPr>
        <p:blipFill>
          <a:blip r:embed="rId4"/>
          <a:stretch/>
        </p:blipFill>
        <p:spPr>
          <a:xfrm>
            <a:off x="76320" y="32576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19" name="00180018" descr=""/>
          <p:cNvPicPr/>
          <p:nvPr/>
        </p:nvPicPr>
        <p:blipFill>
          <a:blip r:embed="rId5"/>
          <a:stretch/>
        </p:blipFill>
        <p:spPr>
          <a:xfrm>
            <a:off x="5772240" y="2209680"/>
            <a:ext cx="314316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img005" descr=""/>
          <p:cNvPicPr/>
          <p:nvPr/>
        </p:nvPicPr>
        <p:blipFill>
          <a:blip r:embed="rId6"/>
          <a:stretch/>
        </p:blipFill>
        <p:spPr>
          <a:xfrm>
            <a:off x="2286000" y="3848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lackwater" descr=""/>
          <p:cNvPicPr/>
          <p:nvPr/>
        </p:nvPicPr>
        <p:blipFill>
          <a:blip r:embed="rId2"/>
          <a:stretch/>
        </p:blipFill>
        <p:spPr>
          <a:xfrm>
            <a:off x="4343400" y="3598920"/>
            <a:ext cx="4541760" cy="2946240"/>
          </a:xfrm>
          <a:prstGeom prst="rect">
            <a:avLst/>
          </a:prstGeom>
          <a:ln w="0">
            <a:noFill/>
          </a:ln>
        </p:spPr>
      </p:pic>
      <p:pic>
        <p:nvPicPr>
          <p:cNvPr id="122" name="img007" descr=""/>
          <p:cNvPicPr/>
          <p:nvPr/>
        </p:nvPicPr>
        <p:blipFill>
          <a:blip r:embed="rId3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chiricahua%20flood%20scar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48006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Incorporación info. histór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istro histórico de h años de dur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istro medido de s años de dur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eríodo total n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= s + 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 total de r crecidas superan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“umbral de percepción” Q</a:t>
            </a:r>
            <a:r>
              <a:rPr b="0" lang="es-CL" sz="2400" spc="-1" strike="noStrike" baseline="-25000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 es el número de crecidas medidas que superan el umbral de percep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3809880"/>
          <a:ext cx="464832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9880"/>
                    <a:ext cx="464832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06440" y="5057640"/>
          <a:ext cx="77468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440" y="5057640"/>
                    <a:ext cx="77468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181480" y="3352680"/>
            <a:ext cx="3505320" cy="1447920"/>
          </a:xfrm>
          <a:prstGeom prst="irregularSeal2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2c2c42"/>
                </a:solidFill>
                <a:latin typeface="Times New Roman"/>
              </a:rPr>
              <a:t>p</a:t>
            </a:r>
            <a:r>
              <a:rPr b="0" i="1" lang="es-CL" sz="3600" spc="-1" strike="noStrike" baseline="-25000">
                <a:solidFill>
                  <a:srgbClr val="2c2c42"/>
                </a:solidFill>
                <a:latin typeface="Times New Roman"/>
              </a:rPr>
              <a:t>e</a:t>
            </a:r>
            <a:r>
              <a:rPr b="0" i="1" lang="es-CL" sz="3600" spc="-1" strike="noStrike">
                <a:solidFill>
                  <a:srgbClr val="2c2c42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2c2c42"/>
                </a:solidFill>
                <a:latin typeface="Times New Roman"/>
              </a:rPr>
              <a:t>= r/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ries de Información hidrológ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ries de duración comple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ienen todos los da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ries de duración par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e conservan valores mayores que valor base (o umbral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erie de excedencia an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erie de valores extremo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=&gt;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serie an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cphee6" descr=""/>
          <p:cNvPicPr/>
          <p:nvPr/>
        </p:nvPicPr>
        <p:blipFill>
          <a:blip r:embed="rId2"/>
          <a:stretch/>
        </p:blipFill>
        <p:spPr>
          <a:xfrm>
            <a:off x="2371680" y="0"/>
            <a:ext cx="440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¿Por qué importa cuál serie us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evante para análisis de frecu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sideración de años se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sideración máximos independientes en años húme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ntaja series duración parcial: más información eventos extrem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sventaja series duración parcial: se debe modelar frecuencia de eventos y su magnitu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mcphee7" descr=""/>
          <p:cNvPicPr/>
          <p:nvPr/>
        </p:nvPicPr>
        <p:blipFill>
          <a:blip r:embed="rId2"/>
          <a:stretch/>
        </p:blipFill>
        <p:spPr>
          <a:xfrm>
            <a:off x="1544760" y="0"/>
            <a:ext cx="605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21060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"/>
              </a:rPr>
              <a:t>Relación entre períodos de retorno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p : serie de duración par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a : serie an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2927520"/>
          <a:ext cx="2971800" cy="13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927520"/>
                    <a:ext cx="2971800" cy="13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frec. gráf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siciones de gráf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stimadores de probabilidades de excede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90720" y="2895480"/>
          <a:ext cx="3603600" cy="120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895480"/>
                    <a:ext cx="36036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90720" y="4191120"/>
          <a:ext cx="3825720" cy="20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4191120"/>
                    <a:ext cx="38257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257800" y="3429000"/>
            <a:ext cx="3505320" cy="1523880"/>
          </a:xfrm>
          <a:prstGeom prst="wedgeEllipseCallout">
            <a:avLst>
              <a:gd name="adj1" fmla="val -56791"/>
              <a:gd name="adj2" fmla="val 55000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c2c42"/>
                </a:solidFill>
                <a:latin typeface="Arial"/>
              </a:rPr>
              <a:t>Si observaciones independientes: Distribución B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Posiciones de gráf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Gener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38360" y="1066680"/>
          <a:ext cx="227664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8360" y="1066680"/>
                    <a:ext cx="22766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066680" y="2209680"/>
          <a:ext cx="6934320" cy="289584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az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hegodayev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43n + 0.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ringort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79n + 0.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eibul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 + 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069560" y="5638680"/>
            <a:ext cx="27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* </a:t>
            </a:r>
            <a:r>
              <a:rPr b="0" lang="es-CL" sz="2400" spc="-1" strike="noStrike">
                <a:solidFill>
                  <a:srgbClr val="ffcc00"/>
                </a:solidFill>
                <a:latin typeface="Arial"/>
              </a:rPr>
              <a:t>California: pi = i/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368280"/>
            <a:ext cx="84582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19T15:30:11Z</dcterms:modified>
  <cp:revision>123</cp:revision>
  <dc:subject/>
  <dc:title>PowerPoint Presentation</dc:title>
</cp:coreProperties>
</file>