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3.jpeg" ContentType="image/jpeg"/>
  <Override PartName="/ppt/media/image12.wmf" ContentType="image/x-wmf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FCA-0B08-4DA4-8BEE-D238CA34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58F-4049-4F62-9ED1-A6FF0C5F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AC4-D94B-4911-9834-DBA70C79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51A-F71F-42D2-B36B-8C8F1A18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CDE8-4A59-42FD-9DF9-2158DB49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3F73-EB73-4B4D-AE17-BFD81F99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62BD-BC5E-449D-8519-D138AE7E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46DA-1602-4D4B-BAE0-330117D5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FBD0-C25E-4B83-85FC-36E66227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301B-2FF3-48DB-9155-AFB2C5B1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5B1E-CAFB-423C-A2FE-AD7055B6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3D7-A586-4FF8-8B7F-03D382A6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7580-2BAC-4375-A5B1-A134A3DE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1EE5-B1CE-4D3E-9682-3A5A526E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53E9-840F-430F-B9D1-D7C5789A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0A1D-D054-4340-A88A-CBEFB248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B9EE-DF14-4CF8-8F8E-46C4E8F0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0CD-E412-4A31-8F71-E180F83E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0EE-957E-45CD-BF58-D3C0EF77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0C9-4104-48B1-A310-491CE88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940-7C50-4992-93E7-3A1941DB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E58-E148-4969-9D80-DA87E1B5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7F2-D7C6-49A0-97B0-D7DD8BE0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E82-02C2-4907-8130-685BDD72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914400"/>
            <a:ext cx="9148680" cy="5409720"/>
            <a:chOff x="-7920" y="914400"/>
            <a:chExt cx="9148680" cy="540972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237000"/>
              <a:ext cx="3143160" cy="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914400"/>
              <a:ext cx="4495680" cy="11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DC11-2BCA-4567-BD99-E5E20CB8672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9691-718D-4F94-8B57-5158E160D44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álisis de frecu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27180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ncorporaci</a:t>
            </a:r>
            <a:r>
              <a:rPr b="0" lang="es-CL" sz="3600" spc="-1" strike="noStrike">
                <a:solidFill>
                  <a:srgbClr val="ffcc00"/>
                </a:solidFill>
                <a:latin typeface="Arial"/>
              </a:rPr>
              <a:t>ón de información históric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gistro histór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eriódic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rt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rcadores de crecid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leocreci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nillos de árbo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pósitos de sedimen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oulder-Creek-Damage_bw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4800600" cy="2911320"/>
          </a:xfrm>
          <a:prstGeom prst="rect">
            <a:avLst/>
          </a:prstGeom>
          <a:ln w="0">
            <a:noFill/>
          </a:ln>
        </p:spPr>
      </p:pic>
      <p:pic>
        <p:nvPicPr>
          <p:cNvPr id="117" name="flood" descr=""/>
          <p:cNvPicPr/>
          <p:nvPr/>
        </p:nvPicPr>
        <p:blipFill>
          <a:blip r:embed="rId3"/>
          <a:stretch/>
        </p:blipFill>
        <p:spPr>
          <a:xfrm>
            <a:off x="5867280" y="7632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118" name="img004" descr=""/>
          <p:cNvPicPr/>
          <p:nvPr/>
        </p:nvPicPr>
        <p:blipFill>
          <a:blip r:embed="rId4"/>
          <a:stretch/>
        </p:blipFill>
        <p:spPr>
          <a:xfrm>
            <a:off x="76320" y="3257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19" name="00180018" descr=""/>
          <p:cNvPicPr/>
          <p:nvPr/>
        </p:nvPicPr>
        <p:blipFill>
          <a:blip r:embed="rId5"/>
          <a:stretch/>
        </p:blipFill>
        <p:spPr>
          <a:xfrm>
            <a:off x="5772240" y="2209680"/>
            <a:ext cx="314316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img005" descr=""/>
          <p:cNvPicPr/>
          <p:nvPr/>
        </p:nvPicPr>
        <p:blipFill>
          <a:blip r:embed="rId6"/>
          <a:stretch/>
        </p:blipFill>
        <p:spPr>
          <a:xfrm>
            <a:off x="2286000" y="3848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lackwater" descr=""/>
          <p:cNvPicPr/>
          <p:nvPr/>
        </p:nvPicPr>
        <p:blipFill>
          <a:blip r:embed="rId2"/>
          <a:stretch/>
        </p:blipFill>
        <p:spPr>
          <a:xfrm>
            <a:off x="4343400" y="3598920"/>
            <a:ext cx="4541760" cy="2946240"/>
          </a:xfrm>
          <a:prstGeom prst="rect">
            <a:avLst/>
          </a:prstGeom>
          <a:ln w="0">
            <a:noFill/>
          </a:ln>
        </p:spPr>
      </p:pic>
      <p:pic>
        <p:nvPicPr>
          <p:cNvPr id="122" name="img007" descr=""/>
          <p:cNvPicPr/>
          <p:nvPr/>
        </p:nvPicPr>
        <p:blipFill>
          <a:blip r:embed="rId3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chiricahua%20flood%20scar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4800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corporación info. histór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istro histórico de h años de du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istro medido de s años de du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eríodo total n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= s + 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 total de r crecidas superan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“umbral de percepción” Q</a:t>
            </a:r>
            <a:r>
              <a:rPr b="0" lang="es-CL" sz="2400" spc="-1" strike="noStrike" baseline="-25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 es el número de crecidas medidas que superan el umbral de percep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3809880"/>
          <a:ext cx="464832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9880"/>
                    <a:ext cx="46483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06440" y="5057640"/>
          <a:ext cx="77468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440" y="5057640"/>
                    <a:ext cx="77468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181480" y="3352680"/>
            <a:ext cx="3505320" cy="1447920"/>
          </a:xfrm>
          <a:prstGeom prst="irregularSeal2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2c2c42"/>
                </a:solidFill>
                <a:latin typeface="Times New Roman"/>
              </a:rPr>
              <a:t>p</a:t>
            </a:r>
            <a:r>
              <a:rPr b="0" i="1" lang="es-CL" sz="3600" spc="-1" strike="noStrike" baseline="-25000">
                <a:solidFill>
                  <a:srgbClr val="2c2c42"/>
                </a:solidFill>
                <a:latin typeface="Times New Roman"/>
              </a:rPr>
              <a:t>e</a:t>
            </a:r>
            <a:r>
              <a:rPr b="0" i="1" lang="es-CL" sz="3600" spc="-1" strike="noStrike">
                <a:solidFill>
                  <a:srgbClr val="2c2c42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2c2c42"/>
                </a:solidFill>
                <a:latin typeface="Times New Roman"/>
              </a:rPr>
              <a:t>= r/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ries de Información hidrológ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ries de duración comple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ienen todos los da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ries de duración par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 conservan valores mayores que valor base (o umbral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rie de excedencia an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rie de valores extremo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=&gt;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serie an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cphee6" descr=""/>
          <p:cNvPicPr/>
          <p:nvPr/>
        </p:nvPicPr>
        <p:blipFill>
          <a:blip r:embed="rId2"/>
          <a:stretch/>
        </p:blipFill>
        <p:spPr>
          <a:xfrm>
            <a:off x="2371680" y="0"/>
            <a:ext cx="440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¿Por qué importa cuál serie us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evante para análisis de frecu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ción de años se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ción máximos independientes en años húme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ntaja series duración parcial: más información eventos extrem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sventaja series duración parcial: se debe modelar frecuencia de eventos y su magnitu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mcphee7" descr=""/>
          <p:cNvPicPr/>
          <p:nvPr/>
        </p:nvPicPr>
        <p:blipFill>
          <a:blip r:embed="rId2"/>
          <a:stretch/>
        </p:blipFill>
        <p:spPr>
          <a:xfrm>
            <a:off x="1544760" y="0"/>
            <a:ext cx="605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2106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"/>
              </a:rPr>
              <a:t>Relación entre períodos de retorno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p : serie de duración par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a : serie an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2927520"/>
          <a:ext cx="2971800" cy="13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27520"/>
                    <a:ext cx="2971800" cy="13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frec. gráf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ciones de gráf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stimadores de probabilidades de excede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90720" y="2895480"/>
          <a:ext cx="360360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895480"/>
                    <a:ext cx="36036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90720" y="4191120"/>
          <a:ext cx="3825720" cy="20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4191120"/>
                    <a:ext cx="38257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257800" y="3429000"/>
            <a:ext cx="3505320" cy="1523880"/>
          </a:xfrm>
          <a:prstGeom prst="wedgeEllipseCallout">
            <a:avLst>
              <a:gd name="adj1" fmla="val -56791"/>
              <a:gd name="adj2" fmla="val 55000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c2c42"/>
                </a:solidFill>
                <a:latin typeface="Arial"/>
              </a:rPr>
              <a:t>Si observaciones independientes: Distribución B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osiciones de gráf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ener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38360" y="1066680"/>
          <a:ext cx="22766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8360" y="1066680"/>
                    <a:ext cx="22766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066680" y="2209680"/>
          <a:ext cx="6934320" cy="289584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az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egodayev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43n + 0.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ringort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79n + 0.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eibul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 + 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069560" y="5638680"/>
            <a:ext cx="27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* </a:t>
            </a:r>
            <a:r>
              <a:rPr b="0" lang="es-CL" sz="2400" spc="-1" strike="noStrike">
                <a:solidFill>
                  <a:srgbClr val="ffcc00"/>
                </a:solidFill>
                <a:latin typeface="Arial"/>
              </a:rPr>
              <a:t>California: pi = i/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19T15:30:11Z</dcterms:modified>
  <cp:revision>123</cp:revision>
  <dc:subject/>
  <dc:title>PowerPoint Presentation</dc:title>
</cp:coreProperties>
</file>