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7.jpeg" ContentType="image/jpeg"/>
  <Override PartName="/ppt/media/image9.wmf" ContentType="image/x-wmf"/>
  <Override PartName="/ppt/media/image8.wmf" ContentType="image/x-wmf"/>
  <Override PartName="/ppt/media/image10.wmf" ContentType="image/x-wmf"/>
  <Override PartName="/ppt/media/image2.png" ContentType="image/png"/>
  <Override PartName="/ppt/media/image7.jpeg" ContentType="image/jpeg"/>
  <Override PartName="/ppt/media/image22.wmf" ContentType="image/x-wmf"/>
  <Override PartName="/ppt/media/image20.jpeg" ContentType="image/jpeg"/>
  <Override PartName="/ppt/media/image15.jpeg" ContentType="image/jpeg"/>
  <Override PartName="/ppt/media/image19.jpeg" ContentType="image/jpeg"/>
  <Override PartName="/ppt/media/image5.png" ContentType="image/png"/>
  <Override PartName="/ppt/media/image21.wmf" ContentType="image/x-wmf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13.jpeg" ContentType="image/jpeg"/>
  <Override PartName="/ppt/media/image12.wmf" ContentType="image/x-wmf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77CE-E1D8-4DC0-B6F8-A76459D2B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3673080"/>
            <a:ext cx="8208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2C22-81AB-449F-8715-4305F995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36730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36730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99CB-3E6B-4156-AB8E-DD45A2777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0666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0666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36730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36730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36730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0F80-CEF9-45A5-BA75-3F465FAFB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CF07-BEF1-43F7-8A6B-81B2FFA6C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17B1-4CCA-489F-A9A8-4A650D2B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95981-3268-46A7-8A65-0377B046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5186-3724-4DC6-ADF3-AB26EFE3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026F-FA81-4C5D-8AC4-C685F70B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14976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EF80-819F-4B6C-87B2-C203684E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36730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583B-8131-411E-ABCA-E09BD57E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DBCD-C8D0-45AC-9FD3-EB3C151B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36730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42C7-C2D5-4D36-ACF3-1ACCF088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3673080"/>
            <a:ext cx="8208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7745-2AD8-49AD-9761-E06CF0E1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3673080"/>
            <a:ext cx="8208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BA81-EA68-40C3-852C-E15E97F2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36730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36730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205E-9710-47B5-BC54-361FA7F85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0666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0666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36730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36730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36730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F4D6-7F50-4A5C-B706-FA2FD6761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9D6D-599F-41C6-B852-A09AA27F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CD60-66CE-4B7D-9487-FBC3FF68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6A68-F12C-475F-B031-42E4A01B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14976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7706-24FF-494A-B9FD-D43E46CC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36730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0724-C5A7-4E4A-8D7F-86119DE8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36730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EACD-F000-40A4-ABCC-9176A7FF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3673080"/>
            <a:ext cx="8208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7DBD-169E-4C57-A49A-F7AD4259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914400"/>
            <a:ext cx="9148680" cy="5409720"/>
            <a:chOff x="-7920" y="914400"/>
            <a:chExt cx="9148680" cy="540972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237000"/>
              <a:ext cx="3143160" cy="8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914400"/>
              <a:ext cx="4495680" cy="11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0F61-5A2B-4A46-AB18-CB10E8CA7492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FCBE-015B-476E-9ACE-8D850A55C896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n</a:t>
            </a: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álisis de frecuenci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271800"/>
            <a:ext cx="863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Incorporaci</a:t>
            </a:r>
            <a:r>
              <a:rPr b="0" lang="es-CL" sz="3600" spc="-1" strike="noStrike">
                <a:solidFill>
                  <a:srgbClr val="ffcc00"/>
                </a:solidFill>
                <a:latin typeface="Arial"/>
              </a:rPr>
              <a:t>ón de información histórica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Registro históri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eriódic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art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Marcadores de crecid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aleocrecid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Anillos de árbol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epósitos de sediment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Boulder-Creek-Damage_bw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4800600" cy="2911320"/>
          </a:xfrm>
          <a:prstGeom prst="rect">
            <a:avLst/>
          </a:prstGeom>
          <a:ln w="0">
            <a:noFill/>
          </a:ln>
        </p:spPr>
      </p:pic>
      <p:pic>
        <p:nvPicPr>
          <p:cNvPr id="117" name="flood" descr=""/>
          <p:cNvPicPr/>
          <p:nvPr/>
        </p:nvPicPr>
        <p:blipFill>
          <a:blip r:embed="rId3"/>
          <a:stretch/>
        </p:blipFill>
        <p:spPr>
          <a:xfrm>
            <a:off x="5867280" y="76320"/>
            <a:ext cx="2362320" cy="1776240"/>
          </a:xfrm>
          <a:prstGeom prst="rect">
            <a:avLst/>
          </a:prstGeom>
          <a:ln w="0">
            <a:noFill/>
          </a:ln>
        </p:spPr>
      </p:pic>
      <p:pic>
        <p:nvPicPr>
          <p:cNvPr id="118" name="img004" descr=""/>
          <p:cNvPicPr/>
          <p:nvPr/>
        </p:nvPicPr>
        <p:blipFill>
          <a:blip r:embed="rId4"/>
          <a:stretch/>
        </p:blipFill>
        <p:spPr>
          <a:xfrm>
            <a:off x="76320" y="325764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119" name="00180018" descr=""/>
          <p:cNvPicPr/>
          <p:nvPr/>
        </p:nvPicPr>
        <p:blipFill>
          <a:blip r:embed="rId5"/>
          <a:stretch/>
        </p:blipFill>
        <p:spPr>
          <a:xfrm>
            <a:off x="5772240" y="2209680"/>
            <a:ext cx="3143160" cy="3200400"/>
          </a:xfrm>
          <a:prstGeom prst="rect">
            <a:avLst/>
          </a:prstGeom>
          <a:ln w="0">
            <a:noFill/>
          </a:ln>
        </p:spPr>
      </p:pic>
      <p:pic>
        <p:nvPicPr>
          <p:cNvPr id="120" name="img005" descr=""/>
          <p:cNvPicPr/>
          <p:nvPr/>
        </p:nvPicPr>
        <p:blipFill>
          <a:blip r:embed="rId6"/>
          <a:stretch/>
        </p:blipFill>
        <p:spPr>
          <a:xfrm>
            <a:off x="2286000" y="384804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slackwater" descr=""/>
          <p:cNvPicPr/>
          <p:nvPr/>
        </p:nvPicPr>
        <p:blipFill>
          <a:blip r:embed="rId2"/>
          <a:stretch/>
        </p:blipFill>
        <p:spPr>
          <a:xfrm>
            <a:off x="4343400" y="3598920"/>
            <a:ext cx="4541760" cy="2946240"/>
          </a:xfrm>
          <a:prstGeom prst="rect">
            <a:avLst/>
          </a:prstGeom>
          <a:ln w="0">
            <a:noFill/>
          </a:ln>
        </p:spPr>
      </p:pic>
      <p:pic>
        <p:nvPicPr>
          <p:cNvPr id="122" name="img007" descr=""/>
          <p:cNvPicPr/>
          <p:nvPr/>
        </p:nvPicPr>
        <p:blipFill>
          <a:blip r:embed="rId3"/>
          <a:stretch/>
        </p:blipFill>
        <p:spPr>
          <a:xfrm>
            <a:off x="5105520" y="3049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3" name="chiricahua%20flood%20scar" descr=""/>
          <p:cNvPicPr/>
          <p:nvPr/>
        </p:nvPicPr>
        <p:blipFill>
          <a:blip r:embed="rId4"/>
          <a:stretch/>
        </p:blipFill>
        <p:spPr>
          <a:xfrm>
            <a:off x="228600" y="1219320"/>
            <a:ext cx="480060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Incorporación info. históric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registro histórico de h años de duració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registro medido de s años de duració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período total n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= s + h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Un total de r crecidas superan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“umbral de percepción” Q</a:t>
            </a:r>
            <a:r>
              <a:rPr b="0" lang="es-CL" sz="2400" spc="-1" strike="noStrike" baseline="-25000">
                <a:solidFill>
                  <a:srgbClr val="ffffc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e es el número de crecidas medidas que superan el umbral de percepció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80880" y="3809880"/>
          <a:ext cx="4648320" cy="98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3809880"/>
                    <a:ext cx="464832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406440" y="5057640"/>
          <a:ext cx="774684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440" y="5057640"/>
                    <a:ext cx="77468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5181480" y="3352680"/>
            <a:ext cx="3505320" cy="1447920"/>
          </a:xfrm>
          <a:prstGeom prst="irregularSeal2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2c2c42"/>
                </a:solidFill>
                <a:latin typeface="Times New Roman"/>
              </a:rPr>
              <a:t>p</a:t>
            </a:r>
            <a:r>
              <a:rPr b="0" i="1" lang="es-CL" sz="3600" spc="-1" strike="noStrike" baseline="-25000">
                <a:solidFill>
                  <a:srgbClr val="2c2c42"/>
                </a:solidFill>
                <a:latin typeface="Times New Roman"/>
              </a:rPr>
              <a:t>e</a:t>
            </a:r>
            <a:r>
              <a:rPr b="0" i="1" lang="es-CL" sz="3600" spc="-1" strike="noStrike">
                <a:solidFill>
                  <a:srgbClr val="2c2c42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2c2c42"/>
                </a:solidFill>
                <a:latin typeface="Times New Roman"/>
              </a:rPr>
              <a:t>= r/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Series de Información hidrológic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eries de duración complet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Tienen todos los dat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eries de duración parci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Se conservan valores mayores que valor base (o umbral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Serie de excedencia anu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Serie de valores extremos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=&gt;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serie anu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mcphee6" descr=""/>
          <p:cNvPicPr/>
          <p:nvPr/>
        </p:nvPicPr>
        <p:blipFill>
          <a:blip r:embed="rId2"/>
          <a:stretch/>
        </p:blipFill>
        <p:spPr>
          <a:xfrm>
            <a:off x="2371680" y="0"/>
            <a:ext cx="4400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¿Por qué importa cuál serie usar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Relevante para análisis de frecuenci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onsideración de años sec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onsideración máximos independientes en años húmed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Ventaja series duración parcial: más información eventos extrem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esventaja series duración parcial: se debe modelar frecuencia de eventos y su magnitu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mcphee7" descr=""/>
          <p:cNvPicPr/>
          <p:nvPr/>
        </p:nvPicPr>
        <p:blipFill>
          <a:blip r:embed="rId2"/>
          <a:stretch/>
        </p:blipFill>
        <p:spPr>
          <a:xfrm>
            <a:off x="1544760" y="0"/>
            <a:ext cx="6053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210600"/>
            <a:ext cx="863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cc00"/>
                </a:solidFill>
                <a:latin typeface="Arial"/>
              </a:rPr>
              <a:t>Relación entre períodos de retorno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Tp : serie de duración parci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Ta : serie anu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2927520"/>
          <a:ext cx="2971800" cy="132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2927520"/>
                    <a:ext cx="2971800" cy="13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Análisis de frec. gráfic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osiciones de gráfi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stimadores de probabilidades de excedenci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990720" y="2895480"/>
          <a:ext cx="3603600" cy="1201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2895480"/>
                    <a:ext cx="360360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990720" y="4191120"/>
          <a:ext cx="3825720" cy="208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90720" y="4191120"/>
                    <a:ext cx="3825720" cy="20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5257800" y="3429000"/>
            <a:ext cx="3505320" cy="1523880"/>
          </a:xfrm>
          <a:prstGeom prst="wedgeEllipseCallout">
            <a:avLst>
              <a:gd name="adj1" fmla="val -56791"/>
              <a:gd name="adj2" fmla="val 55000"/>
            </a:avLst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c2c42"/>
                </a:solidFill>
                <a:latin typeface="Arial"/>
              </a:rPr>
              <a:t>Si observaciones independientes: Distribución B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Posiciones de gráfic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General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438360" y="1066680"/>
          <a:ext cx="2276640" cy="98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38360" y="1066680"/>
                    <a:ext cx="227664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066680" y="2209680"/>
          <a:ext cx="6934320" cy="2895840"/>
        </p:xfrm>
        <a:graphic>
          <a:graphicData uri="http://schemas.openxmlformats.org/drawingml/2006/table">
            <a:tbl>
              <a:tblPr/>
              <a:tblGrid>
                <a:gridCol w="2311560"/>
                <a:gridCol w="2311200"/>
                <a:gridCol w="231156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omb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</a:t>
                      </a:r>
                      <a:r>
                        <a:rPr b="0" lang="es-CL" sz="2800" spc="-1" strike="noStrike" baseline="-25000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Haze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5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hegodayev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3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.43n + 0.6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Gringorte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44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.79n + 0.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Weibull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0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 + 1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1069560" y="5638680"/>
            <a:ext cx="27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* </a:t>
            </a:r>
            <a:r>
              <a:rPr b="0" lang="es-CL" sz="2400" spc="-1" strike="noStrike">
                <a:solidFill>
                  <a:srgbClr val="ffcc00"/>
                </a:solidFill>
                <a:latin typeface="Arial"/>
              </a:rPr>
              <a:t>California: pi = i/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28600" y="368280"/>
            <a:ext cx="8458200" cy="64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18:53:17Z</dcterms:created>
  <dc:creator>nnnn</dc:creator>
  <dc:description/>
  <dc:language>en-US</dc:language>
  <cp:lastModifiedBy>nnnn</cp:lastModifiedBy>
  <dcterms:modified xsi:type="dcterms:W3CDTF">2004-10-19T15:30:11Z</dcterms:modified>
  <cp:revision>123</cp:revision>
  <dc:subject/>
  <dc:title>PowerPoint Presentation</dc:title>
</cp:coreProperties>
</file>