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9.wmf" ContentType="image/x-wmf"/>
  <Override PartName="/ppt/media/image8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13.jpeg" ContentType="image/jpeg"/>
  <Override PartName="/ppt/media/image12.wmf" ContentType="image/x-wmf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4F8-0A78-4BF7-B986-A4426921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924-C2B0-4C8D-B006-3D1F0695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BE8-C20E-4954-A511-46633338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E40-9851-404C-A79F-9E904941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7CC9-E5E0-4A60-BE8A-3D973682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9D71-30EC-4F8C-A26B-8F27C38F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ADC4-395E-4873-8B4C-5814D79A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F8B3-F6DD-467F-945E-4B5619E3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CD85-6013-49CB-9F12-5CCD14E0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F845-2A90-4816-8B95-40922F9A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4235-E998-4A5F-9BFF-0088C795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C81-F128-4171-9A77-651F40D2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6803-8015-4B84-8082-960DB8E1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3742-AFBD-473E-8EEA-4016510B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D1A6-4647-45B1-B86E-E98D0D3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4DF8-988D-4A22-935E-91364963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0666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3673080"/>
            <a:ext cx="26431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AE0E-CE88-431C-9AE1-5CCA5274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CA2-412E-4A4E-B7CD-29E666CB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B92-08C3-43DC-9E5B-A4CCE1A9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C53-058D-44EB-A39A-410AAEF5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14976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BA7-DA57-40D0-BB44-682757F9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0BCC-50CD-411F-AD8C-F9BE5FE3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36730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DD9-EF94-47B9-A126-FB2DBD42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066680"/>
            <a:ext cx="4005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3673080"/>
            <a:ext cx="82087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F37-6CA8-49CE-B5E2-0561406E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914400"/>
            <a:ext cx="9148680" cy="5409720"/>
            <a:chOff x="-7920" y="914400"/>
            <a:chExt cx="9148680" cy="540972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237000"/>
              <a:ext cx="3143160" cy="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914400"/>
              <a:ext cx="4495680" cy="11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E74E-F1FD-485A-B3E0-6B532DA2444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CBAA-FBDD-4BB2-9282-6F028CEC4149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</a:t>
            </a: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álisis de frecu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27180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ncorporaci</a:t>
            </a:r>
            <a:r>
              <a:rPr b="0" lang="es-CL" sz="3600" spc="-1" strike="noStrike">
                <a:solidFill>
                  <a:srgbClr val="ffcc00"/>
                </a:solidFill>
                <a:latin typeface="Arial"/>
              </a:rPr>
              <a:t>ón de información históric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gistro histór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eriódic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rt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rcadores de crecid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leocrecid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Anillos de árbo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pósitos de sedi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oulder-Creek-Damage_bw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4800600" cy="2911320"/>
          </a:xfrm>
          <a:prstGeom prst="rect">
            <a:avLst/>
          </a:prstGeom>
          <a:ln w="0">
            <a:noFill/>
          </a:ln>
        </p:spPr>
      </p:pic>
      <p:pic>
        <p:nvPicPr>
          <p:cNvPr id="117" name="flood" descr=""/>
          <p:cNvPicPr/>
          <p:nvPr/>
        </p:nvPicPr>
        <p:blipFill>
          <a:blip r:embed="rId3"/>
          <a:stretch/>
        </p:blipFill>
        <p:spPr>
          <a:xfrm>
            <a:off x="5867280" y="76320"/>
            <a:ext cx="2362320" cy="1776240"/>
          </a:xfrm>
          <a:prstGeom prst="rect">
            <a:avLst/>
          </a:prstGeom>
          <a:ln w="0">
            <a:noFill/>
          </a:ln>
        </p:spPr>
      </p:pic>
      <p:pic>
        <p:nvPicPr>
          <p:cNvPr id="118" name="img004" descr=""/>
          <p:cNvPicPr/>
          <p:nvPr/>
        </p:nvPicPr>
        <p:blipFill>
          <a:blip r:embed="rId4"/>
          <a:stretch/>
        </p:blipFill>
        <p:spPr>
          <a:xfrm>
            <a:off x="76320" y="32576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19" name="00180018" descr=""/>
          <p:cNvPicPr/>
          <p:nvPr/>
        </p:nvPicPr>
        <p:blipFill>
          <a:blip r:embed="rId5"/>
          <a:stretch/>
        </p:blipFill>
        <p:spPr>
          <a:xfrm>
            <a:off x="5772240" y="2209680"/>
            <a:ext cx="3143160" cy="3200400"/>
          </a:xfrm>
          <a:prstGeom prst="rect">
            <a:avLst/>
          </a:prstGeom>
          <a:ln w="0">
            <a:noFill/>
          </a:ln>
        </p:spPr>
      </p:pic>
      <p:pic>
        <p:nvPicPr>
          <p:cNvPr id="120" name="img005" descr=""/>
          <p:cNvPicPr/>
          <p:nvPr/>
        </p:nvPicPr>
        <p:blipFill>
          <a:blip r:embed="rId6"/>
          <a:stretch/>
        </p:blipFill>
        <p:spPr>
          <a:xfrm>
            <a:off x="2286000" y="3848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lackwater" descr=""/>
          <p:cNvPicPr/>
          <p:nvPr/>
        </p:nvPicPr>
        <p:blipFill>
          <a:blip r:embed="rId2"/>
          <a:stretch/>
        </p:blipFill>
        <p:spPr>
          <a:xfrm>
            <a:off x="4343400" y="3598920"/>
            <a:ext cx="4541760" cy="2946240"/>
          </a:xfrm>
          <a:prstGeom prst="rect">
            <a:avLst/>
          </a:prstGeom>
          <a:ln w="0">
            <a:noFill/>
          </a:ln>
        </p:spPr>
      </p:pic>
      <p:pic>
        <p:nvPicPr>
          <p:cNvPr id="122" name="img007" descr=""/>
          <p:cNvPicPr/>
          <p:nvPr/>
        </p:nvPicPr>
        <p:blipFill>
          <a:blip r:embed="rId3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chiricahua%20flood%20scar" descr=""/>
          <p:cNvPicPr/>
          <p:nvPr/>
        </p:nvPicPr>
        <p:blipFill>
          <a:blip r:embed="rId4"/>
          <a:stretch/>
        </p:blipFill>
        <p:spPr>
          <a:xfrm>
            <a:off x="228600" y="1219320"/>
            <a:ext cx="480060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Incorporación info. histór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istro histórico de h años de du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registro medido de s años de dura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eríodo total n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= s + 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 total de r crecidas superan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“umbral de percepción” Q</a:t>
            </a:r>
            <a:r>
              <a:rPr b="0" lang="es-CL" sz="2400" spc="-1" strike="noStrike" baseline="-25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 es el número de crecidas medidas que superan el umbral de percep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3809880"/>
          <a:ext cx="464832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9880"/>
                    <a:ext cx="46483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06440" y="5057640"/>
          <a:ext cx="77468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440" y="5057640"/>
                    <a:ext cx="77468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5181480" y="3352680"/>
            <a:ext cx="3505320" cy="1447920"/>
          </a:xfrm>
          <a:prstGeom prst="irregularSeal2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2c2c42"/>
                </a:solidFill>
                <a:latin typeface="Times New Roman"/>
              </a:rPr>
              <a:t>p</a:t>
            </a:r>
            <a:r>
              <a:rPr b="0" i="1" lang="es-CL" sz="3600" spc="-1" strike="noStrike" baseline="-25000">
                <a:solidFill>
                  <a:srgbClr val="2c2c42"/>
                </a:solidFill>
                <a:latin typeface="Times New Roman"/>
              </a:rPr>
              <a:t>e</a:t>
            </a:r>
            <a:r>
              <a:rPr b="0" i="1" lang="es-CL" sz="3600" spc="-1" strike="noStrike">
                <a:solidFill>
                  <a:srgbClr val="2c2c42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2c2c42"/>
                </a:solidFill>
                <a:latin typeface="Times New Roman"/>
              </a:rPr>
              <a:t>= r/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Series de Información hidrológ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ries de duración comple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ienen todos los da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eries de duración par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 conservan valores mayores que valor base (o umbral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rie de excedencia 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erie de valores extremo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=&gt;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serie anu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cphee6" descr=""/>
          <p:cNvPicPr/>
          <p:nvPr/>
        </p:nvPicPr>
        <p:blipFill>
          <a:blip r:embed="rId2"/>
          <a:stretch/>
        </p:blipFill>
        <p:spPr>
          <a:xfrm>
            <a:off x="2371680" y="0"/>
            <a:ext cx="440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¿Por qué importa cuál serie us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evante para análisis de frecu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ción de años se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sideración máximos independientes en años húme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entaja series duración parcial: más información eventos extrem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sventaja series duración parcial: se debe modelar frecuencia de eventos y su magnitu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mcphee7" descr=""/>
          <p:cNvPicPr/>
          <p:nvPr/>
        </p:nvPicPr>
        <p:blipFill>
          <a:blip r:embed="rId2"/>
          <a:stretch/>
        </p:blipFill>
        <p:spPr>
          <a:xfrm>
            <a:off x="1544760" y="0"/>
            <a:ext cx="60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21060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"/>
              </a:rPr>
              <a:t>Relación entre períodos de retorno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p : serie de duración par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a : serie an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2927520"/>
          <a:ext cx="2971800" cy="13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2927520"/>
                    <a:ext cx="2971800" cy="13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Análisis de frec. gráf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ciones de gráf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stimadores de probabilidades de excedenc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2895480"/>
          <a:ext cx="3603600" cy="120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895480"/>
                    <a:ext cx="360360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4191120"/>
          <a:ext cx="3825720" cy="20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4191120"/>
                    <a:ext cx="382572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5257800" y="3429000"/>
            <a:ext cx="3505320" cy="1523880"/>
          </a:xfrm>
          <a:prstGeom prst="wedgeEllipseCallout">
            <a:avLst>
              <a:gd name="adj1" fmla="val -56791"/>
              <a:gd name="adj2" fmla="val 55000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c2c42"/>
                </a:solidFill>
                <a:latin typeface="Arial"/>
              </a:rPr>
              <a:t>Si observaciones independientes: Distribución B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1497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Posiciones de gráfic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066680"/>
            <a:ext cx="8208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Gener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438360" y="1066680"/>
          <a:ext cx="2276640" cy="98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8360" y="1066680"/>
                    <a:ext cx="227664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066680" y="2209680"/>
          <a:ext cx="6934320" cy="289584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L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az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egodayev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3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43n + 0.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Gringort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.79n + 0.2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Weibull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 + 1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069560" y="563868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* </a:t>
            </a:r>
            <a:r>
              <a:rPr b="0" lang="es-CL" sz="2400" spc="-1" strike="noStrike">
                <a:solidFill>
                  <a:srgbClr val="ffcc00"/>
                </a:solidFill>
                <a:latin typeface="Arial"/>
              </a:rPr>
              <a:t>California: pi = i/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19T15:30:11Z</dcterms:modified>
  <cp:revision>123</cp:revision>
  <dc:subject/>
  <dc:title>PowerPoint Presentation</dc:title>
</cp:coreProperties>
</file>