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wmf" ContentType="image/x-wmf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33.wmf" ContentType="image/x-wmf"/>
  <Override PartName="/ppt/media/image13.wmf" ContentType="image/x-wmf"/>
  <Override PartName="/ppt/media/image5.png" ContentType="image/png"/>
  <Override PartName="/ppt/media/image9.wmf" ContentType="image/x-wmf"/>
  <Override PartName="/ppt/media/image34.wmf" ContentType="image/x-wmf"/>
  <Override PartName="/ppt/media/image2.png" ContentType="image/png"/>
  <Override PartName="/ppt/media/image10.wmf" ContentType="image/x-wmf"/>
  <Override PartName="/ppt/media/image30.wmf" ContentType="image/x-wmf"/>
  <Override PartName="/ppt/media/image31.wmf" ContentType="image/x-wmf"/>
  <Override PartName="/ppt/media/image6.wmf" ContentType="image/x-wmf"/>
  <Override PartName="/ppt/media/image32.wmf" ContentType="image/x-wmf"/>
  <Override PartName="/ppt/media/image7.wmf" ContentType="image/x-wmf"/>
  <Override PartName="/ppt/media/image35.wmf" ContentType="image/x-wmf"/>
  <Override PartName="/ppt/media/image11.wmf" ContentType="image/x-wmf"/>
  <Override PartName="/ppt/media/image3.png" ContentType="image/png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F16E-1499-4863-BE32-41FEFBA34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066680"/>
            <a:ext cx="8208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3673080"/>
            <a:ext cx="8208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201A-2CA7-443D-B7C2-DF1049B76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066680"/>
            <a:ext cx="4005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066680"/>
            <a:ext cx="4005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3673080"/>
            <a:ext cx="4005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3673080"/>
            <a:ext cx="4005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4A3B-A036-46CD-9A84-A7D161696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066680"/>
            <a:ext cx="26431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066680"/>
            <a:ext cx="26431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066680"/>
            <a:ext cx="26431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3673080"/>
            <a:ext cx="26431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3673080"/>
            <a:ext cx="26431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3673080"/>
            <a:ext cx="26431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F12E-69DA-4161-BD71-533F0BF60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A6CBB-04B4-4A00-8F86-95B51D242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066680"/>
            <a:ext cx="8208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A8160-FB4F-4BF6-B765-3DA216809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066680"/>
            <a:ext cx="820872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7065A-3EE8-4994-A906-A98E93569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066680"/>
            <a:ext cx="400572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066680"/>
            <a:ext cx="400572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F4561-8050-4B43-AF06-8451FA7FC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0E65F-6A54-4529-A8A3-DBCB93972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14976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E8380-FF14-4C9D-82CD-6ED539E35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066680"/>
            <a:ext cx="4005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066680"/>
            <a:ext cx="400572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3673080"/>
            <a:ext cx="4005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38BEE-B110-47BC-A71A-5438B4F37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066680"/>
            <a:ext cx="8208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7527-6178-4DA6-9898-3228CDC6B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066680"/>
            <a:ext cx="400572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066680"/>
            <a:ext cx="4005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3673080"/>
            <a:ext cx="4005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F5C36-BB2D-4854-9ED0-64802FCB2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066680"/>
            <a:ext cx="4005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066680"/>
            <a:ext cx="4005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3673080"/>
            <a:ext cx="8208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659A0-6B20-4DDD-8798-5DABDC102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066680"/>
            <a:ext cx="8208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3673080"/>
            <a:ext cx="8208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49F2D-3F79-4A10-9A85-A1377ECBF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066680"/>
            <a:ext cx="4005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066680"/>
            <a:ext cx="4005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3673080"/>
            <a:ext cx="4005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3673080"/>
            <a:ext cx="4005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894D4-FE56-4CFA-8710-EBE705E8A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066680"/>
            <a:ext cx="26431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066680"/>
            <a:ext cx="26431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066680"/>
            <a:ext cx="26431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3673080"/>
            <a:ext cx="26431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3673080"/>
            <a:ext cx="26431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3673080"/>
            <a:ext cx="26431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5FB1A-E109-4CD6-A177-4797B00CF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066680"/>
            <a:ext cx="820872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4F3D-702A-451D-AE41-165CDE8A9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066680"/>
            <a:ext cx="400572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066680"/>
            <a:ext cx="400572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7D15-4CC0-4896-B22A-8B86C137D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F8E5-2E58-4039-821E-1AAC22B22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14976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2CE4-7E86-4B5A-AAD4-52E67CDC5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066680"/>
            <a:ext cx="4005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066680"/>
            <a:ext cx="400572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3673080"/>
            <a:ext cx="4005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BF6D-1FB7-4CA6-8BE4-415979503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066680"/>
            <a:ext cx="400572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066680"/>
            <a:ext cx="4005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3673080"/>
            <a:ext cx="4005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EA4B-2328-43D3-9505-A02A6A846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066680"/>
            <a:ext cx="4005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066680"/>
            <a:ext cx="4005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3673080"/>
            <a:ext cx="8208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429B-4705-4A24-8805-E584D398C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914400"/>
            <a:ext cx="9148680" cy="5409720"/>
            <a:chOff x="-7920" y="914400"/>
            <a:chExt cx="9148680" cy="5409720"/>
          </a:xfrm>
        </p:grpSpPr>
        <p:pic>
          <p:nvPicPr>
            <p:cNvPr id="1" name="ARTHSEPA" descr=""/>
            <p:cNvPicPr/>
            <p:nvPr/>
          </p:nvPicPr>
          <p:blipFill>
            <a:blip r:embed="rId3"/>
            <a:stretch/>
          </p:blipFill>
          <p:spPr>
            <a:xfrm>
              <a:off x="5997600" y="6237000"/>
              <a:ext cx="3143160" cy="8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Arthsepa" descr=""/>
            <p:cNvPicPr/>
            <p:nvPr/>
          </p:nvPicPr>
          <p:blipFill>
            <a:blip r:embed="rId4"/>
            <a:stretch/>
          </p:blipFill>
          <p:spPr>
            <a:xfrm>
              <a:off x="-7920" y="914400"/>
              <a:ext cx="4495680" cy="113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066680"/>
            <a:ext cx="820872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2FC17-EB05-422E-A02F-516552D029E5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ARTBANNA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Arthsepa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A264C-CB70-43A2-BF5E-354D8533553B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2.wmf"/><Relationship Id="rId6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4.wmf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8.wmf"/><Relationship Id="rId10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0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31.wmf"/><Relationship Id="rId6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5.wmf"/><Relationship Id="rId6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ap</a:t>
            </a: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ítulo 7.  Hidrología Estadística y Probabilístic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odelos </a:t>
            </a: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probabilísticos para variables continua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533520" y="380880"/>
            <a:ext cx="8229600" cy="631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609480" y="228600"/>
            <a:ext cx="8229600" cy="63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57200" y="228600"/>
            <a:ext cx="8305920" cy="63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"/>
          <p:cNvGrpSpPr/>
          <p:nvPr/>
        </p:nvGrpSpPr>
        <p:grpSpPr>
          <a:xfrm>
            <a:off x="228600" y="457200"/>
            <a:ext cx="8499600" cy="6172200"/>
            <a:chOff x="228600" y="457200"/>
            <a:chExt cx="8499600" cy="6172200"/>
          </a:xfrm>
        </p:grpSpPr>
        <p:pic>
          <p:nvPicPr>
            <p:cNvPr id="162" name="" descr="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8499600" cy="617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4343400" y="6095880"/>
              <a:ext cx="304920" cy="32076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6633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019920" y="6095880"/>
              <a:ext cx="484200" cy="3859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663300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629400" y="6095880"/>
              <a:ext cx="457200" cy="3859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663300"/>
                  </a:solidFill>
                  <a:latin typeface="Times New Roman"/>
                </a:rPr>
                <a:t>2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086600" y="6095880"/>
              <a:ext cx="468360" cy="3859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663300"/>
                  </a:solidFill>
                  <a:latin typeface="Times New Roman"/>
                </a:rPr>
                <a:t>5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543800" y="6095880"/>
              <a:ext cx="555480" cy="38124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663300"/>
                  </a:solidFill>
                  <a:latin typeface="Times New Roman"/>
                </a:rPr>
                <a:t>10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Distribución Gamm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133720" y="1066680"/>
          <a:ext cx="4438440" cy="2283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33720" y="1066680"/>
                    <a:ext cx="4438440" cy="22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685800" y="3505320"/>
          <a:ext cx="6858000" cy="1062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5800" y="3505320"/>
                    <a:ext cx="685800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609480" y="4724280"/>
                <a:ext cx="243864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u</m:t>
                            </m:r>
                          </m:sup>
                        </m:sSup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609480" y="5867280"/>
            <a:ext cx="4267440" cy="4597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3300"/>
                </a:solidFill>
                <a:latin typeface="Symbol"/>
                <a:ea typeface="Symbol"/>
              </a:rPr>
              <a:t></a:t>
            </a:r>
            <a:r>
              <a:rPr b="0" lang="es-ES_tradnl" sz="2400" spc="-1" strike="noStrike">
                <a:solidFill>
                  <a:srgbClr val="663300"/>
                </a:solidFill>
                <a:latin typeface="Tahoma"/>
              </a:rPr>
              <a:t>(k)=(k-1)!       Si k enter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200400" y="5105520"/>
            <a:ext cx="685800" cy="304560"/>
          </a:xfrm>
          <a:prstGeom prst="rightArrow">
            <a:avLst>
              <a:gd name="adj1" fmla="val 50000"/>
              <a:gd name="adj2" fmla="val 56294"/>
            </a:avLst>
          </a:prstGeom>
          <a:solidFill>
            <a:srgbClr val="33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962520" y="4800600"/>
            <a:ext cx="487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obtiene de tablas o aproximaciones numéric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Distribución Pearson III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28680" y="1066680"/>
            <a:ext cx="820872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quivalente a Gamma de 3 parámetr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066680" y="1066680"/>
          <a:ext cx="6969240" cy="1136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1066680"/>
                    <a:ext cx="6969240" cy="11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914400" y="2774880"/>
          <a:ext cx="6824520" cy="340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14400" y="2774880"/>
                    <a:ext cx="6824520" cy="34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Distribución Log-Pearson III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" y="1295280"/>
            <a:ext cx="2133720" cy="510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y=log</a:t>
            </a:r>
            <a:r>
              <a:rPr b="1" lang="es-ES_tradnl" sz="2400" spc="-1" strike="noStrike" baseline="-25000">
                <a:solidFill>
                  <a:srgbClr val="000066"/>
                </a:solidFill>
                <a:latin typeface="Verdana"/>
              </a:rPr>
              <a:t>10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 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3135240" y="914400"/>
          <a:ext cx="5692680" cy="1106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35240" y="914400"/>
                    <a:ext cx="5692680" cy="11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2590920" y="1523880"/>
            <a:ext cx="380880" cy="152640"/>
          </a:xfrm>
          <a:prstGeom prst="rightArrow">
            <a:avLst>
              <a:gd name="adj1" fmla="val 50000"/>
              <a:gd name="adj2" fmla="val 62382"/>
            </a:avLst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88280" y="2438280"/>
            <a:ext cx="496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En la práctica, factor de frecuencia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304920" y="3124080"/>
          <a:ext cx="6748200" cy="1914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3124080"/>
                    <a:ext cx="6748200" cy="19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>
            <a:off x="2514600" y="4038480"/>
            <a:ext cx="3048120" cy="129564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181480" y="533412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K de variable normal estandariz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358920" y="5181480"/>
          <a:ext cx="2676240" cy="1363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58920" y="5181480"/>
                    <a:ext cx="2676240" cy="13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5334120" y="2362320"/>
          <a:ext cx="2439720" cy="568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334120" y="2362320"/>
                    <a:ext cx="2439720" cy="56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Dist. Log-Pearson III (cont.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28680" y="1066680"/>
            <a:ext cx="820872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Para n&lt;100 usar información de estaciones vecinas (coef. asimetría generalizado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3124080" y="1981080"/>
                <a:ext cx="4057920" cy="15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G</m:t>
                                </m:r>
                              </m:e>
                            </m:acc>
                          </m:sub>
                        </m:sSub>
                        <m:r>
                          <m:t xml:space="preserve">G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G</m:t>
                            </m:r>
                          </m:e>
                        </m:acc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G</m:t>
                                </m:r>
                              </m:e>
                            </m:acc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0" name=""/>
          <p:cNvSpPr/>
          <p:nvPr/>
        </p:nvSpPr>
        <p:spPr>
          <a:xfrm>
            <a:off x="685800" y="4343400"/>
            <a:ext cx="6095880" cy="1015920"/>
          </a:xfrm>
          <a:prstGeom prst="rect">
            <a:avLst/>
          </a:prstGeom>
          <a:solidFill>
            <a:srgbClr val="666699"/>
          </a:solidFill>
          <a:ln w="0">
            <a:noFill/>
          </a:ln>
          <a:effectLst>
            <a:outerShdw dist="107932" dir="18900000" blurRad="0" rotWithShape="0">
              <a:srgbClr val="2c2c4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A =-0,33+0,08</a:t>
            </a:r>
            <a:r>
              <a:rPr b="1" lang="es-ES_tradnl" sz="2400" spc="-1" strike="noStrike">
                <a:solidFill>
                  <a:srgbClr val="000066"/>
                </a:solidFill>
                <a:latin typeface="Symbol"/>
                <a:ea typeface="Symbol"/>
              </a:rPr>
              <a:t>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G</a:t>
            </a:r>
            <a:r>
              <a:rPr b="1" lang="es-ES_tradnl" sz="2400" spc="-1" strike="noStrike">
                <a:solidFill>
                  <a:srgbClr val="000066"/>
                </a:solidFill>
                <a:latin typeface="Symbol"/>
                <a:ea typeface="Symbol"/>
              </a:rPr>
              <a:t>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     si </a:t>
            </a:r>
            <a:r>
              <a:rPr b="1" lang="es-ES_tradnl" sz="2400" spc="-1" strike="noStrike">
                <a:solidFill>
                  <a:srgbClr val="000066"/>
                </a:solidFill>
                <a:latin typeface="Symbol"/>
                <a:ea typeface="Symbol"/>
              </a:rPr>
              <a:t>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G</a:t>
            </a:r>
            <a:r>
              <a:rPr b="1" lang="es-ES_tradnl" sz="2400" spc="-1" strike="noStrike">
                <a:solidFill>
                  <a:srgbClr val="000066"/>
                </a:solidFill>
                <a:latin typeface="Symbol"/>
                <a:ea typeface="Symbol"/>
              </a:rPr>
              <a:t>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0066"/>
                </a:solidFill>
                <a:latin typeface="Symbol"/>
                <a:ea typeface="Symbol"/>
              </a:rPr>
              <a:t>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0,9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   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=-0,52+0,30</a:t>
            </a:r>
            <a:r>
              <a:rPr b="1" lang="es-ES_tradnl" sz="2400" spc="-1" strike="noStrike">
                <a:solidFill>
                  <a:srgbClr val="000066"/>
                </a:solidFill>
                <a:latin typeface="Symbol"/>
                <a:ea typeface="Symbol"/>
              </a:rPr>
              <a:t>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G</a:t>
            </a:r>
            <a:r>
              <a:rPr b="1" lang="es-ES_tradnl" sz="2400" spc="-1" strike="noStrike">
                <a:solidFill>
                  <a:srgbClr val="000066"/>
                </a:solidFill>
                <a:latin typeface="Symbol"/>
                <a:ea typeface="Symbol"/>
              </a:rPr>
              <a:t>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     si </a:t>
            </a:r>
            <a:r>
              <a:rPr b="1" lang="es-ES_tradnl" sz="2400" spc="-1" strike="noStrike">
                <a:solidFill>
                  <a:srgbClr val="000066"/>
                </a:solidFill>
                <a:latin typeface="Symbol"/>
                <a:ea typeface="Symbol"/>
              </a:rPr>
              <a:t>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G</a:t>
            </a:r>
            <a:r>
              <a:rPr b="1" lang="es-ES_tradnl" sz="2400" spc="-1" strike="noStrike">
                <a:solidFill>
                  <a:srgbClr val="000066"/>
                </a:solidFill>
                <a:latin typeface="Symbol"/>
                <a:ea typeface="Symbol"/>
              </a:rPr>
              <a:t>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 &gt;0,9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62120" y="5486400"/>
            <a:ext cx="6019560" cy="1015920"/>
          </a:xfrm>
          <a:prstGeom prst="rect">
            <a:avLst/>
          </a:prstGeom>
          <a:solidFill>
            <a:srgbClr val="cc6600"/>
          </a:solidFill>
          <a:ln w="0">
            <a:noFill/>
          </a:ln>
          <a:effectLst>
            <a:outerShdw dist="107932" dir="13500000" blurRad="0" rotWithShape="0">
              <a:srgbClr val="2c2c4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B =0,94-0,26</a:t>
            </a:r>
            <a:r>
              <a:rPr b="1" lang="es-ES_tradnl" sz="2400" spc="-1" strike="noStrike">
                <a:solidFill>
                  <a:srgbClr val="000066"/>
                </a:solidFill>
                <a:latin typeface="Symbol"/>
                <a:ea typeface="Symbol"/>
              </a:rPr>
              <a:t>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G</a:t>
            </a:r>
            <a:r>
              <a:rPr b="1" lang="es-ES_tradnl" sz="2400" spc="-1" strike="noStrike">
                <a:solidFill>
                  <a:srgbClr val="000066"/>
                </a:solidFill>
                <a:latin typeface="Symbol"/>
                <a:ea typeface="Symbol"/>
              </a:rPr>
              <a:t>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     si </a:t>
            </a:r>
            <a:r>
              <a:rPr b="1" lang="es-ES_tradnl" sz="2400" spc="-1" strike="noStrike">
                <a:solidFill>
                  <a:srgbClr val="000066"/>
                </a:solidFill>
                <a:latin typeface="Symbol"/>
                <a:ea typeface="Symbol"/>
              </a:rPr>
              <a:t>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G</a:t>
            </a:r>
            <a:r>
              <a:rPr b="1" lang="es-ES_tradnl" sz="2400" spc="-1" strike="noStrike">
                <a:solidFill>
                  <a:srgbClr val="000066"/>
                </a:solidFill>
                <a:latin typeface="Symbol"/>
                <a:ea typeface="Symbol"/>
              </a:rPr>
              <a:t>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0066"/>
                </a:solidFill>
                <a:latin typeface="Symbol"/>
                <a:ea typeface="Symbol"/>
              </a:rPr>
              <a:t>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1,5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   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=0,55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     si </a:t>
            </a:r>
            <a:r>
              <a:rPr b="1" lang="es-ES_tradnl" sz="2400" spc="-1" strike="noStrike">
                <a:solidFill>
                  <a:srgbClr val="000066"/>
                </a:solidFill>
                <a:latin typeface="Symbol"/>
                <a:ea typeface="Symbol"/>
              </a:rPr>
              <a:t>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G</a:t>
            </a:r>
            <a:r>
              <a:rPr b="1" lang="es-ES_tradnl" sz="2400" spc="-1" strike="noStrike">
                <a:solidFill>
                  <a:srgbClr val="000066"/>
                </a:solidFill>
                <a:latin typeface="Symbol"/>
                <a:ea typeface="Symbol"/>
              </a:rPr>
              <a:t>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 &gt;1,5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438280" y="1905120"/>
            <a:ext cx="762120" cy="6094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238880" y="3352680"/>
            <a:ext cx="19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Verdana"/>
              </a:rPr>
              <a:t>Coeficiente de asimetría regional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7009920" y="2514240"/>
            <a:ext cx="685800" cy="762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685800" y="3429000"/>
          <a:ext cx="3581280" cy="789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3429000"/>
                    <a:ext cx="3581280" cy="7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7" name=""/>
          <p:cNvGraphicFramePr/>
          <p:nvPr/>
        </p:nvGraphicFramePr>
        <p:xfrm>
          <a:off x="6172200" y="2971800"/>
          <a:ext cx="2743200" cy="934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72200" y="2971800"/>
                    <a:ext cx="274320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"/>
          <p:cNvSpPr/>
          <p:nvPr/>
        </p:nvSpPr>
        <p:spPr>
          <a:xfrm>
            <a:off x="3657600" y="4114800"/>
            <a:ext cx="1981080" cy="5101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G</a:t>
            </a:r>
            <a:r>
              <a:rPr b="1" lang="es-ES_tradnl" sz="2400" spc="-1" strike="noStrike" baseline="-25000">
                <a:solidFill>
                  <a:srgbClr val="000066"/>
                </a:solidFill>
                <a:latin typeface="Verdana"/>
              </a:rPr>
              <a:t>w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=0,268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057400" y="3276720"/>
            <a:ext cx="3657600" cy="510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Para y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=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log</a:t>
            </a:r>
            <a:r>
              <a:rPr b="1" lang="es-ES_tradnl" sz="2400" spc="-1" strike="noStrike" baseline="-25000">
                <a:solidFill>
                  <a:srgbClr val="000066"/>
                </a:solidFill>
                <a:latin typeface="Verdana"/>
              </a:rPr>
              <a:t>10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Qm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1066680" y="1295280"/>
          <a:ext cx="5410440" cy="15433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66680" y="1295280"/>
                    <a:ext cx="5410440" cy="15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>
            <a:off x="762120" y="51055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Para T=100 año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419720" y="5029200"/>
            <a:ext cx="2361960" cy="510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K</a:t>
            </a:r>
            <a:r>
              <a:rPr b="1" lang="es-ES_tradnl" sz="2400" spc="-1" strike="noStrike" baseline="-25000">
                <a:solidFill>
                  <a:srgbClr val="000066"/>
                </a:solidFill>
                <a:latin typeface="Verdana"/>
              </a:rPr>
              <a:t>T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= 2,52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638680"/>
            <a:ext cx="3962160" cy="5101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Q</a:t>
            </a:r>
            <a:r>
              <a:rPr b="1" lang="es-ES_tradnl" sz="2400" spc="-1" strike="noStrike" baseline="-25000">
                <a:solidFill>
                  <a:srgbClr val="000066"/>
                </a:solidFill>
                <a:latin typeface="Verdana"/>
              </a:rPr>
              <a:t>100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=615,7 m</a:t>
            </a:r>
            <a:r>
              <a:rPr b="1" lang="es-ES_tradnl" sz="2400" spc="-1" strike="noStrike" baseline="30000">
                <a:solidFill>
                  <a:srgbClr val="000066"/>
                </a:solidFill>
                <a:latin typeface="Verdana"/>
              </a:rPr>
              <a:t>3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/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17160" y="333000"/>
            <a:ext cx="863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cc00"/>
                </a:solidFill>
                <a:latin typeface="Arial"/>
              </a:rPr>
              <a:t>Ejemplo: Qmi Mapocho en Los Almendro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762120" y="601560"/>
            <a:ext cx="8001000" cy="613908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2c2c42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Motivació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8680" y="1066680"/>
            <a:ext cx="820872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Función de densidad de probabilida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Agrega mucha información estadística proveniente de la muestr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Forma concisa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Permite efectuar </a:t>
            </a:r>
            <a:r>
              <a:rPr b="0" i="1" lang="es-CL" sz="2800" spc="-1" strike="noStrike">
                <a:solidFill>
                  <a:srgbClr val="ffffcc"/>
                </a:solidFill>
                <a:latin typeface="Arial"/>
              </a:rPr>
              <a:t>inferencias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 acerca de eventos asociados a </a:t>
            </a:r>
            <a:r>
              <a:rPr b="0" i="1" lang="es-CL" sz="2800" spc="-1" strike="noStrike">
                <a:solidFill>
                  <a:srgbClr val="ffffcc"/>
                </a:solidFill>
                <a:latin typeface="Arial"/>
              </a:rPr>
              <a:t>períodos de retorno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 no observado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17160" y="-154800"/>
            <a:ext cx="86374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cc00"/>
                </a:solidFill>
                <a:latin typeface="Arial"/>
              </a:rPr>
              <a:t>Distribución de Valor Extremo Tipo I (EVI; Gumbel)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1905120" y="1271520"/>
          <a:ext cx="4343400" cy="352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5120" y="1271520"/>
                    <a:ext cx="4343400" cy="35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Dist. EVI (cont.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28680" y="1066680"/>
            <a:ext cx="820872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Cómo se usa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914400" y="1752480"/>
                <a:ext cx="2057400" cy="132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809880" y="1828800"/>
                <a:ext cx="270540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p>
                          <m:e>
                            <m:r>
                              <m:t xml:space="preserve">−</m:t>
                            </m:r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y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5410080" y="3048120"/>
                <a:ext cx="3505320" cy="22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6" name=""/>
          <p:cNvSpPr/>
          <p:nvPr/>
        </p:nvSpPr>
        <p:spPr>
          <a:xfrm>
            <a:off x="3200400" y="220968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7010280" y="2209680"/>
            <a:ext cx="685800" cy="609840"/>
          </a:xfrm>
          <a:custGeom>
            <a:avLst/>
            <a:gdLst>
              <a:gd name="textAreaLeft" fmla="*/ 228600 w 685800"/>
              <a:gd name="textAreaRight" fmla="*/ 587520 w 685800"/>
              <a:gd name="textAreaTop" fmla="*/ 351720 h 609840"/>
              <a:gd name="textAreaBottom" fmla="*/ 52272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219320" y="3200400"/>
            <a:ext cx="2971800" cy="2743200"/>
          </a:xfrm>
          <a:prstGeom prst="irregularSeal1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Times New Roman"/>
              </a:rPr>
              <a:t>recordar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Times New Roman"/>
              </a:rPr>
              <a:t>1/T = 1-F(x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86200" y="4572000"/>
            <a:ext cx="1447920" cy="152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543800" y="5791320"/>
            <a:ext cx="990720" cy="380880"/>
          </a:xfrm>
          <a:prstGeom prst="rightArrow">
            <a:avLst>
              <a:gd name="adj1" fmla="val 50000"/>
              <a:gd name="adj2" fmla="val 65028"/>
            </a:avLst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Dist. EVI (cont.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2819520" y="1295280"/>
          <a:ext cx="2571480" cy="768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1295280"/>
                    <a:ext cx="2571480" cy="7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"/>
          <p:cNvSpPr/>
          <p:nvPr/>
        </p:nvSpPr>
        <p:spPr>
          <a:xfrm>
            <a:off x="488520" y="2209680"/>
            <a:ext cx="293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eemplazando valore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1143000" y="2590920"/>
          <a:ext cx="6629400" cy="200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143000" y="2590920"/>
                    <a:ext cx="6629400" cy="200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"/>
          <p:cNvSpPr/>
          <p:nvPr/>
        </p:nvSpPr>
        <p:spPr>
          <a:xfrm>
            <a:off x="3581280" y="4952880"/>
            <a:ext cx="266724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T*=2,33 añ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523880" y="4952880"/>
            <a:ext cx="1295640" cy="5101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K</a:t>
            </a:r>
            <a:r>
              <a:rPr b="1" lang="es-ES_tradnl" sz="2400" spc="-1" strike="noStrike" baseline="-25000">
                <a:solidFill>
                  <a:srgbClr val="000066"/>
                </a:solidFill>
                <a:latin typeface="Verdana"/>
              </a:rPr>
              <a:t>T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=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990720" y="5715000"/>
            <a:ext cx="7162560" cy="459720"/>
            <a:chOff x="990720" y="5715000"/>
            <a:chExt cx="7162560" cy="459720"/>
          </a:xfrm>
        </p:grpSpPr>
        <p:sp>
          <p:nvSpPr>
            <p:cNvPr id="240" name=""/>
            <p:cNvSpPr/>
            <p:nvPr/>
          </p:nvSpPr>
          <p:spPr>
            <a:xfrm>
              <a:off x="990720" y="5715000"/>
              <a:ext cx="7162560" cy="459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66"/>
                  </a:solidFill>
                  <a:latin typeface="Verdana"/>
                </a:rPr>
                <a:t>T* es periodo de retorno de la media x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467480" y="5791320"/>
              <a:ext cx="22824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610200" y="49528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ota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895480" y="510552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istribuci</a:t>
            </a: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ón Extrema Tipo II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28680" y="1066680"/>
            <a:ext cx="820872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Se asume que los logaritmos de x siguen distribución EV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Se opera igual que con EVI y luego se realiza transformación invers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Conclusió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28680" y="1066680"/>
            <a:ext cx="820872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Distribuciones para variables continua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Uniform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Normal, Lognorma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Gamm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Pearson III, Log-Pearson III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Dist. Valores Extremos I y II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Cuál usar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? TODAS y elegir la que mejor se AJUSTE a los dat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09480" y="5486400"/>
            <a:ext cx="1371600" cy="609480"/>
          </a:xfrm>
          <a:prstGeom prst="rightArrow">
            <a:avLst>
              <a:gd name="adj1" fmla="val 50000"/>
              <a:gd name="adj2" fmla="val 56261"/>
            </a:avLst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057400" y="5334120"/>
            <a:ext cx="7064280" cy="947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r</a:t>
            </a:r>
            <a:r>
              <a:rPr b="0" lang="es-CL" sz="2800" spc="-1" strike="noStrike">
                <a:solidFill>
                  <a:srgbClr val="333399"/>
                </a:solidFill>
                <a:latin typeface="Arial"/>
              </a:rPr>
              <a:t>óxima clase: ajuste a distribuciones de probabilida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Distribución uniform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752480" y="1600200"/>
          <a:ext cx="4876920" cy="1527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1600200"/>
                    <a:ext cx="4876920" cy="15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2847960" y="3352680"/>
          <a:ext cx="1968480" cy="1879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847960" y="3352680"/>
                    <a:ext cx="1968480" cy="18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Distribución Normal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8680" y="4533480"/>
            <a:ext cx="820872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variable normalizada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711360" y="1112760"/>
          <a:ext cx="7672320" cy="3230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1360" y="1112760"/>
                    <a:ext cx="7672320" cy="32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1004760" y="5280120"/>
          <a:ext cx="7048800" cy="1120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4760" y="5280120"/>
                    <a:ext cx="7048800" cy="112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Distribución Log-normal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8680" y="1066680"/>
            <a:ext cx="820872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transformación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var. normalizada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886200" y="1143000"/>
          <a:ext cx="1811160" cy="527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86200" y="1143000"/>
                    <a:ext cx="181116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1481040" y="1952640"/>
          <a:ext cx="6491520" cy="2362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81040" y="1952640"/>
                    <a:ext cx="64915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4114800" y="4878360"/>
          <a:ext cx="1930320" cy="13255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114800" y="4878360"/>
                    <a:ext cx="1930320" cy="13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7160" y="333000"/>
            <a:ext cx="863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cc00"/>
                </a:solidFill>
                <a:latin typeface="Arial"/>
              </a:rPr>
              <a:t>Relación momentos dist. normal  - lognorma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666880" y="1682640"/>
                <a:ext cx="3886200" cy="377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e>
                      <m:e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sup>
                        </m:s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7160" y="-154800"/>
            <a:ext cx="86374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cc00"/>
                </a:solidFill>
                <a:latin typeface="Arial"/>
              </a:rPr>
              <a:t>Ejemplo aplicación: Mapocho en los Almendros período pluvia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Q máximos instantáne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2362320" y="1828800"/>
          <a:ext cx="3886200" cy="835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1828800"/>
                    <a:ext cx="388620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7211880" y="0"/>
          <a:ext cx="1932120" cy="63244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211880" y="0"/>
                    <a:ext cx="193212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6477120" y="2057400"/>
            <a:ext cx="533160" cy="304920"/>
          </a:xfrm>
          <a:prstGeom prst="leftArrow">
            <a:avLst>
              <a:gd name="adj1" fmla="val 50000"/>
              <a:gd name="adj2" fmla="val 43713"/>
            </a:avLst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438280" y="3200400"/>
            <a:ext cx="3429000" cy="17474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Si fdp es normal cual es el caudal asociado a T=50 años?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Si fdp es lognormal?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17160" y="-154800"/>
            <a:ext cx="86374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cc00"/>
                </a:solidFill>
                <a:latin typeface="Arial"/>
              </a:rPr>
              <a:t>Ejemplo aplicación: Mapocho en los Almendros (cont.)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Método del FACTOR DE FRECUENCI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En fdp normal y lognormal, </a:t>
            </a:r>
            <a:r>
              <a:rPr b="0" i="1" lang="es-ES_tradnl" sz="3200" spc="-1" strike="noStrike">
                <a:solidFill>
                  <a:srgbClr val="ffffcc"/>
                </a:solidFill>
                <a:latin typeface="Arial"/>
              </a:rPr>
              <a:t>K</a:t>
            </a:r>
            <a:r>
              <a:rPr b="0" i="1" lang="es-ES_tradnl" sz="3200" spc="-1" strike="noStrike" baseline="-25000">
                <a:solidFill>
                  <a:srgbClr val="ffffcc"/>
                </a:solidFill>
                <a:latin typeface="Arial"/>
              </a:rPr>
              <a:t>T</a:t>
            </a: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 corresponde a la variable estandarizada </a:t>
            </a:r>
            <a:r>
              <a:rPr b="0" i="1" lang="es-ES_tradnl" sz="3200" spc="-1" strike="noStrike">
                <a:solidFill>
                  <a:srgbClr val="ffffcc"/>
                </a:solidFill>
                <a:latin typeface="Arial"/>
              </a:rPr>
              <a:t>z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914400" y="2819520"/>
                <a:ext cx="3549600" cy="89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4" name=""/>
          <p:cNvGrpSpPr/>
          <p:nvPr/>
        </p:nvGrpSpPr>
        <p:grpSpPr>
          <a:xfrm>
            <a:off x="5334120" y="1905120"/>
            <a:ext cx="3276360" cy="2898000"/>
            <a:chOff x="5334120" y="1905120"/>
            <a:chExt cx="3276360" cy="2898000"/>
          </a:xfrm>
        </p:grpSpPr>
        <p:sp>
          <p:nvSpPr>
            <p:cNvPr id="125" name=""/>
            <p:cNvSpPr/>
            <p:nvPr/>
          </p:nvSpPr>
          <p:spPr>
            <a:xfrm flipV="1">
              <a:off x="5943600" y="1905120"/>
              <a:ext cx="0" cy="274320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943600" y="4114800"/>
              <a:ext cx="24382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924680" y="43434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9933"/>
                  </a:solidFill>
                  <a:latin typeface="Verdana"/>
                </a:rPr>
                <a:t>K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334120" y="1981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9933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95880" y="3733920"/>
              <a:ext cx="76320" cy="7596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400800" y="3581280"/>
              <a:ext cx="76320" cy="7632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705720" y="3429000"/>
              <a:ext cx="75960" cy="7632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934320" y="3276720"/>
              <a:ext cx="75960" cy="7596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086600" y="3124080"/>
              <a:ext cx="76320" cy="7632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238880" y="2971800"/>
              <a:ext cx="76320" cy="7632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467480" y="2971800"/>
              <a:ext cx="76320" cy="7632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696080" y="2743200"/>
              <a:ext cx="76320" cy="7632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5867280" y="2742840"/>
              <a:ext cx="1981440" cy="1219320"/>
            </a:xfrm>
            <a:prstGeom prst="line">
              <a:avLst/>
            </a:prstGeom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7696080" y="2362320"/>
              <a:ext cx="762120" cy="457200"/>
            </a:xfrm>
            <a:prstGeom prst="line">
              <a:avLst/>
            </a:prstGeom>
            <a:ln w="9360">
              <a:solidFill>
                <a:srgbClr val="ff99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 flipH="1">
            <a:off x="3657600" y="1828800"/>
            <a:ext cx="838080" cy="990720"/>
          </a:xfrm>
          <a:prstGeom prst="line">
            <a:avLst/>
          </a:prstGeom>
          <a:ln w="414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17160" y="333000"/>
            <a:ext cx="863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cc00"/>
                </a:solidFill>
                <a:latin typeface="Arial"/>
              </a:rPr>
              <a:t>Aproximación distribución acumulativa norma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28600" y="1066680"/>
          <a:ext cx="3886200" cy="2408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066680"/>
                    <a:ext cx="3886200" cy="24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3" name=""/>
          <p:cNvGrpSpPr/>
          <p:nvPr/>
        </p:nvGrpSpPr>
        <p:grpSpPr>
          <a:xfrm>
            <a:off x="5943600" y="1752480"/>
            <a:ext cx="2971800" cy="2209680"/>
            <a:chOff x="5943600" y="1752480"/>
            <a:chExt cx="2971800" cy="2209680"/>
          </a:xfrm>
        </p:grpSpPr>
        <p:sp>
          <p:nvSpPr>
            <p:cNvPr id="144" name=""/>
            <p:cNvSpPr/>
            <p:nvPr/>
          </p:nvSpPr>
          <p:spPr>
            <a:xfrm>
              <a:off x="5943600" y="1752480"/>
              <a:ext cx="2819520" cy="2209680"/>
            </a:xfrm>
            <a:prstGeom prst="rect">
              <a:avLst/>
            </a:prstGeom>
            <a:solidFill>
              <a:srgbClr val="6633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45" name=""/>
            <p:cNvGrpSpPr/>
            <p:nvPr/>
          </p:nvGrpSpPr>
          <p:grpSpPr>
            <a:xfrm>
              <a:off x="6019920" y="2057400"/>
              <a:ext cx="2895480" cy="1792800"/>
              <a:chOff x="6019920" y="2057400"/>
              <a:chExt cx="2895480" cy="1792800"/>
            </a:xfrm>
          </p:grpSpPr>
          <p:sp>
            <p:nvSpPr>
              <p:cNvPr id="146" name=""/>
              <p:cNvSpPr/>
              <p:nvPr/>
            </p:nvSpPr>
            <p:spPr>
              <a:xfrm>
                <a:off x="6405840" y="2412720"/>
                <a:ext cx="1698840" cy="792360"/>
              </a:xfrm>
              <a:custGeom>
                <a:avLst/>
                <a:gdLst/>
                <a:ahLst/>
                <a:rect l="l" t="t" r="r" b="b"/>
                <a:pathLst>
                  <a:path w="2112" h="856">
                    <a:moveTo>
                      <a:pt x="0" y="816"/>
                    </a:moveTo>
                    <a:cubicBezTo>
                      <a:pt x="120" y="836"/>
                      <a:pt x="240" y="856"/>
                      <a:pt x="336" y="816"/>
                    </a:cubicBezTo>
                    <a:cubicBezTo>
                      <a:pt x="432" y="776"/>
                      <a:pt x="512" y="656"/>
                      <a:pt x="576" y="576"/>
                    </a:cubicBezTo>
                    <a:cubicBezTo>
                      <a:pt x="640" y="496"/>
                      <a:pt x="640" y="432"/>
                      <a:pt x="720" y="336"/>
                    </a:cubicBezTo>
                    <a:cubicBezTo>
                      <a:pt x="800" y="240"/>
                      <a:pt x="936" y="0"/>
                      <a:pt x="1056" y="0"/>
                    </a:cubicBezTo>
                    <a:cubicBezTo>
                      <a:pt x="1176" y="0"/>
                      <a:pt x="1328" y="216"/>
                      <a:pt x="1440" y="336"/>
                    </a:cubicBezTo>
                    <a:cubicBezTo>
                      <a:pt x="1552" y="456"/>
                      <a:pt x="1616" y="640"/>
                      <a:pt x="1728" y="720"/>
                    </a:cubicBezTo>
                    <a:cubicBezTo>
                      <a:pt x="1840" y="800"/>
                      <a:pt x="1976" y="808"/>
                      <a:pt x="2112" y="816"/>
                    </a:cubicBezTo>
                  </a:path>
                </a:pathLst>
              </a:custGeom>
              <a:noFill/>
              <a:ln w="9360">
                <a:solidFill>
                  <a:srgbClr val="66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255080" y="2057400"/>
                <a:ext cx="0" cy="1199880"/>
              </a:xfrm>
              <a:prstGeom prst="line">
                <a:avLst/>
              </a:prstGeom>
              <a:ln w="93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212880" y="3257280"/>
                <a:ext cx="2277720" cy="0"/>
              </a:xfrm>
              <a:prstGeom prst="line">
                <a:avLst/>
              </a:prstGeom>
              <a:ln w="93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389640" y="2405520"/>
                <a:ext cx="922320" cy="849960"/>
              </a:xfrm>
              <a:custGeom>
                <a:avLst/>
                <a:gdLst/>
                <a:ahLst/>
                <a:rect l="l" t="t" r="r" b="b"/>
                <a:pathLst>
                  <a:path w="1147" h="918">
                    <a:moveTo>
                      <a:pt x="20" y="824"/>
                    </a:moveTo>
                    <a:cubicBezTo>
                      <a:pt x="140" y="844"/>
                      <a:pt x="260" y="864"/>
                      <a:pt x="356" y="824"/>
                    </a:cubicBezTo>
                    <a:cubicBezTo>
                      <a:pt x="452" y="784"/>
                      <a:pt x="532" y="664"/>
                      <a:pt x="596" y="584"/>
                    </a:cubicBezTo>
                    <a:cubicBezTo>
                      <a:pt x="660" y="504"/>
                      <a:pt x="691" y="423"/>
                      <a:pt x="740" y="344"/>
                    </a:cubicBezTo>
                    <a:cubicBezTo>
                      <a:pt x="789" y="265"/>
                      <a:pt x="848" y="158"/>
                      <a:pt x="890" y="108"/>
                    </a:cubicBezTo>
                    <a:cubicBezTo>
                      <a:pt x="932" y="58"/>
                      <a:pt x="960" y="62"/>
                      <a:pt x="995" y="46"/>
                    </a:cubicBezTo>
                    <a:cubicBezTo>
                      <a:pt x="1030" y="30"/>
                      <a:pt x="1084" y="0"/>
                      <a:pt x="1100" y="14"/>
                    </a:cubicBezTo>
                    <a:cubicBezTo>
                      <a:pt x="1116" y="28"/>
                      <a:pt x="1091" y="40"/>
                      <a:pt x="1089" y="129"/>
                    </a:cubicBezTo>
                    <a:cubicBezTo>
                      <a:pt x="1087" y="218"/>
                      <a:pt x="1089" y="447"/>
                      <a:pt x="1089" y="548"/>
                    </a:cubicBezTo>
                    <a:cubicBezTo>
                      <a:pt x="1089" y="649"/>
                      <a:pt x="1091" y="692"/>
                      <a:pt x="1089" y="737"/>
                    </a:cubicBezTo>
                    <a:cubicBezTo>
                      <a:pt x="1087" y="782"/>
                      <a:pt x="1079" y="795"/>
                      <a:pt x="1079" y="821"/>
                    </a:cubicBezTo>
                    <a:cubicBezTo>
                      <a:pt x="1079" y="847"/>
                      <a:pt x="1147" y="878"/>
                      <a:pt x="1089" y="894"/>
                    </a:cubicBezTo>
                    <a:cubicBezTo>
                      <a:pt x="1031" y="910"/>
                      <a:pt x="914" y="912"/>
                      <a:pt x="733" y="915"/>
                    </a:cubicBezTo>
                    <a:cubicBezTo>
                      <a:pt x="552" y="918"/>
                      <a:pt x="122" y="915"/>
                      <a:pt x="0" y="915"/>
                    </a:cubicBezTo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ff99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019920" y="2412720"/>
                <a:ext cx="7711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9933"/>
                    </a:solidFill>
                    <a:latin typeface="Verdana"/>
                  </a:rPr>
                  <a:t>A=0,5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521400" y="2679480"/>
                <a:ext cx="501840" cy="399960"/>
              </a:xfrm>
              <a:prstGeom prst="line">
                <a:avLst/>
              </a:prstGeom>
              <a:ln w="38160">
                <a:solidFill>
                  <a:srgbClr val="6666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413560" y="3390480"/>
                <a:ext cx="501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9933"/>
                    </a:solidFill>
                    <a:latin typeface="Verdana"/>
                  </a:rPr>
                  <a:t>x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53" name=""/>
          <p:cNvGraphicFramePr/>
          <p:nvPr/>
        </p:nvGraphicFramePr>
        <p:xfrm>
          <a:off x="1905120" y="3657600"/>
          <a:ext cx="3276360" cy="1092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05120" y="3657600"/>
                    <a:ext cx="3276360" cy="10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 rot="5436600">
            <a:off x="647280" y="3771720"/>
            <a:ext cx="838440" cy="457200"/>
          </a:xfrm>
          <a:custGeom>
            <a:avLst/>
            <a:gdLst>
              <a:gd name="textAreaLeft" fmla="*/ 279360 w 838440"/>
              <a:gd name="textAreaRight" fmla="*/ 718200 w 838440"/>
              <a:gd name="textAreaTop" fmla="*/ 263520 h 457200"/>
              <a:gd name="textAreaBottom" fmla="*/ 391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9480" y="4876920"/>
            <a:ext cx="7925040" cy="116928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3300"/>
                </a:solidFill>
                <a:latin typeface="Tahoma"/>
              </a:rPr>
              <a:t>B=½ (1+0,196854|z|+0,115194 |z|</a:t>
            </a:r>
            <a:r>
              <a:rPr b="1" lang="es-ES_tradnl" sz="2800" spc="-1" strike="noStrike" baseline="30000">
                <a:solidFill>
                  <a:srgbClr val="663300"/>
                </a:solidFill>
                <a:latin typeface="Tahoma"/>
              </a:rPr>
              <a:t>2</a:t>
            </a:r>
            <a:r>
              <a:rPr b="1" lang="es-ES_tradnl" sz="2800" spc="-1" strike="noStrike">
                <a:solidFill>
                  <a:srgbClr val="663300"/>
                </a:solidFill>
                <a:latin typeface="Tahoma"/>
              </a:rPr>
              <a:t>+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3300"/>
                </a:solidFill>
                <a:latin typeface="Tahoma"/>
              </a:rPr>
              <a:t>            </a:t>
            </a:r>
            <a:r>
              <a:rPr b="1" lang="es-ES_tradnl" sz="2800" spc="-1" strike="noStrike">
                <a:solidFill>
                  <a:srgbClr val="663300"/>
                </a:solidFill>
                <a:latin typeface="Tahoma"/>
              </a:rPr>
              <a:t>0,000344 |z|</a:t>
            </a:r>
            <a:r>
              <a:rPr b="1" lang="es-ES_tradnl" sz="2800" spc="-1" strike="noStrike" baseline="30000">
                <a:solidFill>
                  <a:srgbClr val="663300"/>
                </a:solidFill>
                <a:latin typeface="Tahoma"/>
              </a:rPr>
              <a:t>3</a:t>
            </a:r>
            <a:r>
              <a:rPr b="1" lang="es-ES_tradnl" sz="2800" spc="-1" strike="noStrike">
                <a:solidFill>
                  <a:srgbClr val="663300"/>
                </a:solidFill>
                <a:latin typeface="Tahoma"/>
              </a:rPr>
              <a:t>+0,019527 |z|</a:t>
            </a:r>
            <a:r>
              <a:rPr b="1" lang="es-ES_tradnl" sz="2800" spc="-1" strike="noStrike" baseline="30000">
                <a:solidFill>
                  <a:srgbClr val="663300"/>
                </a:solidFill>
                <a:latin typeface="Tahoma"/>
              </a:rPr>
              <a:t>4</a:t>
            </a:r>
            <a:r>
              <a:rPr b="1" lang="es-ES_tradnl" sz="2800" spc="-1" strike="noStrike">
                <a:solidFill>
                  <a:srgbClr val="663300"/>
                </a:solidFill>
                <a:latin typeface="Tahoma"/>
              </a:rPr>
              <a:t>) </a:t>
            </a:r>
            <a:r>
              <a:rPr b="1" lang="es-ES_tradnl" sz="2800" spc="-1" strike="noStrike" baseline="30000">
                <a:solidFill>
                  <a:srgbClr val="663300"/>
                </a:solidFill>
                <a:latin typeface="Tahoma"/>
              </a:rPr>
              <a:t>-4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29000" y="6172200"/>
            <a:ext cx="266688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00"/>
                </a:solidFill>
                <a:latin typeface="Tahoma"/>
              </a:rPr>
              <a:t>Error&lt;0,00025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9T18:53:17Z</dcterms:created>
  <dc:creator>nnnn</dc:creator>
  <dc:description/>
  <dc:language>en-US</dc:language>
  <cp:lastModifiedBy>nnnn</cp:lastModifiedBy>
  <dcterms:modified xsi:type="dcterms:W3CDTF">2004-10-08T15:12:18Z</dcterms:modified>
  <cp:revision>99</cp:revision>
  <dc:subject/>
  <dc:title>PowerPoint Presentation</dc:title>
</cp:coreProperties>
</file>