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image9.wmf" ContentType="image/x-wmf"/>
  <Override PartName="/ppt/media/image34.wmf" ContentType="image/x-wmf"/>
  <Override PartName="/ppt/media/image2.png" ContentType="image/png"/>
  <Override PartName="/ppt/media/image10.wmf" ContentType="image/x-wmf"/>
  <Override PartName="/ppt/media/image30.wmf" ContentType="image/x-wmf"/>
  <Override PartName="/ppt/media/image31.wmf" ContentType="image/x-wmf"/>
  <Override PartName="/ppt/media/image6.wmf" ContentType="image/x-wmf"/>
  <Override PartName="/ppt/media/image32.wmf" ContentType="image/x-wmf"/>
  <Override PartName="/ppt/media/image7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ECE-05CA-438F-BC5A-4ECC6228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F17-CC44-4C7F-A39C-644FC658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956-F2E8-4891-A28A-38C5E31C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34E-7C85-4E8D-82E9-D66B8065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5A95-AA74-4F93-9B2C-5C650821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40F2-9697-4DB9-A9FC-20794B15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F3E9-3FD9-491D-AF89-EAED8D6F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D4DB-84F6-4F5E-8F72-1FD6DB76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5820-5442-486C-B7AF-D7989DBB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75E8-B8B6-42B7-B8D2-2AB63F5E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2B59-A03B-46D2-98EA-ACA2437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17A-78C6-4DC5-932B-6D0ED1A4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3205-E101-4E94-B4A6-AE2FD0B6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5D38-2809-4582-AE9B-A94012D9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7A21-3F59-4F03-95B3-D958F402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4BA4-8374-44B4-BDB1-58B0563A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ECD7-47A6-4A72-ADCA-DD6BDE58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F7C-EFE7-45F9-A467-4635B3AD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016-D37F-43C9-AA44-7678B1AD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21F-6D74-4E64-928B-083E01FB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B11-B7E4-4AB3-A80C-EE67B48A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95A-9CA2-4C77-8A75-58FFEDC0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4DC-40F1-4565-A5F1-9031742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3B2-3BA1-43FB-8714-C3D63150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914400"/>
            <a:ext cx="9148680" cy="5409720"/>
            <a:chOff x="-7920" y="914400"/>
            <a:chExt cx="9148680" cy="540972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237000"/>
              <a:ext cx="3143160" cy="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914400"/>
              <a:ext cx="4495680" cy="11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0926-47F3-48C3-9587-8D8987B443D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0D60-6630-46C3-AA14-3E45B29007A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tulo 7.  Hidrología Estadística y Probabilíst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delos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babilísticos para variables continu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82296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3059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28600" y="457200"/>
            <a:ext cx="8499600" cy="6172200"/>
            <a:chOff x="228600" y="457200"/>
            <a:chExt cx="8499600" cy="617220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84996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343400" y="6095880"/>
              <a:ext cx="304920" cy="32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6095880"/>
              <a:ext cx="484200" cy="3859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33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6095880"/>
              <a:ext cx="457200" cy="3859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86600" y="6095880"/>
              <a:ext cx="468360" cy="3859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33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6095880"/>
              <a:ext cx="555480" cy="381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33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Gamm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33720" y="1066680"/>
          <a:ext cx="4438440" cy="228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066680"/>
                    <a:ext cx="443844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85800" y="3505320"/>
          <a:ext cx="6858000" cy="10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3505320"/>
                    <a:ext cx="6858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480" y="4724280"/>
                <a:ext cx="2438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09480" y="5867280"/>
            <a:ext cx="426744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Symbol"/>
                <a:ea typeface="Symbol"/>
              </a:rPr>
              <a:t></a:t>
            </a:r>
            <a:r>
              <a:rPr b="0" lang="es-ES_tradnl" sz="2400" spc="-1" strike="noStrike">
                <a:solidFill>
                  <a:srgbClr val="663300"/>
                </a:solidFill>
                <a:latin typeface="Tahoma"/>
              </a:rPr>
              <a:t>(k)=(k-1)!       Si k ent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5105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33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4800600"/>
            <a:ext cx="48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obtiene de tablas o aproximaciones numér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Pearson II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quivalente a Gamma de 3 parámet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1066680"/>
          <a:ext cx="6969240" cy="113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066680"/>
                    <a:ext cx="696924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914400" y="2774880"/>
          <a:ext cx="6824520" cy="340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74880"/>
                    <a:ext cx="68245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Log-Pearson II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295280"/>
            <a:ext cx="2133720" cy="51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y=log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0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135240" y="914400"/>
          <a:ext cx="5692680" cy="11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5240" y="914400"/>
                    <a:ext cx="569268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590920" y="15238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8280" y="243828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n la práctica, factor de frecuenci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3124080"/>
          <a:ext cx="6748200" cy="19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674820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514600" y="4038480"/>
            <a:ext cx="3048120" cy="12956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334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 de variable normal estandariz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58920" y="5181480"/>
          <a:ext cx="2676240" cy="136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8920" y="5181480"/>
                    <a:ext cx="26762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334120" y="2362320"/>
          <a:ext cx="2439720" cy="56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4120" y="2362320"/>
                    <a:ext cx="243972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. Log-Pearson III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ara n&lt;100 usar información de estaciones vecinas (coef. asimetría generalizad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124080" y="1981080"/>
                <a:ext cx="405792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sub>
                        </m:sSub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685800" y="4343400"/>
            <a:ext cx="6095880" cy="10159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2c2c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 =-0,33+0,08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  si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0,9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-0,52+0,30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  si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&gt;0,9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5486400"/>
            <a:ext cx="6019560" cy="101592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07932" dir="13500000" blurRad="0" rotWithShape="0">
              <a:srgbClr val="2c2c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 =0,94-0,26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  si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,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0,55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  si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&gt;1,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1905120"/>
            <a:ext cx="7621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3352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Verdana"/>
              </a:rPr>
              <a:t>Coeficiente de asimetría regio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009920" y="2514240"/>
            <a:ext cx="68580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5800" y="3429000"/>
          <a:ext cx="3581280" cy="7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429000"/>
                    <a:ext cx="35812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172200" y="2971800"/>
          <a:ext cx="2743200" cy="93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971800"/>
                    <a:ext cx="27432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657600" y="4114800"/>
            <a:ext cx="1981080" cy="510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w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0,26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3276720"/>
            <a:ext cx="3657600" cy="51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ara y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=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log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0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Qm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066680" y="1295280"/>
          <a:ext cx="5410440" cy="1543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295280"/>
                    <a:ext cx="541044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762120" y="5105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ara T=100 añ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5029200"/>
            <a:ext cx="2361960" cy="51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 2,52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638680"/>
            <a:ext cx="3962160" cy="510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615,7 m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33300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jemplo: Qmi Mapocho en Los Almendro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62120" y="601560"/>
            <a:ext cx="8001000" cy="61390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2c2c42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unción de densidad de proba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grega mucha información estadística proveniente de la muest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Forma concis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ermite efectuar 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inferencias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acerca de eventos asociados a 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eríodos de retorno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no observad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7160" y="-15480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Distribución de Valor Extremo Tipo I (EVI; Gumbel)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905120" y="1271520"/>
          <a:ext cx="4343400" cy="35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271520"/>
                    <a:ext cx="43434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. EVI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ómo se us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14400" y="1752480"/>
                <a:ext cx="205740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809880" y="1828800"/>
                <a:ext cx="27054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410080" y="3048120"/>
                <a:ext cx="3505320" cy="22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200400" y="2209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010280" y="2209680"/>
            <a:ext cx="685800" cy="609840"/>
          </a:xfrm>
          <a:custGeom>
            <a:avLst/>
            <a:gdLst>
              <a:gd name="textAreaLeft" fmla="*/ 228600 w 685800"/>
              <a:gd name="textAreaRight" fmla="*/ 587520 w 685800"/>
              <a:gd name="textAreaTop" fmla="*/ 3517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3200400"/>
            <a:ext cx="2971800" cy="2743200"/>
          </a:xfrm>
          <a:prstGeom prst="irregularSeal1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Times New Roman"/>
              </a:rPr>
              <a:t>recorda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Times New Roman"/>
              </a:rPr>
              <a:t>1/T = 1-F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4572000"/>
            <a:ext cx="1447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43800" y="579132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. EVI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819520" y="1295280"/>
          <a:ext cx="2571480" cy="7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295280"/>
                    <a:ext cx="25714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488520" y="220968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emplazando valor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143000" y="2590920"/>
          <a:ext cx="6629400" cy="200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2590920"/>
                    <a:ext cx="662940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581280" y="4952880"/>
            <a:ext cx="2667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*=2,33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4952880"/>
            <a:ext cx="1295640" cy="510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90720" y="5715000"/>
            <a:ext cx="7162560" cy="459720"/>
            <a:chOff x="990720" y="5715000"/>
            <a:chExt cx="7162560" cy="459720"/>
          </a:xfrm>
        </p:grpSpPr>
        <p:sp>
          <p:nvSpPr>
            <p:cNvPr id="240" name=""/>
            <p:cNvSpPr/>
            <p:nvPr/>
          </p:nvSpPr>
          <p:spPr>
            <a:xfrm>
              <a:off x="990720" y="5715000"/>
              <a:ext cx="7162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T* es periodo de retorno de la media 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67480" y="5791320"/>
              <a:ext cx="228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10200" y="49528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5105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stribu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Extrema Tipo I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 asume que los logaritmos de x siguen distribución EV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 opera igual que con EVI y luego se realiza transformación invers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istribuciones para variables continu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Unifor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ormal, Lognorm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am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earson III, Log-Pearson II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t. Valores Extremos I y I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ál usa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? TODAS y elegir la que mejor se AJUSTE a los da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54864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5334120"/>
            <a:ext cx="706428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</a:t>
            </a:r>
            <a:r>
              <a:rPr b="0" lang="es-CL" sz="2800" spc="-1" strike="noStrike">
                <a:solidFill>
                  <a:srgbClr val="333399"/>
                </a:solidFill>
                <a:latin typeface="Arial"/>
              </a:rPr>
              <a:t>óxima clase: ajuste a distribuciones de probabil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uniform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52480" y="1600200"/>
          <a:ext cx="4876920" cy="15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00200"/>
                    <a:ext cx="487692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847960" y="3352680"/>
          <a:ext cx="1968480" cy="18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7960" y="3352680"/>
                    <a:ext cx="19684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Norm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4533480"/>
            <a:ext cx="82087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able normalizad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11360" y="1112760"/>
          <a:ext cx="7672320" cy="323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360" y="1112760"/>
                    <a:ext cx="767232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04760" y="5280120"/>
          <a:ext cx="7048800" cy="112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4760" y="5280120"/>
                    <a:ext cx="70488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Log-norm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formació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. normalizad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86200" y="1143000"/>
          <a:ext cx="181116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143000"/>
                    <a:ext cx="18111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481040" y="1952640"/>
          <a:ext cx="649152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81040" y="1952640"/>
                    <a:ext cx="6491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14800" y="4878360"/>
          <a:ext cx="1930320" cy="132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4878360"/>
                    <a:ext cx="193032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33300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Relación momentos dist. normal  - lognorma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666880" y="1682640"/>
                <a:ext cx="3886200" cy="377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-15480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jemplo aplicación: Mapocho en los Almendros período pluvia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Q máximos instantáne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362320" y="1828800"/>
          <a:ext cx="3886200" cy="83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828800"/>
                    <a:ext cx="38862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211880" y="0"/>
          <a:ext cx="1932120" cy="6324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11880" y="0"/>
                    <a:ext cx="19321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477120" y="2057400"/>
            <a:ext cx="533160" cy="304920"/>
          </a:xfrm>
          <a:prstGeom prst="leftArrow">
            <a:avLst>
              <a:gd name="adj1" fmla="val 50000"/>
              <a:gd name="adj2" fmla="val 43713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200400"/>
            <a:ext cx="3429000" cy="1747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i fdp es normal cual es el caudal asociado a T=50 años?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i fdp es lognormal?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-15480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jemplo aplicación: Mapocho en los Almendros (cont.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étodo del FACTOR DE FRECU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fdp normal y lognormal, </a:t>
            </a:r>
            <a:r>
              <a:rPr b="0" i="1" lang="es-ES_tradnl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i="1" lang="es-ES_tradnl" sz="3200" spc="-1" strike="noStrike" baseline="-25000">
                <a:solidFill>
                  <a:srgbClr val="ffffcc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corresponde a la variable estandarizada </a:t>
            </a:r>
            <a:r>
              <a:rPr b="0" i="1" lang="es-ES_tradnl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14400" y="2819520"/>
                <a:ext cx="35496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" name=""/>
          <p:cNvGrpSpPr/>
          <p:nvPr/>
        </p:nvGrpSpPr>
        <p:grpSpPr>
          <a:xfrm>
            <a:off x="5334120" y="1905120"/>
            <a:ext cx="3276360" cy="2898000"/>
            <a:chOff x="5334120" y="1905120"/>
            <a:chExt cx="3276360" cy="2898000"/>
          </a:xfrm>
        </p:grpSpPr>
        <p:sp>
          <p:nvSpPr>
            <p:cNvPr id="125" name=""/>
            <p:cNvSpPr/>
            <p:nvPr/>
          </p:nvSpPr>
          <p:spPr>
            <a:xfrm flipV="1">
              <a:off x="5943600" y="1905120"/>
              <a:ext cx="0" cy="2743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43600" y="4114800"/>
              <a:ext cx="24382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2468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9933"/>
                  </a:solidFill>
                  <a:latin typeface="Verdana"/>
                </a:rPr>
                <a:t>K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412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9933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5880" y="3733920"/>
              <a:ext cx="76320" cy="759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0800" y="3581280"/>
              <a:ext cx="7632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05720" y="3429000"/>
              <a:ext cx="7596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3276720"/>
              <a:ext cx="75960" cy="759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86600" y="3124080"/>
              <a:ext cx="7632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8880" y="2971800"/>
              <a:ext cx="7632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67480" y="2971800"/>
              <a:ext cx="7632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96080" y="2743200"/>
              <a:ext cx="7632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280" y="2742840"/>
              <a:ext cx="1981440" cy="1219320"/>
            </a:xfrm>
            <a:prstGeom prst="line">
              <a:avLst/>
            </a:prstGeom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696080" y="2362320"/>
              <a:ext cx="762120" cy="457200"/>
            </a:xfrm>
            <a:prstGeom prst="line">
              <a:avLst/>
            </a:prstGeom>
            <a:ln w="9360">
              <a:solidFill>
                <a:srgbClr val="ff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3657600" y="1828800"/>
            <a:ext cx="838080" cy="9907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33300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Aproximación distribución acumulativa norma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8600" y="1066680"/>
          <a:ext cx="3886200" cy="24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066680"/>
                    <a:ext cx="388620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5943600" y="1752480"/>
            <a:ext cx="2971800" cy="2209680"/>
            <a:chOff x="5943600" y="1752480"/>
            <a:chExt cx="2971800" cy="2209680"/>
          </a:xfrm>
        </p:grpSpPr>
        <p:sp>
          <p:nvSpPr>
            <p:cNvPr id="144" name=""/>
            <p:cNvSpPr/>
            <p:nvPr/>
          </p:nvSpPr>
          <p:spPr>
            <a:xfrm>
              <a:off x="5943600" y="1752480"/>
              <a:ext cx="2819520" cy="2209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019920" y="2057400"/>
              <a:ext cx="2895480" cy="1792800"/>
              <a:chOff x="6019920" y="2057400"/>
              <a:chExt cx="2895480" cy="1792800"/>
            </a:xfrm>
          </p:grpSpPr>
          <p:sp>
            <p:nvSpPr>
              <p:cNvPr id="146" name=""/>
              <p:cNvSpPr/>
              <p:nvPr/>
            </p:nvSpPr>
            <p:spPr>
              <a:xfrm>
                <a:off x="6405840" y="2412720"/>
                <a:ext cx="1698840" cy="792360"/>
              </a:xfrm>
              <a:custGeom>
                <a:avLst/>
                <a:gdLst/>
                <a:ahLst/>
                <a:rect l="l" t="t" r="r" b="b"/>
                <a:pathLst>
                  <a:path w="2112" h="856">
                    <a:moveTo>
                      <a:pt x="0" y="816"/>
                    </a:moveTo>
                    <a:cubicBezTo>
                      <a:pt x="120" y="836"/>
                      <a:pt x="240" y="856"/>
                      <a:pt x="336" y="816"/>
                    </a:cubicBezTo>
                    <a:cubicBezTo>
                      <a:pt x="432" y="776"/>
                      <a:pt x="512" y="656"/>
                      <a:pt x="576" y="576"/>
                    </a:cubicBezTo>
                    <a:cubicBezTo>
                      <a:pt x="640" y="496"/>
                      <a:pt x="640" y="432"/>
                      <a:pt x="720" y="336"/>
                    </a:cubicBezTo>
                    <a:cubicBezTo>
                      <a:pt x="800" y="240"/>
                      <a:pt x="936" y="0"/>
                      <a:pt x="1056" y="0"/>
                    </a:cubicBezTo>
                    <a:cubicBezTo>
                      <a:pt x="1176" y="0"/>
                      <a:pt x="1328" y="216"/>
                      <a:pt x="1440" y="336"/>
                    </a:cubicBezTo>
                    <a:cubicBezTo>
                      <a:pt x="1552" y="456"/>
                      <a:pt x="1616" y="640"/>
                      <a:pt x="1728" y="720"/>
                    </a:cubicBezTo>
                    <a:cubicBezTo>
                      <a:pt x="1840" y="800"/>
                      <a:pt x="1976" y="808"/>
                      <a:pt x="2112" y="816"/>
                    </a:cubicBezTo>
                  </a:path>
                </a:pathLst>
              </a:custGeom>
              <a:noFill/>
              <a:ln w="9360">
                <a:solidFill>
                  <a:srgbClr val="66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55080" y="2057400"/>
                <a:ext cx="0" cy="1199880"/>
              </a:xfrm>
              <a:prstGeom prst="line">
                <a:avLst/>
              </a:prstGeom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12880" y="3257280"/>
                <a:ext cx="2277720" cy="0"/>
              </a:xfrm>
              <a:prstGeom prst="line">
                <a:avLst/>
              </a:prstGeom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89640" y="2405520"/>
                <a:ext cx="922320" cy="849960"/>
              </a:xfrm>
              <a:custGeom>
                <a:avLst/>
                <a:gdLst/>
                <a:ahLst/>
                <a:rect l="l" t="t" r="r" b="b"/>
                <a:pathLst>
                  <a:path w="1147" h="918">
                    <a:moveTo>
                      <a:pt x="20" y="824"/>
                    </a:moveTo>
                    <a:cubicBezTo>
                      <a:pt x="140" y="844"/>
                      <a:pt x="260" y="864"/>
                      <a:pt x="356" y="824"/>
                    </a:cubicBezTo>
                    <a:cubicBezTo>
                      <a:pt x="452" y="784"/>
                      <a:pt x="532" y="664"/>
                      <a:pt x="596" y="584"/>
                    </a:cubicBezTo>
                    <a:cubicBezTo>
                      <a:pt x="660" y="504"/>
                      <a:pt x="691" y="423"/>
                      <a:pt x="740" y="344"/>
                    </a:cubicBezTo>
                    <a:cubicBezTo>
                      <a:pt x="789" y="265"/>
                      <a:pt x="848" y="158"/>
                      <a:pt x="890" y="108"/>
                    </a:cubicBezTo>
                    <a:cubicBezTo>
                      <a:pt x="932" y="58"/>
                      <a:pt x="960" y="62"/>
                      <a:pt x="995" y="46"/>
                    </a:cubicBezTo>
                    <a:cubicBezTo>
                      <a:pt x="1030" y="30"/>
                      <a:pt x="1084" y="0"/>
                      <a:pt x="1100" y="14"/>
                    </a:cubicBezTo>
                    <a:cubicBezTo>
                      <a:pt x="1116" y="28"/>
                      <a:pt x="1091" y="40"/>
                      <a:pt x="1089" y="129"/>
                    </a:cubicBezTo>
                    <a:cubicBezTo>
                      <a:pt x="1087" y="218"/>
                      <a:pt x="1089" y="447"/>
                      <a:pt x="1089" y="548"/>
                    </a:cubicBezTo>
                    <a:cubicBezTo>
                      <a:pt x="1089" y="649"/>
                      <a:pt x="1091" y="692"/>
                      <a:pt x="1089" y="737"/>
                    </a:cubicBezTo>
                    <a:cubicBezTo>
                      <a:pt x="1087" y="782"/>
                      <a:pt x="1079" y="795"/>
                      <a:pt x="1079" y="821"/>
                    </a:cubicBezTo>
                    <a:cubicBezTo>
                      <a:pt x="1079" y="847"/>
                      <a:pt x="1147" y="878"/>
                      <a:pt x="1089" y="894"/>
                    </a:cubicBezTo>
                    <a:cubicBezTo>
                      <a:pt x="1031" y="910"/>
                      <a:pt x="914" y="912"/>
                      <a:pt x="733" y="915"/>
                    </a:cubicBezTo>
                    <a:cubicBezTo>
                      <a:pt x="552" y="918"/>
                      <a:pt x="122" y="915"/>
                      <a:pt x="0" y="915"/>
                    </a:cubicBezTo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19920" y="2412720"/>
                <a:ext cx="77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A=0,5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521400" y="2679480"/>
                <a:ext cx="501840" cy="399960"/>
              </a:xfrm>
              <a:prstGeom prst="line">
                <a:avLst/>
              </a:prstGeom>
              <a:ln w="3816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13560" y="339048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53" name=""/>
          <p:cNvGraphicFramePr/>
          <p:nvPr/>
        </p:nvGraphicFramePr>
        <p:xfrm>
          <a:off x="1905120" y="3657600"/>
          <a:ext cx="32763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3657600"/>
                    <a:ext cx="32763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rot="5436600">
            <a:off x="647280" y="3771720"/>
            <a:ext cx="838440" cy="457200"/>
          </a:xfrm>
          <a:custGeom>
            <a:avLst/>
            <a:gdLst>
              <a:gd name="textAreaLeft" fmla="*/ 279360 w 838440"/>
              <a:gd name="textAreaRight" fmla="*/ 718200 w 83844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876920"/>
            <a:ext cx="7925040" cy="1169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B=½ (1+0,196854|z|+0,115194 |z|</a:t>
            </a:r>
            <a:r>
              <a:rPr b="1" lang="es-ES_tradnl" sz="28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0,000344 |z|</a:t>
            </a:r>
            <a:r>
              <a:rPr b="1" lang="es-ES_tradnl" sz="2800" spc="-1" strike="noStrike" baseline="30000">
                <a:solidFill>
                  <a:srgbClr val="663300"/>
                </a:solidFill>
                <a:latin typeface="Tahoma"/>
              </a:rPr>
              <a:t>3</a:t>
            </a: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+0,019527 |z|</a:t>
            </a:r>
            <a:r>
              <a:rPr b="1" lang="es-ES_tradnl" sz="2800" spc="-1" strike="noStrike" baseline="30000">
                <a:solidFill>
                  <a:srgbClr val="663300"/>
                </a:solidFill>
                <a:latin typeface="Tahoma"/>
              </a:rPr>
              <a:t>4</a:t>
            </a: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) </a:t>
            </a:r>
            <a:r>
              <a:rPr b="1" lang="es-ES_tradnl" sz="2800" spc="-1" strike="noStrike" baseline="30000">
                <a:solidFill>
                  <a:srgbClr val="6633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6172200"/>
            <a:ext cx="2666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ahoma"/>
              </a:rPr>
              <a:t>Error&lt;0,0002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08T15:12:18Z</dcterms:modified>
  <cp:revision>99</cp:revision>
  <dc:subject/>
  <dc:title>PowerPoint Presentation</dc:title>
</cp:coreProperties>
</file>