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068-86D2-4424-A342-8C24F362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A35-23DB-4D90-AA2D-020262D2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F1F-48FE-4B6F-8FE8-2FD80C8D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3ED-E987-4FC8-892E-8B607F3E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DCF-8B57-43E6-A50D-04473D36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F7E-B280-4541-A73B-44EE93F1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D9E-48F1-4112-854A-4A6FB89E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E08-A268-4AE6-B560-15DE56C7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AA3-333D-420B-9974-A8D0897F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DC2-8D0D-4D66-AC0D-72CF1A3E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D5D-310A-4AE3-ACCE-062A034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890-4843-4AD9-9B4B-7C603C0B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74FD-B511-4578-B15F-0A3B537F2E5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80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33"/>
                </a:solidFill>
                <a:latin typeface="Verdana"/>
              </a:rPr>
              <a:t>Modelos Probabilísticos discretos mas usados en Hidr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057400"/>
            <a:ext cx="4495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Ensayo Tipo Bernou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971800"/>
            <a:ext cx="6324480" cy="825480"/>
          </a:xfrm>
          <a:prstGeom prst="rect">
            <a:avLst/>
          </a:prstGeom>
          <a:solidFill>
            <a:srgbClr val="340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Probabilidad de que  en un año cualquiera ocurra Q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Q* e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49568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e un año a otro crecidas son independientes por lo tanto si se define variable aleatoria discreta X=1 si ocurre Q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Q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X=0 en cualquier otro 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685800"/>
            <a:ext cx="5257800" cy="157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p</a:t>
            </a:r>
            <a:r>
              <a:rPr b="0" lang="es-ES_tradnl" sz="2400" spc="-1" strike="noStrike" baseline="-25000">
                <a:solidFill>
                  <a:srgbClr val="cc00cc"/>
                </a:solidFill>
                <a:latin typeface="Verdana"/>
              </a:rPr>
              <a:t>1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=1-P(no hay fall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=1-</a:t>
            </a:r>
            <a:r>
              <a:rPr b="0" lang="es-ES_tradnl" sz="2400" spc="-1" strike="noStrike">
                <a:solidFill>
                  <a:srgbClr val="cc00cc"/>
                </a:solidFill>
                <a:latin typeface="Symbol"/>
                <a:ea typeface="Symbol"/>
              </a:rPr>
              <a:t>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50</a:t>
            </a:r>
            <a:r>
              <a:rPr b="0" lang="es-ES_tradnl" sz="2400" spc="-1" strike="noStrike">
                <a:solidFill>
                  <a:srgbClr val="cc00cc"/>
                </a:solidFill>
                <a:latin typeface="Symbol"/>
                <a:ea typeface="Symbol"/>
              </a:rPr>
              <a:t>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0,005</a:t>
            </a:r>
            <a:r>
              <a:rPr b="0" lang="es-ES_tradnl" sz="2400" spc="-1" strike="noStrike" baseline="30000">
                <a:solidFill>
                  <a:srgbClr val="cc00cc"/>
                </a:solidFill>
                <a:latin typeface="Verdana"/>
              </a:rPr>
              <a:t>0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(1-0,005)</a:t>
            </a:r>
            <a:r>
              <a:rPr b="0" lang="es-ES_tradnl" sz="2400" spc="-1" strike="noStrike" baseline="30000">
                <a:solidFill>
                  <a:srgbClr val="cc00cc"/>
                </a:solidFill>
                <a:latin typeface="Verdan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          </a:t>
            </a: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cc"/>
                </a:solidFill>
                <a:latin typeface="Symbol"/>
                <a:ea typeface="Symbol"/>
              </a:rPr>
              <a:t>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0</a:t>
            </a:r>
            <a:r>
              <a:rPr b="0" lang="es-ES_tradnl" sz="2400" spc="-1" strike="noStrike">
                <a:solidFill>
                  <a:srgbClr val="cc00cc"/>
                </a:solidFill>
                <a:latin typeface="Symbol"/>
                <a:ea typeface="Symbol"/>
              </a:rPr>
              <a:t>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=0,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590920"/>
            <a:ext cx="5943600" cy="213336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K=k)=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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0,22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0,222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15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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5486400"/>
            <a:ext cx="5715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P[K=0] = 0,023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 P[K=1] = 0,099 P[K=2] = 0,198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05120" y="380880"/>
            <a:ext cx="373356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3009c"/>
                </a:solidFill>
                <a:latin typeface="Verdana"/>
              </a:rPr>
              <a:t>Proceso de Mar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89520" y="14400"/>
          <a:ext cx="2009880" cy="68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9520" y="14400"/>
                    <a:ext cx="2009880" cy="68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46958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80880" y="533520"/>
            <a:ext cx="8562600" cy="5486040"/>
            <a:chOff x="380880" y="533520"/>
            <a:chExt cx="8562600" cy="5486040"/>
          </a:xfrm>
        </p:grpSpPr>
        <p:graphicFrame>
          <p:nvGraphicFramePr>
            <p:cNvPr id="100" name=""/>
            <p:cNvGraphicFramePr/>
            <p:nvPr/>
          </p:nvGraphicFramePr>
          <p:xfrm>
            <a:off x="392760" y="545040"/>
            <a:ext cx="4089240" cy="2598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2760" y="545040"/>
                      <a:ext cx="4089240" cy="259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4842000" y="533520"/>
            <a:ext cx="4101480" cy="2610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42000" y="533520"/>
                      <a:ext cx="4101480" cy="26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80880" y="3409560"/>
            <a:ext cx="4101480" cy="261000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3409560"/>
                      <a:ext cx="4101480" cy="26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4842000" y="3409560"/>
            <a:ext cx="4101480" cy="26100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42000" y="3409560"/>
                      <a:ext cx="4101480" cy="26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80880" y="1565280"/>
          <a:ext cx="7086600" cy="27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65280"/>
                    <a:ext cx="708660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447920" y="457200"/>
            <a:ext cx="6553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Verdana"/>
              </a:rPr>
              <a:t>Probabilidades de Tran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14400" y="4616280"/>
                <a:ext cx="34020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y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,1,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2" name=""/>
          <p:cNvGraphicFramePr/>
          <p:nvPr/>
        </p:nvGraphicFramePr>
        <p:xfrm>
          <a:off x="5283360" y="4576680"/>
          <a:ext cx="330192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3360" y="4576680"/>
                    <a:ext cx="33019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278000" y="996840"/>
          <a:ext cx="7424640" cy="26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996840"/>
                    <a:ext cx="742464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618000" y="304920"/>
          <a:ext cx="193176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0" y="304920"/>
                    <a:ext cx="193176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81080" y="990720"/>
            <a:ext cx="6324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P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(x) = p  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si x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= 1-p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si x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048120"/>
            <a:ext cx="4952880" cy="111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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E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1*p + 0*(1-p) </a:t>
            </a: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=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 baseline="30000">
                <a:solidFill>
                  <a:srgbClr val="ff9933"/>
                </a:solidFill>
                <a:latin typeface="Verdana"/>
              </a:rPr>
              <a:t>2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E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(x-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)</a:t>
            </a:r>
            <a:r>
              <a:rPr b="0" lang="es-ES_tradnl" sz="2400" spc="-1" strike="noStrike" baseline="30000">
                <a:solidFill>
                  <a:srgbClr val="ff9933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(1-p)*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800600"/>
            <a:ext cx="784836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Cuál es la probabilidad de que esa crecida ocurra 4 veces en los próximos 5 añ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9" name=""/>
            <p:cNvSpPr/>
            <p:nvPr/>
          </p:nvSpPr>
          <p:spPr>
            <a:xfrm>
              <a:off x="0" y="609480"/>
              <a:ext cx="9144000" cy="165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Año 1  2  3  4  5    1  2  3  4  5   1  2  3  4  5</a:t>
              </a: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  1  2  3  4  5    1   2  3  4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X     1  1  1  1  0    1  1  1  0  1   1  1  0  1  1</a:t>
              </a: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  1  0  1  1  1</a:t>
              </a: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 0   1  1  1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P</a:t>
              </a:r>
              <a:r>
                <a:rPr b="1" lang="es-ES_tradnl" sz="1600" spc="-1" strike="noStrike" baseline="-25000">
                  <a:solidFill>
                    <a:srgbClr val="ff9933"/>
                  </a:solidFill>
                  <a:latin typeface="Verdana"/>
                </a:rPr>
                <a:t>x</a:t>
              </a: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(x)p</a:t>
              </a: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	</a:t>
              </a: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p   p  p(1-p) p  p   p(1-p)p  p   p(1-p)p p   p(1-p)  p   p   (1-p)p p   p 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	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p</a:t>
              </a:r>
              <a:r>
                <a:rPr b="1" lang="es-ES_tradnl" sz="2000" spc="-1" strike="noStrike" baseline="30000">
                  <a:solidFill>
                    <a:srgbClr val="ff9933"/>
                  </a:solidFill>
                  <a:latin typeface="Verdana"/>
                </a:rPr>
                <a:t>4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(1-p)       </a:t>
              </a: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	</a:t>
              </a: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 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p</a:t>
              </a:r>
              <a:r>
                <a:rPr b="1" lang="es-ES_tradnl" sz="2000" spc="-1" strike="noStrike" baseline="30000">
                  <a:solidFill>
                    <a:srgbClr val="ff9933"/>
                  </a:solidFill>
                  <a:latin typeface="Verdana"/>
                </a:rPr>
                <a:t>4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(1-p)     p</a:t>
              </a:r>
              <a:r>
                <a:rPr b="1" lang="es-ES_tradnl" sz="2000" spc="-1" strike="noStrike" baseline="30000">
                  <a:solidFill>
                    <a:srgbClr val="ff9933"/>
                  </a:solidFill>
                  <a:latin typeface="Verdana"/>
                </a:rPr>
                <a:t>4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(1-p)       p</a:t>
              </a:r>
              <a:r>
                <a:rPr b="1" lang="es-ES_tradnl" sz="2000" spc="-1" strike="noStrike" baseline="30000">
                  <a:solidFill>
                    <a:srgbClr val="ff9933"/>
                  </a:solidFill>
                  <a:latin typeface="Verdana"/>
                </a:rPr>
                <a:t>4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(1-p)       p</a:t>
              </a:r>
              <a:r>
                <a:rPr b="1" lang="es-ES_tradnl" sz="2000" spc="-1" strike="noStrike" baseline="30000">
                  <a:solidFill>
                    <a:srgbClr val="ff9933"/>
                  </a:solidFill>
                  <a:latin typeface="Verdana"/>
                </a:rPr>
                <a:t>4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(1-p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62320" y="609480"/>
              <a:ext cx="0" cy="1600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8480" y="609480"/>
              <a:ext cx="0" cy="1600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15000" y="609480"/>
              <a:ext cx="0" cy="1600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15200" y="685800"/>
              <a:ext cx="0" cy="1600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447920" y="2971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P(4 crecidas en 5 años) = 5p</a:t>
            </a:r>
            <a:r>
              <a:rPr b="1" lang="es-ES_tradnl" sz="2400" spc="-1" strike="noStrike" baseline="30000">
                <a:solidFill>
                  <a:srgbClr val="ff9933"/>
                </a:solidFill>
                <a:latin typeface="Verdana"/>
              </a:rPr>
              <a:t>4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(1-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4267080"/>
            <a:ext cx="670536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istribución Binomial B(n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276720"/>
            <a:ext cx="304560" cy="1295280"/>
          </a:xfrm>
          <a:custGeom>
            <a:avLst/>
            <a:gdLst>
              <a:gd name="textAreaLeft" fmla="*/ 40680 w 304560"/>
              <a:gd name="textAreaRight" fmla="*/ 263880 w 30456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876920"/>
            <a:ext cx="3581640" cy="19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x)=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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p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n-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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867280" y="5410080"/>
            <a:ext cx="3276720" cy="1143000"/>
            <a:chOff x="5867280" y="5410080"/>
            <a:chExt cx="3276720" cy="1143000"/>
          </a:xfrm>
        </p:grpSpPr>
        <p:grpSp>
          <p:nvGrpSpPr>
            <p:cNvPr id="59" name=""/>
            <p:cNvGrpSpPr/>
            <p:nvPr/>
          </p:nvGrpSpPr>
          <p:grpSpPr>
            <a:xfrm>
              <a:off x="5867280" y="5410080"/>
              <a:ext cx="3276720" cy="1143000"/>
              <a:chOff x="5867280" y="5410080"/>
              <a:chExt cx="3276720" cy="1143000"/>
            </a:xfrm>
          </p:grpSpPr>
          <p:sp>
            <p:nvSpPr>
              <p:cNvPr id="60" name=""/>
              <p:cNvSpPr/>
              <p:nvPr/>
            </p:nvSpPr>
            <p:spPr>
              <a:xfrm>
                <a:off x="5867280" y="5410080"/>
                <a:ext cx="3276720" cy="1143000"/>
              </a:xfrm>
              <a:prstGeom prst="cloudCallout">
                <a:avLst>
                  <a:gd name="adj1" fmla="val -44333"/>
                  <a:gd name="adj2" fmla="val 70000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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Verdana"/>
                  </a:rPr>
                  <a:t>n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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Verdana"/>
                  </a:rPr>
                  <a:t>        n!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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Verdana"/>
                  </a:rPr>
                  <a:t>x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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Verdana"/>
                  </a:rPr>
                  <a:t>    x!(n-x)!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086600" y="59436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781680" y="5715000"/>
                <a:ext cx="381240" cy="459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6400800" y="5867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43000" y="7621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1219320"/>
            <a:ext cx="4572000" cy="111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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E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 baseline="30000">
                <a:solidFill>
                  <a:srgbClr val="ff9933"/>
                </a:solidFill>
                <a:latin typeface="Verdana"/>
              </a:rPr>
              <a:t>2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E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(x-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)</a:t>
            </a:r>
            <a:r>
              <a:rPr b="0" lang="es-ES_tradnl" sz="2400" spc="-1" strike="noStrike" baseline="30000">
                <a:solidFill>
                  <a:srgbClr val="ff9933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np(1-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2819520"/>
            <a:ext cx="7239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Si P excedencia de Q* en un año es 0,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429000"/>
            <a:ext cx="990720" cy="1143000"/>
          </a:xfrm>
          <a:prstGeom prst="downArrow">
            <a:avLst>
              <a:gd name="adj1" fmla="val 50000"/>
              <a:gd name="adj2" fmla="val 2884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648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En promedio, en 50 años ocurre 1 vez, con una varianza de 0,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867280"/>
            <a:ext cx="792468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Cuantos años pasarán antes que el caudal Q* se iguale o exc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838080"/>
            <a:ext cx="58676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crecida en año n)= (1-p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n-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133720"/>
            <a:ext cx="7619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Cuál es la probabilidad de que la próxima crecida ocurra en n años o men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Cuál es la probabilidad de que ocurra al menos 1 crecida en los próximos n añ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00400" y="4844880"/>
                <a:ext cx="3809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762120" y="59436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=1/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6095880"/>
            <a:ext cx="266724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30000">
                <a:solidFill>
                  <a:srgbClr val="ff9933"/>
                </a:solidFill>
                <a:latin typeface="Verdana"/>
              </a:rPr>
              <a:t>2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N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(1-p)/p</a:t>
            </a:r>
            <a:r>
              <a:rPr b="0" lang="es-ES_tradnl" sz="2400" spc="-1" strike="noStrike" baseline="30000">
                <a:solidFill>
                  <a:srgbClr val="ff9933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1051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istribución Geo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685800"/>
            <a:ext cx="78645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Cuál es la probabilidad de que en 50 años ocurra </a:t>
            </a:r>
            <a:r>
              <a:rPr b="1" i="1" lang="es-ES_tradnl" sz="2400" spc="-1" strike="noStrike">
                <a:solidFill>
                  <a:srgbClr val="ff9933"/>
                </a:solidFill>
                <a:latin typeface="Verdana"/>
              </a:rPr>
              <a:t>exactamente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1 crecida mayor o igual que la de T =50 añ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259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T =5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251460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2666880"/>
            <a:ext cx="198108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=0,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3352680"/>
            <a:ext cx="5105160" cy="2057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x)=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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0,0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0,02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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0,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685800"/>
            <a:ext cx="78645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Cuál es la probabilidad de que en 50 años ocurran </a:t>
            </a:r>
            <a:r>
              <a:rPr b="1" i="1" lang="es-ES_tradnl" sz="2400" spc="-1" strike="noStrike">
                <a:solidFill>
                  <a:srgbClr val="ff9933"/>
                </a:solidFill>
                <a:latin typeface="Verdana"/>
              </a:rPr>
              <a:t>exactamente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3 crecidas mayores o iguales que la de T =50 añ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352680"/>
            <a:ext cx="5105160" cy="2057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x)=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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0,0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0,02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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0,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2209680"/>
            <a:ext cx="243864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85800"/>
            <a:ext cx="75438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Cuál es la probabilidad de que en 50 años ocurran </a:t>
            </a:r>
            <a:r>
              <a:rPr b="1" i="1" lang="es-ES_tradnl" sz="2400" spc="-1" strike="noStrike">
                <a:solidFill>
                  <a:srgbClr val="ff9933"/>
                </a:solidFill>
                <a:latin typeface="Verdana"/>
              </a:rPr>
              <a:t>1 o mas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crecidas que excedan o igualen la de T =50 añ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352680"/>
            <a:ext cx="5943600" cy="2057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x)=1-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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0,0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0,02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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0,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209680"/>
            <a:ext cx="243864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685800"/>
            <a:ext cx="815364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Se han dispuesto 15 sistemas independientes para el control de crecidas, usando T=200 años. Cuál será la distribución del número de sistemas que fallan debido a la ocurrencia de la crecida de T=200 años, </a:t>
            </a:r>
            <a:r>
              <a:rPr b="1" lang="es-ES_tradnl" sz="2400" spc="-1" strike="noStrike">
                <a:solidFill>
                  <a:srgbClr val="cc00cc"/>
                </a:solidFill>
                <a:latin typeface="Verdana"/>
              </a:rPr>
              <a:t>al menos 1 vez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después de 50 años de la construc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352680"/>
            <a:ext cx="5943600" cy="2057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K=k)=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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15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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4495680"/>
            <a:ext cx="76212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4843440"/>
            <a:ext cx="358128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33"/>
                </a:solidFill>
                <a:latin typeface="Verdana"/>
              </a:rPr>
              <a:t>Probabilidad de que cualquiera de los sistemas falle al </a:t>
            </a:r>
            <a:r>
              <a:rPr b="1" lang="es-ES_tradnl" sz="1800" spc="-1" strike="noStrike">
                <a:solidFill>
                  <a:srgbClr val="cc00cc"/>
                </a:solidFill>
                <a:latin typeface="Verdana"/>
              </a:rPr>
              <a:t>menos 1 vez</a:t>
            </a:r>
            <a:r>
              <a:rPr b="1" lang="es-ES_tradnl" sz="1800" spc="-1" strike="noStrike">
                <a:solidFill>
                  <a:srgbClr val="ff9933"/>
                </a:solidFill>
                <a:latin typeface="Verdana"/>
              </a:rPr>
              <a:t> en los 50 años cuando en cualquier año la probabilidad de falla es p=1/T = 1/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00:31:00Z</dcterms:created>
  <dc:creator>Guillermo Osses</dc:creator>
  <dc:description/>
  <dc:language>en-US</dc:language>
  <cp:lastModifiedBy>nnnn</cp:lastModifiedBy>
  <dcterms:modified xsi:type="dcterms:W3CDTF">2004-10-07T16:44:32Z</dcterms:modified>
  <cp:revision>13</cp:revision>
  <dc:subject/>
  <dc:title>Presentación de PowerPoint</dc:title>
</cp:coreProperties>
</file>