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8DA-EEF5-4DB6-96F8-DE1E57DA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0A1-94DA-4B66-9A91-2BC25BA5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79B-6909-41E9-8B42-937542C9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989-CEC0-482C-836F-8AA2414B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348A-059E-4ED9-9599-81F9DB46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1735-C119-4FB4-AF06-3AB22CEB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4690-789A-453D-A2E6-4D643697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5F57-EC3C-4145-848D-4369CAFB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9725-B680-4042-847C-13751F0F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25AF-9D17-4238-BC5E-068C251D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13D5-3E2B-4A87-840B-E99A6606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518-52E5-489C-8C2B-50FB5147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6DB6-09D9-4646-A892-5B8A958C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8CB8-3814-4C8C-8269-29BC9B4E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C6BC-338A-4779-9989-B7CD70FB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8C71-FA5B-4290-9D4C-F9829DD4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CA4F-0EFF-4FF8-8DBE-AB45EB72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A08-F58E-44E7-BC41-82BB49F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B26-D44F-4490-947D-9353DF1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D48-920D-4F97-B9DC-2ECB19B3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799-D05A-4257-911A-510584C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B1C-1870-4443-8DEC-47CCB53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0AF-9473-4B6A-AFF8-34F4D20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283-3AA8-48AD-9BC9-6454B046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4ECF-7AEB-41EA-9FD6-ECECA6D828F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9521-A0FB-4C5A-8BBD-8B7A758AD67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52280" y="914400"/>
            <a:ext cx="8839080" cy="5486040"/>
            <a:chOff x="152280" y="914400"/>
            <a:chExt cx="8839080" cy="5486040"/>
          </a:xfrm>
        </p:grpSpPr>
        <p:pic>
          <p:nvPicPr>
            <p:cNvPr id="89" name="Macul1" descr=""/>
            <p:cNvPicPr/>
            <p:nvPr/>
          </p:nvPicPr>
          <p:blipFill>
            <a:blip r:embed="rId2"/>
            <a:stretch/>
          </p:blipFill>
          <p:spPr>
            <a:xfrm>
              <a:off x="152280" y="914400"/>
              <a:ext cx="8839080" cy="5486040"/>
            </a:xfrm>
            <a:prstGeom prst="rect">
              <a:avLst/>
            </a:prstGeom>
            <a:ln w="9360">
              <a:solidFill>
                <a:srgbClr val="6666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</p:pic>
        <p:sp>
          <p:nvSpPr>
            <p:cNvPr id="90" name=""/>
            <p:cNvSpPr/>
            <p:nvPr/>
          </p:nvSpPr>
          <p:spPr>
            <a:xfrm>
              <a:off x="152280" y="4397760"/>
              <a:ext cx="8115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ítulo 7.  Hidrología Estadística y Probabilíst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4960" y="971640"/>
            <a:ext cx="7534080" cy="4914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5120" y="53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MUEST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609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POBL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172200"/>
            <a:ext cx="2971800" cy="30492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352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 FRECUENCIA RELATIV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8672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99"/>
                </a:solidFill>
                <a:latin typeface="Verdana"/>
              </a:rPr>
              <a:t>FUNCIÓN DE FRECUENCIA ACUMULAD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594360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ISTRIBUCION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3382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NSIDAD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paso probabilidad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 condic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prob. to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Bay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r. alea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rametros estad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3807000" cy="992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966960" y="3048120"/>
            <a:ext cx="5224320" cy="3136680"/>
            <a:chOff x="966960" y="3048120"/>
            <a:chExt cx="5224320" cy="3136680"/>
          </a:xfrm>
        </p:grpSpPr>
        <p:grpSp>
          <p:nvGrpSpPr>
            <p:cNvPr id="95" name=""/>
            <p:cNvGrpSpPr/>
            <p:nvPr/>
          </p:nvGrpSpPr>
          <p:grpSpPr>
            <a:xfrm>
              <a:off x="3048120" y="4952880"/>
              <a:ext cx="914400" cy="76320"/>
              <a:chOff x="3048120" y="4952880"/>
              <a:chExt cx="914400" cy="76320"/>
            </a:xfrm>
          </p:grpSpPr>
          <p:sp>
            <p:nvSpPr>
              <p:cNvPr id="96" name=""/>
              <p:cNvSpPr/>
              <p:nvPr/>
            </p:nvSpPr>
            <p:spPr>
              <a:xfrm>
                <a:off x="3048120" y="4952880"/>
                <a:ext cx="9144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429000" y="5029200"/>
                <a:ext cx="2286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966960" y="3048120"/>
              <a:ext cx="5224320" cy="3136680"/>
              <a:chOff x="966960" y="3048120"/>
              <a:chExt cx="5224320" cy="3136680"/>
            </a:xfrm>
          </p:grpSpPr>
          <p:sp>
            <p:nvSpPr>
              <p:cNvPr id="99" name=""/>
              <p:cNvSpPr/>
              <p:nvPr/>
            </p:nvSpPr>
            <p:spPr>
              <a:xfrm>
                <a:off x="966960" y="3170160"/>
                <a:ext cx="5224320" cy="3014640"/>
              </a:xfrm>
              <a:custGeom>
                <a:avLst/>
                <a:gdLst/>
                <a:ahLst/>
                <a:rect l="l" t="t" r="r" b="b"/>
                <a:pathLst>
                  <a:path w="3291" h="1899">
                    <a:moveTo>
                      <a:pt x="68" y="0"/>
                    </a:moveTo>
                    <a:cubicBezTo>
                      <a:pt x="86" y="53"/>
                      <a:pt x="101" y="142"/>
                      <a:pt x="77" y="197"/>
                    </a:cubicBezTo>
                    <a:cubicBezTo>
                      <a:pt x="73" y="205"/>
                      <a:pt x="60" y="203"/>
                      <a:pt x="51" y="206"/>
                    </a:cubicBezTo>
                    <a:cubicBezTo>
                      <a:pt x="37" y="247"/>
                      <a:pt x="35" y="224"/>
                      <a:pt x="77" y="249"/>
                    </a:cubicBezTo>
                    <a:cubicBezTo>
                      <a:pt x="95" y="259"/>
                      <a:pt x="128" y="283"/>
                      <a:pt x="128" y="283"/>
                    </a:cubicBezTo>
                    <a:cubicBezTo>
                      <a:pt x="134" y="301"/>
                      <a:pt x="152" y="315"/>
                      <a:pt x="154" y="334"/>
                    </a:cubicBezTo>
                    <a:cubicBezTo>
                      <a:pt x="160" y="394"/>
                      <a:pt x="123" y="434"/>
                      <a:pt x="85" y="472"/>
                    </a:cubicBezTo>
                    <a:cubicBezTo>
                      <a:pt x="88" y="489"/>
                      <a:pt x="85" y="508"/>
                      <a:pt x="94" y="523"/>
                    </a:cubicBezTo>
                    <a:cubicBezTo>
                      <a:pt x="99" y="531"/>
                      <a:pt x="113" y="526"/>
                      <a:pt x="120" y="532"/>
                    </a:cubicBezTo>
                    <a:cubicBezTo>
                      <a:pt x="128" y="538"/>
                      <a:pt x="130" y="550"/>
                      <a:pt x="137" y="557"/>
                    </a:cubicBezTo>
                    <a:cubicBezTo>
                      <a:pt x="144" y="564"/>
                      <a:pt x="154" y="568"/>
                      <a:pt x="162" y="574"/>
                    </a:cubicBezTo>
                    <a:cubicBezTo>
                      <a:pt x="168" y="592"/>
                      <a:pt x="188" y="607"/>
                      <a:pt x="188" y="626"/>
                    </a:cubicBezTo>
                    <a:cubicBezTo>
                      <a:pt x="188" y="664"/>
                      <a:pt x="91" y="718"/>
                      <a:pt x="77" y="729"/>
                    </a:cubicBezTo>
                    <a:cubicBezTo>
                      <a:pt x="50" y="750"/>
                      <a:pt x="0" y="797"/>
                      <a:pt x="0" y="797"/>
                    </a:cubicBezTo>
                    <a:cubicBezTo>
                      <a:pt x="3" y="806"/>
                      <a:pt x="1" y="817"/>
                      <a:pt x="8" y="823"/>
                    </a:cubicBezTo>
                    <a:cubicBezTo>
                      <a:pt x="17" y="831"/>
                      <a:pt x="31" y="829"/>
                      <a:pt x="42" y="832"/>
                    </a:cubicBezTo>
                    <a:cubicBezTo>
                      <a:pt x="68" y="838"/>
                      <a:pt x="94" y="844"/>
                      <a:pt x="120" y="849"/>
                    </a:cubicBezTo>
                    <a:cubicBezTo>
                      <a:pt x="134" y="852"/>
                      <a:pt x="162" y="857"/>
                      <a:pt x="162" y="857"/>
                    </a:cubicBezTo>
                    <a:cubicBezTo>
                      <a:pt x="201" y="876"/>
                      <a:pt x="217" y="869"/>
                      <a:pt x="231" y="909"/>
                    </a:cubicBezTo>
                    <a:cubicBezTo>
                      <a:pt x="223" y="949"/>
                      <a:pt x="215" y="976"/>
                      <a:pt x="197" y="1012"/>
                    </a:cubicBezTo>
                    <a:cubicBezTo>
                      <a:pt x="191" y="1063"/>
                      <a:pt x="190" y="1115"/>
                      <a:pt x="180" y="1166"/>
                    </a:cubicBezTo>
                    <a:cubicBezTo>
                      <a:pt x="176" y="1184"/>
                      <a:pt x="162" y="1217"/>
                      <a:pt x="162" y="1217"/>
                    </a:cubicBezTo>
                    <a:cubicBezTo>
                      <a:pt x="199" y="1252"/>
                      <a:pt x="187" y="1277"/>
                      <a:pt x="154" y="1312"/>
                    </a:cubicBezTo>
                    <a:cubicBezTo>
                      <a:pt x="162" y="1315"/>
                      <a:pt x="203" y="1324"/>
                      <a:pt x="205" y="1337"/>
                    </a:cubicBezTo>
                    <a:cubicBezTo>
                      <a:pt x="206" y="1343"/>
                      <a:pt x="167" y="1409"/>
                      <a:pt x="162" y="1423"/>
                    </a:cubicBezTo>
                    <a:cubicBezTo>
                      <a:pt x="179" y="1472"/>
                      <a:pt x="138" y="1496"/>
                      <a:pt x="111" y="1534"/>
                    </a:cubicBezTo>
                    <a:cubicBezTo>
                      <a:pt x="88" y="1567"/>
                      <a:pt x="74" y="1604"/>
                      <a:pt x="51" y="1637"/>
                    </a:cubicBezTo>
                    <a:cubicBezTo>
                      <a:pt x="48" y="1654"/>
                      <a:pt x="42" y="1671"/>
                      <a:pt x="42" y="1689"/>
                    </a:cubicBezTo>
                    <a:cubicBezTo>
                      <a:pt x="42" y="1766"/>
                      <a:pt x="94" y="1760"/>
                      <a:pt x="154" y="1774"/>
                    </a:cubicBezTo>
                    <a:cubicBezTo>
                      <a:pt x="157" y="1811"/>
                      <a:pt x="145" y="1853"/>
                      <a:pt x="162" y="1886"/>
                    </a:cubicBezTo>
                    <a:cubicBezTo>
                      <a:pt x="168" y="1899"/>
                      <a:pt x="184" y="1866"/>
                      <a:pt x="197" y="1860"/>
                    </a:cubicBezTo>
                    <a:cubicBezTo>
                      <a:pt x="273" y="1825"/>
                      <a:pt x="297" y="1832"/>
                      <a:pt x="385" y="1826"/>
                    </a:cubicBezTo>
                    <a:cubicBezTo>
                      <a:pt x="458" y="1801"/>
                      <a:pt x="601" y="1799"/>
                      <a:pt x="685" y="1792"/>
                    </a:cubicBezTo>
                    <a:cubicBezTo>
                      <a:pt x="1085" y="1795"/>
                      <a:pt x="1485" y="1800"/>
                      <a:pt x="1885" y="1800"/>
                    </a:cubicBezTo>
                    <a:cubicBezTo>
                      <a:pt x="2954" y="1800"/>
                      <a:pt x="2757" y="1876"/>
                      <a:pt x="3240" y="1766"/>
                    </a:cubicBezTo>
                    <a:cubicBezTo>
                      <a:pt x="3209" y="1736"/>
                      <a:pt x="3153" y="1732"/>
                      <a:pt x="3111" y="1723"/>
                    </a:cubicBezTo>
                    <a:cubicBezTo>
                      <a:pt x="3144" y="1690"/>
                      <a:pt x="3181" y="1682"/>
                      <a:pt x="3222" y="1663"/>
                    </a:cubicBezTo>
                    <a:cubicBezTo>
                      <a:pt x="3245" y="1652"/>
                      <a:pt x="3291" y="1629"/>
                      <a:pt x="3291" y="1629"/>
                    </a:cubicBezTo>
                    <a:cubicBezTo>
                      <a:pt x="3285" y="1620"/>
                      <a:pt x="3283" y="1608"/>
                      <a:pt x="3274" y="1603"/>
                    </a:cubicBezTo>
                    <a:cubicBezTo>
                      <a:pt x="3258" y="1595"/>
                      <a:pt x="3233" y="1607"/>
                      <a:pt x="3222" y="1594"/>
                    </a:cubicBezTo>
                    <a:cubicBezTo>
                      <a:pt x="3201" y="1570"/>
                      <a:pt x="3269" y="1519"/>
                      <a:pt x="3282" y="1500"/>
                    </a:cubicBezTo>
                    <a:cubicBezTo>
                      <a:pt x="3256" y="1461"/>
                      <a:pt x="3272" y="1459"/>
                      <a:pt x="3282" y="1414"/>
                    </a:cubicBezTo>
                    <a:cubicBezTo>
                      <a:pt x="3264" y="1359"/>
                      <a:pt x="3205" y="1353"/>
                      <a:pt x="3154" y="1346"/>
                    </a:cubicBezTo>
                    <a:cubicBezTo>
                      <a:pt x="3129" y="1337"/>
                      <a:pt x="3092" y="1350"/>
                      <a:pt x="3077" y="1329"/>
                    </a:cubicBezTo>
                    <a:cubicBezTo>
                      <a:pt x="3067" y="1315"/>
                      <a:pt x="3080" y="1294"/>
                      <a:pt x="3085" y="1277"/>
                    </a:cubicBezTo>
                    <a:cubicBezTo>
                      <a:pt x="3096" y="1240"/>
                      <a:pt x="3131" y="1213"/>
                      <a:pt x="3154" y="1183"/>
                    </a:cubicBezTo>
                    <a:cubicBezTo>
                      <a:pt x="3163" y="1153"/>
                      <a:pt x="3180" y="1132"/>
                      <a:pt x="3197" y="1106"/>
                    </a:cubicBezTo>
                    <a:cubicBezTo>
                      <a:pt x="3152" y="1079"/>
                      <a:pt x="3103" y="1075"/>
                      <a:pt x="3060" y="1046"/>
                    </a:cubicBezTo>
                    <a:cubicBezTo>
                      <a:pt x="3066" y="1032"/>
                      <a:pt x="3090" y="966"/>
                      <a:pt x="3111" y="943"/>
                    </a:cubicBezTo>
                    <a:cubicBezTo>
                      <a:pt x="3133" y="919"/>
                      <a:pt x="3157" y="897"/>
                      <a:pt x="3180" y="874"/>
                    </a:cubicBezTo>
                    <a:cubicBezTo>
                      <a:pt x="3188" y="866"/>
                      <a:pt x="3205" y="849"/>
                      <a:pt x="3205" y="849"/>
                    </a:cubicBezTo>
                    <a:cubicBezTo>
                      <a:pt x="3202" y="835"/>
                      <a:pt x="3206" y="818"/>
                      <a:pt x="3197" y="806"/>
                    </a:cubicBezTo>
                    <a:cubicBezTo>
                      <a:pt x="3176" y="779"/>
                      <a:pt x="3114" y="756"/>
                      <a:pt x="3085" y="737"/>
                    </a:cubicBezTo>
                    <a:cubicBezTo>
                      <a:pt x="3040" y="671"/>
                      <a:pt x="3098" y="768"/>
                      <a:pt x="3077" y="617"/>
                    </a:cubicBezTo>
                    <a:cubicBezTo>
                      <a:pt x="3075" y="605"/>
                      <a:pt x="3062" y="597"/>
                      <a:pt x="3051" y="592"/>
                    </a:cubicBezTo>
                    <a:cubicBezTo>
                      <a:pt x="3007" y="570"/>
                      <a:pt x="2958" y="562"/>
                      <a:pt x="2914" y="540"/>
                    </a:cubicBezTo>
                    <a:cubicBezTo>
                      <a:pt x="2876" y="482"/>
                      <a:pt x="2904" y="412"/>
                      <a:pt x="2940" y="360"/>
                    </a:cubicBezTo>
                    <a:cubicBezTo>
                      <a:pt x="2959" y="293"/>
                      <a:pt x="2981" y="235"/>
                      <a:pt x="3008" y="172"/>
                    </a:cubicBezTo>
                    <a:cubicBezTo>
                      <a:pt x="3050" y="74"/>
                      <a:pt x="3018" y="108"/>
                      <a:pt x="3060" y="69"/>
                    </a:cubicBezTo>
                    <a:cubicBezTo>
                      <a:pt x="3051" y="63"/>
                      <a:pt x="3044" y="56"/>
                      <a:pt x="3034" y="52"/>
                    </a:cubicBezTo>
                    <a:cubicBezTo>
                      <a:pt x="3023" y="47"/>
                      <a:pt x="3007" y="52"/>
                      <a:pt x="3000" y="43"/>
                    </a:cubicBezTo>
                    <a:cubicBezTo>
                      <a:pt x="2995" y="36"/>
                      <a:pt x="3008" y="17"/>
                      <a:pt x="3008" y="17"/>
                    </a:cubicBezTo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66680" y="3048120"/>
                <a:ext cx="4724640" cy="1522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8120" y="4419720"/>
                <a:ext cx="914400" cy="914400"/>
              </a:xfrm>
              <a:prstGeom prst="ellipse">
                <a:avLst/>
              </a:prstGeom>
              <a:solidFill>
                <a:srgbClr val="808000"/>
              </a:solidFill>
              <a:ln w="38160">
                <a:solidFill>
                  <a:srgbClr val="2c2c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06720" y="4930920"/>
                <a:ext cx="969840" cy="488880"/>
              </a:xfrm>
              <a:custGeom>
                <a:avLst/>
                <a:gdLst/>
                <a:ahLst/>
                <a:rect l="l" t="t" r="r" b="b"/>
                <a:pathLst>
                  <a:path w="611" h="308">
                    <a:moveTo>
                      <a:pt x="26" y="5"/>
                    </a:moveTo>
                    <a:cubicBezTo>
                      <a:pt x="37" y="76"/>
                      <a:pt x="87" y="211"/>
                      <a:pt x="163" y="237"/>
                    </a:cubicBezTo>
                    <a:cubicBezTo>
                      <a:pt x="196" y="270"/>
                      <a:pt x="211" y="270"/>
                      <a:pt x="257" y="280"/>
                    </a:cubicBezTo>
                    <a:cubicBezTo>
                      <a:pt x="329" y="277"/>
                      <a:pt x="416" y="308"/>
                      <a:pt x="472" y="263"/>
                    </a:cubicBezTo>
                    <a:cubicBezTo>
                      <a:pt x="480" y="257"/>
                      <a:pt x="481" y="244"/>
                      <a:pt x="489" y="237"/>
                    </a:cubicBezTo>
                    <a:cubicBezTo>
                      <a:pt x="504" y="223"/>
                      <a:pt x="540" y="203"/>
                      <a:pt x="540" y="203"/>
                    </a:cubicBezTo>
                    <a:cubicBezTo>
                      <a:pt x="550" y="188"/>
                      <a:pt x="565" y="176"/>
                      <a:pt x="575" y="160"/>
                    </a:cubicBezTo>
                    <a:cubicBezTo>
                      <a:pt x="594" y="129"/>
                      <a:pt x="597" y="82"/>
                      <a:pt x="609" y="48"/>
                    </a:cubicBezTo>
                    <a:cubicBezTo>
                      <a:pt x="606" y="37"/>
                      <a:pt x="611" y="16"/>
                      <a:pt x="600" y="14"/>
                    </a:cubicBezTo>
                    <a:cubicBezTo>
                      <a:pt x="535" y="0"/>
                      <a:pt x="443" y="38"/>
                      <a:pt x="377" y="48"/>
                    </a:cubicBezTo>
                    <a:cubicBezTo>
                      <a:pt x="326" y="41"/>
                      <a:pt x="306" y="40"/>
                      <a:pt x="266" y="14"/>
                    </a:cubicBezTo>
                    <a:cubicBezTo>
                      <a:pt x="186" y="17"/>
                      <a:pt x="106" y="18"/>
                      <a:pt x="26" y="23"/>
                    </a:cubicBezTo>
                    <a:cubicBezTo>
                      <a:pt x="17" y="24"/>
                      <a:pt x="0" y="40"/>
                      <a:pt x="0" y="31"/>
                    </a:cubicBezTo>
                    <a:cubicBezTo>
                      <a:pt x="0" y="19"/>
                      <a:pt x="17" y="14"/>
                      <a:pt x="26" y="5"/>
                    </a:cubicBez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6491160" y="293760"/>
            <a:ext cx="2341800" cy="1700280"/>
            <a:chOff x="6491160" y="293760"/>
            <a:chExt cx="2341800" cy="1700280"/>
          </a:xfrm>
        </p:grpSpPr>
        <p:sp>
          <p:nvSpPr>
            <p:cNvPr id="104" name=""/>
            <p:cNvSpPr/>
            <p:nvPr/>
          </p:nvSpPr>
          <p:spPr>
            <a:xfrm>
              <a:off x="6513480" y="293760"/>
              <a:ext cx="2319480" cy="1700280"/>
            </a:xfrm>
            <a:custGeom>
              <a:avLst/>
              <a:gdLst/>
              <a:ahLst/>
              <a:rect l="l" t="t" r="r" b="b"/>
              <a:pathLst>
                <a:path w="1461" h="1071">
                  <a:moveTo>
                    <a:pt x="3" y="1024"/>
                  </a:moveTo>
                  <a:cubicBezTo>
                    <a:pt x="56" y="1005"/>
                    <a:pt x="0" y="1029"/>
                    <a:pt x="54" y="989"/>
                  </a:cubicBezTo>
                  <a:cubicBezTo>
                    <a:pt x="67" y="979"/>
                    <a:pt x="84" y="974"/>
                    <a:pt x="97" y="964"/>
                  </a:cubicBezTo>
                  <a:cubicBezTo>
                    <a:pt x="139" y="931"/>
                    <a:pt x="165" y="880"/>
                    <a:pt x="191" y="835"/>
                  </a:cubicBezTo>
                  <a:cubicBezTo>
                    <a:pt x="204" y="786"/>
                    <a:pt x="188" y="723"/>
                    <a:pt x="217" y="681"/>
                  </a:cubicBezTo>
                  <a:cubicBezTo>
                    <a:pt x="257" y="622"/>
                    <a:pt x="315" y="577"/>
                    <a:pt x="363" y="526"/>
                  </a:cubicBezTo>
                  <a:cubicBezTo>
                    <a:pt x="366" y="444"/>
                    <a:pt x="338" y="349"/>
                    <a:pt x="397" y="286"/>
                  </a:cubicBezTo>
                  <a:cubicBezTo>
                    <a:pt x="423" y="212"/>
                    <a:pt x="470" y="150"/>
                    <a:pt x="534" y="106"/>
                  </a:cubicBezTo>
                  <a:cubicBezTo>
                    <a:pt x="560" y="88"/>
                    <a:pt x="597" y="101"/>
                    <a:pt x="628" y="98"/>
                  </a:cubicBezTo>
                  <a:cubicBezTo>
                    <a:pt x="631" y="97"/>
                    <a:pt x="681" y="85"/>
                    <a:pt x="688" y="81"/>
                  </a:cubicBezTo>
                  <a:cubicBezTo>
                    <a:pt x="768" y="35"/>
                    <a:pt x="632" y="97"/>
                    <a:pt x="731" y="46"/>
                  </a:cubicBezTo>
                  <a:cubicBezTo>
                    <a:pt x="775" y="23"/>
                    <a:pt x="829" y="10"/>
                    <a:pt x="877" y="4"/>
                  </a:cubicBezTo>
                  <a:cubicBezTo>
                    <a:pt x="926" y="9"/>
                    <a:pt x="1020" y="0"/>
                    <a:pt x="1074" y="38"/>
                  </a:cubicBezTo>
                  <a:cubicBezTo>
                    <a:pt x="1100" y="57"/>
                    <a:pt x="1118" y="90"/>
                    <a:pt x="1134" y="115"/>
                  </a:cubicBezTo>
                  <a:cubicBezTo>
                    <a:pt x="1139" y="123"/>
                    <a:pt x="1136" y="136"/>
                    <a:pt x="1143" y="141"/>
                  </a:cubicBezTo>
                  <a:cubicBezTo>
                    <a:pt x="1158" y="151"/>
                    <a:pt x="1177" y="152"/>
                    <a:pt x="1194" y="158"/>
                  </a:cubicBezTo>
                  <a:cubicBezTo>
                    <a:pt x="1227" y="169"/>
                    <a:pt x="1255" y="196"/>
                    <a:pt x="1297" y="209"/>
                  </a:cubicBezTo>
                  <a:cubicBezTo>
                    <a:pt x="1333" y="232"/>
                    <a:pt x="1372" y="237"/>
                    <a:pt x="1408" y="261"/>
                  </a:cubicBezTo>
                  <a:cubicBezTo>
                    <a:pt x="1433" y="295"/>
                    <a:pt x="1446" y="324"/>
                    <a:pt x="1460" y="364"/>
                  </a:cubicBezTo>
                  <a:cubicBezTo>
                    <a:pt x="1457" y="441"/>
                    <a:pt x="1461" y="519"/>
                    <a:pt x="1451" y="595"/>
                  </a:cubicBezTo>
                  <a:cubicBezTo>
                    <a:pt x="1449" y="610"/>
                    <a:pt x="1420" y="634"/>
                    <a:pt x="1408" y="646"/>
                  </a:cubicBezTo>
                  <a:cubicBezTo>
                    <a:pt x="1389" y="665"/>
                    <a:pt x="1357" y="706"/>
                    <a:pt x="1331" y="724"/>
                  </a:cubicBezTo>
                  <a:cubicBezTo>
                    <a:pt x="1276" y="761"/>
                    <a:pt x="1190" y="782"/>
                    <a:pt x="1126" y="792"/>
                  </a:cubicBezTo>
                  <a:cubicBezTo>
                    <a:pt x="1062" y="817"/>
                    <a:pt x="1005" y="847"/>
                    <a:pt x="937" y="861"/>
                  </a:cubicBezTo>
                  <a:cubicBezTo>
                    <a:pt x="904" y="878"/>
                    <a:pt x="879" y="894"/>
                    <a:pt x="843" y="904"/>
                  </a:cubicBezTo>
                  <a:cubicBezTo>
                    <a:pt x="827" y="919"/>
                    <a:pt x="805" y="929"/>
                    <a:pt x="791" y="946"/>
                  </a:cubicBezTo>
                  <a:cubicBezTo>
                    <a:pt x="783" y="956"/>
                    <a:pt x="783" y="972"/>
                    <a:pt x="774" y="981"/>
                  </a:cubicBezTo>
                  <a:cubicBezTo>
                    <a:pt x="746" y="1010"/>
                    <a:pt x="729" y="1013"/>
                    <a:pt x="697" y="1024"/>
                  </a:cubicBezTo>
                  <a:cubicBezTo>
                    <a:pt x="647" y="1017"/>
                    <a:pt x="608" y="1002"/>
                    <a:pt x="560" y="989"/>
                  </a:cubicBezTo>
                  <a:cubicBezTo>
                    <a:pt x="524" y="966"/>
                    <a:pt x="481" y="957"/>
                    <a:pt x="440" y="946"/>
                  </a:cubicBezTo>
                  <a:cubicBezTo>
                    <a:pt x="417" y="949"/>
                    <a:pt x="392" y="945"/>
                    <a:pt x="371" y="955"/>
                  </a:cubicBezTo>
                  <a:cubicBezTo>
                    <a:pt x="344" y="968"/>
                    <a:pt x="328" y="998"/>
                    <a:pt x="303" y="1015"/>
                  </a:cubicBezTo>
                  <a:cubicBezTo>
                    <a:pt x="266" y="1071"/>
                    <a:pt x="230" y="1047"/>
                    <a:pt x="157" y="1041"/>
                  </a:cubicBezTo>
                  <a:cubicBezTo>
                    <a:pt x="154" y="1040"/>
                    <a:pt x="98" y="1030"/>
                    <a:pt x="88" y="1024"/>
                  </a:cubicBezTo>
                  <a:cubicBezTo>
                    <a:pt x="81" y="1020"/>
                    <a:pt x="79" y="1006"/>
                    <a:pt x="71" y="1006"/>
                  </a:cubicBezTo>
                  <a:cubicBezTo>
                    <a:pt x="48" y="1006"/>
                    <a:pt x="26" y="1018"/>
                    <a:pt x="3" y="1024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91160" y="407880"/>
              <a:ext cx="1524240" cy="1538280"/>
            </a:xfrm>
            <a:custGeom>
              <a:avLst/>
              <a:gdLst/>
              <a:ahLst/>
              <a:rect l="l" t="t" r="r" b="b"/>
              <a:pathLst>
                <a:path w="960" h="969">
                  <a:moveTo>
                    <a:pt x="960" y="0"/>
                  </a:moveTo>
                  <a:cubicBezTo>
                    <a:pt x="929" y="20"/>
                    <a:pt x="920" y="35"/>
                    <a:pt x="908" y="69"/>
                  </a:cubicBezTo>
                  <a:cubicBezTo>
                    <a:pt x="914" y="160"/>
                    <a:pt x="957" y="260"/>
                    <a:pt x="857" y="309"/>
                  </a:cubicBezTo>
                  <a:cubicBezTo>
                    <a:pt x="849" y="313"/>
                    <a:pt x="839" y="314"/>
                    <a:pt x="831" y="317"/>
                  </a:cubicBezTo>
                  <a:cubicBezTo>
                    <a:pt x="819" y="322"/>
                    <a:pt x="808" y="328"/>
                    <a:pt x="797" y="334"/>
                  </a:cubicBezTo>
                  <a:cubicBezTo>
                    <a:pt x="776" y="356"/>
                    <a:pt x="751" y="366"/>
                    <a:pt x="737" y="394"/>
                  </a:cubicBezTo>
                  <a:cubicBezTo>
                    <a:pt x="728" y="413"/>
                    <a:pt x="734" y="438"/>
                    <a:pt x="720" y="454"/>
                  </a:cubicBezTo>
                  <a:cubicBezTo>
                    <a:pt x="706" y="470"/>
                    <a:pt x="641" y="515"/>
                    <a:pt x="617" y="532"/>
                  </a:cubicBezTo>
                  <a:cubicBezTo>
                    <a:pt x="595" y="565"/>
                    <a:pt x="587" y="601"/>
                    <a:pt x="565" y="634"/>
                  </a:cubicBezTo>
                  <a:cubicBezTo>
                    <a:pt x="557" y="662"/>
                    <a:pt x="554" y="700"/>
                    <a:pt x="531" y="720"/>
                  </a:cubicBezTo>
                  <a:cubicBezTo>
                    <a:pt x="490" y="756"/>
                    <a:pt x="443" y="787"/>
                    <a:pt x="402" y="823"/>
                  </a:cubicBezTo>
                  <a:cubicBezTo>
                    <a:pt x="384" y="839"/>
                    <a:pt x="375" y="871"/>
                    <a:pt x="351" y="874"/>
                  </a:cubicBezTo>
                  <a:cubicBezTo>
                    <a:pt x="234" y="889"/>
                    <a:pt x="305" y="882"/>
                    <a:pt x="137" y="892"/>
                  </a:cubicBezTo>
                  <a:cubicBezTo>
                    <a:pt x="96" y="912"/>
                    <a:pt x="33" y="936"/>
                    <a:pt x="0" y="969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7720" y="966960"/>
              <a:ext cx="1101600" cy="27144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694" y="0"/>
                  </a:moveTo>
                  <a:cubicBezTo>
                    <a:pt x="615" y="19"/>
                    <a:pt x="543" y="60"/>
                    <a:pt x="463" y="77"/>
                  </a:cubicBezTo>
                  <a:cubicBezTo>
                    <a:pt x="384" y="61"/>
                    <a:pt x="365" y="49"/>
                    <a:pt x="291" y="60"/>
                  </a:cubicBezTo>
                  <a:cubicBezTo>
                    <a:pt x="280" y="66"/>
                    <a:pt x="266" y="68"/>
                    <a:pt x="257" y="77"/>
                  </a:cubicBezTo>
                  <a:cubicBezTo>
                    <a:pt x="251" y="83"/>
                    <a:pt x="254" y="96"/>
                    <a:pt x="248" y="102"/>
                  </a:cubicBezTo>
                  <a:cubicBezTo>
                    <a:pt x="228" y="122"/>
                    <a:pt x="192" y="116"/>
                    <a:pt x="163" y="120"/>
                  </a:cubicBezTo>
                  <a:cubicBezTo>
                    <a:pt x="106" y="138"/>
                    <a:pt x="63" y="171"/>
                    <a:pt x="0" y="171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rot="19763400">
            <a:off x="6470640" y="817200"/>
            <a:ext cx="152280" cy="22096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0017200">
            <a:off x="6477120" y="1752480"/>
            <a:ext cx="759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4800600"/>
            <a:ext cx="304776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cantari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uent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floodhouse" descr=""/>
          <p:cNvPicPr/>
          <p:nvPr/>
        </p:nvPicPr>
        <p:blipFill>
          <a:blip r:embed="rId2"/>
          <a:stretch/>
        </p:blipFill>
        <p:spPr>
          <a:xfrm>
            <a:off x="76320" y="36360"/>
            <a:ext cx="5029200" cy="3773520"/>
          </a:xfrm>
          <a:prstGeom prst="rect">
            <a:avLst/>
          </a:prstGeom>
          <a:ln w="0">
            <a:noFill/>
          </a:ln>
        </p:spPr>
      </p:pic>
      <p:pic>
        <p:nvPicPr>
          <p:cNvPr id="113" name="floodmuz" descr=""/>
          <p:cNvPicPr/>
          <p:nvPr/>
        </p:nvPicPr>
        <p:blipFill>
          <a:blip r:embed="rId3"/>
          <a:stretch/>
        </p:blipFill>
        <p:spPr>
          <a:xfrm>
            <a:off x="4267080" y="3048120"/>
            <a:ext cx="43434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52388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enómenos en Ingeniería (según certeza de  ocurrenc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886200"/>
            <a:ext cx="6172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idrología (variables aleatori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ocásticos  (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Origenes de incertez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bilidad inherente de la naturalez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conocimiento acerca de las causas y efectos en el sistema fis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da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4572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uestras representativas de poblac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leatorias (sin sesgo, al az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independientes (t,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omogéneas (= pobl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895480"/>
            <a:ext cx="2210040" cy="1447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343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puración de la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76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486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imar probabilidades futur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guridad de la Obra  + Efecto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1066680"/>
            <a:ext cx="12193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cisión: elección de valor de diseño (incorporar juicios de valo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124080"/>
            <a:ext cx="2438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257800"/>
            <a:ext cx="7239240" cy="8254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Determinar el intervalo de recurrencia de un evento hidrológico de magnitud da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flipH="1" rot="10800000">
            <a:off x="3124080" y="3505320"/>
            <a:ext cx="2298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16786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ERIODO DE RETORN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[T (años)]: INTERVALO DE TIEMPO </a:t>
            </a: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ROMEDI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DENTRO DEL CUAL LA MAGNITUD DADA DEL EVENTO ES EXCEDIDA O IGUALADA UNA V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(X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x) = 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4038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Evento mayor o igual que x ocurre 1 vez en T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1240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286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1055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1-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54100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1600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idad de no excedencia en 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410080" y="533520"/>
            <a:ext cx="3047760" cy="3200400"/>
            <a:chOff x="5410080" y="533520"/>
            <a:chExt cx="3047760" cy="3200400"/>
          </a:xfrm>
        </p:grpSpPr>
        <p:sp>
          <p:nvSpPr>
            <p:cNvPr id="139" name=""/>
            <p:cNvSpPr/>
            <p:nvPr/>
          </p:nvSpPr>
          <p:spPr>
            <a:xfrm>
              <a:off x="5410080" y="533520"/>
              <a:ext cx="3047760" cy="320040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16765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2c2c42"/>
                  </a:solidFill>
                  <a:latin typeface="Verdana"/>
                </a:rPr>
                <a:t>(1-1/T)</a:t>
              </a:r>
              <a:r>
                <a:rPr b="1" lang="es-ES_tradnl" sz="2800" spc="-1" strike="noStrike" baseline="30000">
                  <a:solidFill>
                    <a:srgbClr val="2c2c42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72000" y="17524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505320"/>
            <a:ext cx="37339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Probabilidad de excedencia en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 años    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= RIESG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471200">
            <a:off x="4343040" y="434304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ffcc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038480"/>
            <a:ext cx="3809880" cy="2819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(1-(1-1/T)</a:t>
            </a:r>
            <a:r>
              <a:rPr b="1" lang="es-ES_tradnl" sz="2400" spc="-1" strike="noStrike" baseline="30000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4T14:48:11Z</dcterms:modified>
  <cp:revision>79</cp:revision>
  <dc:subject/>
  <dc:title>PowerPoint Presentation</dc:title>
</cp:coreProperties>
</file>