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AE2-FD44-42C4-9899-F93C2658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E6B-7208-455B-9923-C220AA6F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9CA-BC12-41C4-8515-F94DC79F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2F6-AE4B-4ADD-99A5-BB6FE93D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9918-92D8-473D-8FBE-7BEC6DA8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3E91-603F-4C61-829B-6C4BA267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9697-D313-4360-BF3C-5009F4E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B4B6-B588-4BE9-8CE4-22D7640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14E-36DC-44F2-8AB6-A99BCAC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4D90-95CE-40C6-A09E-03513B58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7DC5-928F-402E-9DD4-99B0BD4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2F2-F9CE-46A9-A574-04A74EC9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BCD1-5E24-41C0-9B1B-F440BA63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7EF-6F73-48F9-8DA0-E56A8D6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9B1-E75F-4501-AF28-E2BA11AF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67B8-B960-4E67-8BE8-C8EADD90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BFA8-5760-47E0-90DD-31D98297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9ED-4C11-4F27-BCC7-DB69FB2E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7F2-2DC7-4C7F-BEF6-2CB46EA8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E9E-E57D-4A4F-BF12-846B64FE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15A-502C-4B17-BA46-0BDF9347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F12-F052-4338-84B7-AD607C8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30A-5607-4A0A-8A85-8B9234F1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975-EEE1-45DD-9A9C-2832BE1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0B14-BBE6-48D8-A14F-BE0F7A35D30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59B9-D96E-4A7C-9CD4-25F9F5E21B3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2280" y="914400"/>
            <a:ext cx="8839080" cy="5486040"/>
            <a:chOff x="152280" y="914400"/>
            <a:chExt cx="8839080" cy="5486040"/>
          </a:xfrm>
        </p:grpSpPr>
        <p:pic>
          <p:nvPicPr>
            <p:cNvPr id="89" name="Macul1" descr=""/>
            <p:cNvPicPr/>
            <p:nvPr/>
          </p:nvPicPr>
          <p:blipFill>
            <a:blip r:embed="rId2"/>
            <a:stretch/>
          </p:blipFill>
          <p:spPr>
            <a:xfrm>
              <a:off x="152280" y="914400"/>
              <a:ext cx="8839080" cy="5486040"/>
            </a:xfrm>
            <a:prstGeom prst="rect">
              <a:avLst/>
            </a:prstGeom>
            <a:ln w="9360">
              <a:solidFill>
                <a:srgbClr val="6666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90" name=""/>
            <p:cNvSpPr/>
            <p:nvPr/>
          </p:nvSpPr>
          <p:spPr>
            <a:xfrm>
              <a:off x="152280" y="4397760"/>
              <a:ext cx="8115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ítulo 7.  Hidrología Estadística y Probabilís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99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594360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3382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paso probabilida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 condi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prob. to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Bay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. alea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ametros estad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95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96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99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808000"/>
              </a:solidFill>
              <a:ln w="38160">
                <a:solidFill>
                  <a:srgbClr val="2c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104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loodhouse" descr=""/>
          <p:cNvPicPr/>
          <p:nvPr/>
        </p:nvPicPr>
        <p:blipFill>
          <a:blip r:embed="rId2"/>
          <a:stretch/>
        </p:blipFill>
        <p:spPr>
          <a:xfrm>
            <a:off x="76320" y="36360"/>
            <a:ext cx="5029200" cy="3773520"/>
          </a:xfrm>
          <a:prstGeom prst="rect">
            <a:avLst/>
          </a:prstGeom>
          <a:ln w="0">
            <a:noFill/>
          </a:ln>
        </p:spPr>
      </p:pic>
      <p:pic>
        <p:nvPicPr>
          <p:cNvPr id="113" name="floodmuz" descr=""/>
          <p:cNvPicPr/>
          <p:nvPr/>
        </p:nvPicPr>
        <p:blipFill>
          <a:blip r:embed="rId3"/>
          <a:stretch/>
        </p:blipFill>
        <p:spPr>
          <a:xfrm>
            <a:off x="4267080" y="3048120"/>
            <a:ext cx="4343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52388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Origenes de incerte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bilidad inherente de la naturalez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conocimiento acerca de las causas y efectos en el sistema fi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da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[T (años)]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Evento mayor o igual que x ocurre 1 vez en T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16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10080" y="533520"/>
            <a:ext cx="3047760" cy="3200400"/>
            <a:chOff x="5410080" y="533520"/>
            <a:chExt cx="3047760" cy="3200400"/>
          </a:xfrm>
        </p:grpSpPr>
        <p:sp>
          <p:nvSpPr>
            <p:cNvPr id="139" name=""/>
            <p:cNvSpPr/>
            <p:nvPr/>
          </p:nvSpPr>
          <p:spPr>
            <a:xfrm>
              <a:off x="5410080" y="533520"/>
              <a:ext cx="3047760" cy="32004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1676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2c2c42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2c2c42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17524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4T14:48:11Z</dcterms:modified>
  <cp:revision>79</cp:revision>
  <dc:subject/>
  <dc:title>PowerPoint Presentation</dc:title>
</cp:coreProperties>
</file>