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2F1E-1AA2-4B73-8F2D-E065C128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DF1-6069-4C9F-914E-34C6204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AA3-8915-4137-9023-B146676D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7CF-09EF-48C4-A345-E50FDE40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68AD-5A29-431C-8499-0B52B208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5365-2F2B-4719-B6ED-6610898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E5B7-4A14-47DA-9A81-62F81A68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DDB8-EFE5-4AC4-8110-B022514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CB19-CC40-4B1B-8C12-D61EDFBF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F9A57-03E1-442C-8967-CC2FB062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9C95-6369-4C52-8F92-4148285E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5F1-1810-409E-9A23-8BFECDB2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E80E-A535-48DE-AB3B-6AACA2F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808C-DF06-46A3-B78F-FA9C38E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527F-005B-4AFE-AD32-BB21F338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97E7-E8B8-48CD-9366-4E8E0EB2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07A6-415A-47D7-9FC7-537808F6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855-7F60-48AD-8ED4-789AA1F5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433-CF43-4AC4-8823-1658B35B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2615-936D-48B5-9F0A-8B8FA1FD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2F9-B6D4-490D-BD13-BF4DFB8F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DB5-BAE2-4C6A-B6E8-B2BC7738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0C5-C0AF-499D-BD45-9437DF2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842-C9B9-4DCA-BFEA-D1878B24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371600"/>
            <a:ext cx="9148680" cy="5105160"/>
            <a:chOff x="-7920" y="1371600"/>
            <a:chExt cx="9148680" cy="510516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394680"/>
              <a:ext cx="3143160" cy="8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371600"/>
              <a:ext cx="4495680" cy="10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4262-D1B8-403B-B97C-9B19E9C4A26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952-70E9-4772-84C4-E5186AD77492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280" y="914400"/>
            <a:ext cx="8839080" cy="5486040"/>
            <a:chOff x="152280" y="914400"/>
            <a:chExt cx="8839080" cy="5486040"/>
          </a:xfrm>
        </p:grpSpPr>
        <p:pic>
          <p:nvPicPr>
            <p:cNvPr id="89" name="Macul1" descr=""/>
            <p:cNvPicPr/>
            <p:nvPr/>
          </p:nvPicPr>
          <p:blipFill>
            <a:blip r:embed="rId2"/>
            <a:stretch/>
          </p:blipFill>
          <p:spPr>
            <a:xfrm>
              <a:off x="152280" y="914400"/>
              <a:ext cx="8839080" cy="5486040"/>
            </a:xfrm>
            <a:prstGeom prst="rect">
              <a:avLst/>
            </a:prstGeom>
            <a:ln w="9360">
              <a:solidFill>
                <a:srgbClr val="666699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90" name=""/>
            <p:cNvSpPr/>
            <p:nvPr/>
          </p:nvSpPr>
          <p:spPr>
            <a:xfrm>
              <a:off x="152280" y="4397760"/>
              <a:ext cx="81154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ítulo 7.  Hidrología Estadística y Probabilístic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666699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594360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382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cc00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paso probabilida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babilidad condicion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prob. to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orema Bay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r. aleator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arametros estad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ístic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95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96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99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808000"/>
              </a:solidFill>
              <a:ln w="38160">
                <a:solidFill>
                  <a:srgbClr val="2c2c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104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solidFill>
              <a:srgbClr val="339966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floodhouse" descr=""/>
          <p:cNvPicPr/>
          <p:nvPr/>
        </p:nvPicPr>
        <p:blipFill>
          <a:blip r:embed="rId2"/>
          <a:stretch/>
        </p:blipFill>
        <p:spPr>
          <a:xfrm>
            <a:off x="76320" y="36360"/>
            <a:ext cx="5029200" cy="3773520"/>
          </a:xfrm>
          <a:prstGeom prst="rect">
            <a:avLst/>
          </a:prstGeom>
          <a:ln w="0">
            <a:noFill/>
          </a:ln>
        </p:spPr>
      </p:pic>
      <p:pic>
        <p:nvPicPr>
          <p:cNvPr id="113" name="floodmuz" descr=""/>
          <p:cNvPicPr/>
          <p:nvPr/>
        </p:nvPicPr>
        <p:blipFill>
          <a:blip r:embed="rId3"/>
          <a:stretch/>
        </p:blipFill>
        <p:spPr>
          <a:xfrm>
            <a:off x="4267080" y="3048120"/>
            <a:ext cx="4343400" cy="36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52388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"/>
              </a:rPr>
              <a:t>Origenes de incertez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Variabilidad inherente de la naturalez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conocimiento acerca de las causas y efectos en el sistema fisic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Falta de dat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808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2c2c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[T (años)]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Evento mayor o igual que x ocurre 1 vez en T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16002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10080" y="533520"/>
            <a:ext cx="3047760" cy="3200400"/>
            <a:chOff x="5410080" y="533520"/>
            <a:chExt cx="3047760" cy="3200400"/>
          </a:xfrm>
        </p:grpSpPr>
        <p:sp>
          <p:nvSpPr>
            <p:cNvPr id="139" name=""/>
            <p:cNvSpPr/>
            <p:nvPr/>
          </p:nvSpPr>
          <p:spPr>
            <a:xfrm>
              <a:off x="5410080" y="533520"/>
              <a:ext cx="3047760" cy="3200400"/>
            </a:xfrm>
            <a:prstGeom prst="irregularSeal1">
              <a:avLst/>
            </a:prstGeom>
            <a:solidFill>
              <a:srgbClr val="ff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867280" y="16765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2c2c42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2c2c42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572000" y="17524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2c2c42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2c2c42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ffcc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2c2c42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2c2c42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9T18:53:17Z</dcterms:created>
  <dc:creator>nnnn</dc:creator>
  <dc:description/>
  <dc:language>en-US</dc:language>
  <cp:lastModifiedBy>nnnn</cp:lastModifiedBy>
  <dcterms:modified xsi:type="dcterms:W3CDTF">2004-10-04T14:48:11Z</dcterms:modified>
  <cp:revision>79</cp:revision>
  <dc:subject/>
  <dc:title>PowerPoint Presentation</dc:title>
</cp:coreProperties>
</file>