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4B7-DA16-4629-883D-A91E062F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A7A-E10E-4414-826A-7A94B594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A97-0F40-46FE-B8DD-0CBB96F4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CBE-745C-4128-B05C-F39CD934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5761-041D-4663-BF7C-22F82AA2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DA86-EC6B-4C70-BC3E-A47F27C9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6C23-678C-4A33-BCFE-14FC182D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D0BB-C8F5-43F7-BC06-8BF87571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D962-11E1-4A94-9E10-E3A6A145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2942-50BC-4706-ABF8-566FC32E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1710-8574-4039-B779-67B46811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EE9-1EFF-4C17-BDA3-284664C5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A895-8660-436B-A45F-520A74CF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6AB9-A69B-470F-A841-ECA827C8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7C75-4B3E-4A29-9BB4-8CE31A53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5E87-217A-4E9A-B8DC-6CE905FF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CFE8-3E91-48A8-983D-6B82BABD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10C-E0B8-49F9-80AE-4E44493A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50C-D2F7-4974-9321-6BE68899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044-AAB0-46D7-95C9-D3807719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A73-07F4-43BB-9BE6-B3E01208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A3A-B476-4984-9986-95DBB49C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217-DA2D-4E62-B016-EC69AE7D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4A7-7842-47FE-A16E-0FAD30AB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44BE-02D6-4602-B806-5DE832EADA6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442D-A927-4D22-B961-13235A043CE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hyperlink" Target="http://www.drought.unl.edu/index.htm" TargetMode="External"/><Relationship Id="rId4" Type="http://schemas.openxmlformats.org/officeDocument/2006/relationships/hyperlink" Target="http://www.drought.unl.edu/index.htm" TargetMode="External"/><Relationship Id="rId5" Type="http://schemas.openxmlformats.org/officeDocument/2006/relationships/hyperlink" Target="http://www.drought.unl.edu/index.htm" TargetMode="External"/><Relationship Id="rId6" Type="http://schemas.openxmlformats.org/officeDocument/2006/relationships/hyperlink" Target="http://www.drought.unl.edu/index.htm" TargetMode="External"/><Relationship Id="rId7" Type="http://schemas.openxmlformats.org/officeDocument/2006/relationships/hyperlink" Target="http://www.drought.unl.edu/index.htm" TargetMode="External"/><Relationship Id="rId8" Type="http://schemas.openxmlformats.org/officeDocument/2006/relationships/hyperlink" Target="http://www.drought.unl.edu/index.htm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studios de Sedimenta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porte de nutrientes en zonas estuarin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tabilidad de obras hidráulicas portuarias y v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ida útil de embal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Geomorfología y biogeoquímica fluv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m3" descr=""/>
          <p:cNvPicPr/>
          <p:nvPr/>
        </p:nvPicPr>
        <p:blipFill>
          <a:blip r:embed="rId2"/>
          <a:stretch/>
        </p:blipFill>
        <p:spPr>
          <a:xfrm>
            <a:off x="609480" y="936720"/>
            <a:ext cx="78487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olmatación de embals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ducción capacidad embal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sminución calidad de aguas por acumulación de residuos biodegradab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08280" y="1941480"/>
            <a:ext cx="402876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kooraw1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3984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nishi1c" descr=""/>
          <p:cNvPicPr/>
          <p:nvPr/>
        </p:nvPicPr>
        <p:blipFill>
          <a:blip r:embed="rId2"/>
          <a:stretch/>
        </p:blipFill>
        <p:spPr>
          <a:xfrm>
            <a:off x="838080" y="1251000"/>
            <a:ext cx="7010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m4" descr=""/>
          <p:cNvPicPr/>
          <p:nvPr/>
        </p:nvPicPr>
        <p:blipFill>
          <a:blip r:embed="rId2"/>
          <a:stretch/>
        </p:blipFill>
        <p:spPr>
          <a:xfrm>
            <a:off x="533520" y="770040"/>
            <a:ext cx="815328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sequí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evante en términos ecológicos, económicos, humanos, et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lasificación de sequí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limát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Hidrológ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grícol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sequí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67652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étodos estadís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neración sintética de series hidrológ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uración, sever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ndices de severidad de sequí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DS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P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1-australia.drought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4511880" cy="2809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80" y="6095880"/>
            <a:ext cx="41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3"/>
              </a:rPr>
              <a:t>http://www.drought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4"/>
              </a:rPr>
              <a:t>unl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7"/>
              </a:rPr>
              <a:t>/index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8"/>
              </a:rPr>
              <a:t>ht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ocariosediment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181480" cy="3898800"/>
          </a:xfrm>
          <a:prstGeom prst="rect">
            <a:avLst/>
          </a:prstGeom>
          <a:ln w="0">
            <a:noFill/>
          </a:ln>
        </p:spPr>
      </p:pic>
      <p:pic>
        <p:nvPicPr>
          <p:cNvPr id="90" name="PIA02647" descr=""/>
          <p:cNvPicPr/>
          <p:nvPr/>
        </p:nvPicPr>
        <p:blipFill>
          <a:blip r:embed="rId3"/>
          <a:stretch/>
        </p:blipFill>
        <p:spPr>
          <a:xfrm>
            <a:off x="4267080" y="3200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hoover2_dam_1" descr=""/>
          <p:cNvPicPr/>
          <p:nvPr/>
        </p:nvPicPr>
        <p:blipFill>
          <a:blip r:embed="rId2"/>
          <a:stretch/>
        </p:blipFill>
        <p:spPr>
          <a:xfrm>
            <a:off x="2311560" y="380880"/>
            <a:ext cx="41558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Generación de eros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67652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fecto lluv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gía proporcional a d</a:t>
            </a:r>
            <a:r>
              <a:rPr b="0" lang="es-CL" sz="32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vimiento neto partículas pendiente abaj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ph80118sediment" descr=""/>
          <p:cNvPicPr/>
          <p:nvPr/>
        </p:nvPicPr>
        <p:blipFill>
          <a:blip r:embed="rId2"/>
          <a:stretch/>
        </p:blipFill>
        <p:spPr>
          <a:xfrm>
            <a:off x="2209680" y="3581280"/>
            <a:ext cx="46483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Transporte de sediment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nsporte en suspens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nsporte de fon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Sediment%20transport" descr=""/>
          <p:cNvPicPr/>
          <p:nvPr/>
        </p:nvPicPr>
        <p:blipFill>
          <a:blip r:embed="rId2"/>
          <a:stretch/>
        </p:blipFill>
        <p:spPr>
          <a:xfrm>
            <a:off x="1600200" y="3200400"/>
            <a:ext cx="5851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Transporte en suspens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canism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positación – Ley de Stok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urbulencia – efecto neto ascend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ormulas empiric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alcular para varios diámetros y superpon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m1" descr=""/>
          <p:cNvPicPr/>
          <p:nvPr/>
        </p:nvPicPr>
        <p:blipFill>
          <a:blip r:embed="rId2"/>
          <a:stretch/>
        </p:blipFill>
        <p:spPr>
          <a:xfrm>
            <a:off x="457200" y="393840"/>
            <a:ext cx="83818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m2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746784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Transporte de fond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órmula DuBoys y otr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uposición esfuerzo de corte crí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gnoran conceptos turbulencia y capa lími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10-01T15:29:54Z</dcterms:modified>
  <cp:revision>71</cp:revision>
  <dc:subject/>
  <dc:title>PowerPoint Presentation</dc:title>
</cp:coreProperties>
</file>