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559-8006-4621-A69C-12A2CEED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180-2979-401C-BA25-8700AF7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59B-4435-41F8-84D5-2A5854E8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BF3-7023-44A8-A952-925B92D1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E3B-C692-4D66-AB29-8895AF97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1FE2-3207-49CC-B0F9-22C14D3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1DFE-C14E-4270-A966-5FC7BA8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7D88-7134-40D6-87BF-C27BFE9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4C7-2796-4A67-AF54-98078685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6AD-122A-4208-87CC-D89311C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95B-88C5-4661-8440-DDA5890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D68-A979-46AD-97F3-FC997CC4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CAAB-EB15-47ED-89DB-560BFF2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B7C-E26C-474D-AD39-D88303A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43BE-9D34-40B4-AC3C-934458BA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246D-41CB-4FE2-9A64-8C2F0CB5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54B-B5BC-41BA-8051-73E51E8F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A27-14DC-4718-ACF4-561F48F9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A9A-DD4C-4000-B383-B012E9C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937-817C-40E8-B6D9-8193A6D7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7D4-D59F-4604-9412-A0A8B37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7DB-2181-4987-8832-F106DB9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D60-099A-4623-8EE3-CC247DC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6A3-B00D-47FC-8848-DE57A9D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8D9A-9DE3-472C-8622-EDFB7B6E4E5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CB46-56EF-4137-A19A-A5C8D4D0093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hyperlink" Target="http://www.drought.unl.edu/index.htm" TargetMode="External"/><Relationship Id="rId4" Type="http://schemas.openxmlformats.org/officeDocument/2006/relationships/hyperlink" Target="http://www.drought.unl.edu/index.htm" TargetMode="External"/><Relationship Id="rId5" Type="http://schemas.openxmlformats.org/officeDocument/2006/relationships/hyperlink" Target="http://www.drought.unl.edu/index.htm" TargetMode="External"/><Relationship Id="rId6" Type="http://schemas.openxmlformats.org/officeDocument/2006/relationships/hyperlink" Target="http://www.drought.unl.edu/index.htm" TargetMode="External"/><Relationship Id="rId7" Type="http://schemas.openxmlformats.org/officeDocument/2006/relationships/hyperlink" Target="http://www.drought.unl.edu/index.htm" TargetMode="External"/><Relationship Id="rId8" Type="http://schemas.openxmlformats.org/officeDocument/2006/relationships/hyperlink" Target="http://www.drought.unl.edu/index.htm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dios de Sediment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orte de nutrientes en zonas estuarin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tabilidad de obras hidráulicas portuarias y v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ida útil de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omorfología y biogeoquímica fluv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3" descr=""/>
          <p:cNvPicPr/>
          <p:nvPr/>
        </p:nvPicPr>
        <p:blipFill>
          <a:blip r:embed="rId2"/>
          <a:stretch/>
        </p:blipFill>
        <p:spPr>
          <a:xfrm>
            <a:off x="609480" y="936720"/>
            <a:ext cx="7848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lmatación de embals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ducción capacidad embal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minución calidad de aguas por acumulación de residuos biodegradab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kooraw1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84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ishi1c" descr=""/>
          <p:cNvPicPr/>
          <p:nvPr/>
        </p:nvPicPr>
        <p:blipFill>
          <a:blip r:embed="rId2"/>
          <a:stretch/>
        </p:blipFill>
        <p:spPr>
          <a:xfrm>
            <a:off x="838080" y="1251000"/>
            <a:ext cx="7010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4" descr=""/>
          <p:cNvPicPr/>
          <p:nvPr/>
        </p:nvPicPr>
        <p:blipFill>
          <a:blip r:embed="rId2"/>
          <a:stretch/>
        </p:blipFill>
        <p:spPr>
          <a:xfrm>
            <a:off x="533520" y="770040"/>
            <a:ext cx="81532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en términos ecológicos, económicos, humanos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asificación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limá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idr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sequí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étodos estad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ción sintética de series hidrológ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uración, sever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ices de severidad de sequ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DS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P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1-australia.drought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451188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0" y="609588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http://www.drought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unl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/index.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ht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ocariosediment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181480" cy="3898800"/>
          </a:xfrm>
          <a:prstGeom prst="rect">
            <a:avLst/>
          </a:prstGeom>
          <a:ln w="0">
            <a:noFill/>
          </a:ln>
        </p:spPr>
      </p:pic>
      <p:pic>
        <p:nvPicPr>
          <p:cNvPr id="90" name="PIA02647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oover2_dam_1" descr=""/>
          <p:cNvPicPr/>
          <p:nvPr/>
        </p:nvPicPr>
        <p:blipFill>
          <a:blip r:embed="rId2"/>
          <a:stretch/>
        </p:blipFill>
        <p:spPr>
          <a:xfrm>
            <a:off x="2311560" y="380880"/>
            <a:ext cx="4155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Generación de ero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6765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fecto lluv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gía proporcional a d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vimiento neto partículas pendiente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ph80118sediment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464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en suspen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porte de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Sediment%20transport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5851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en suspen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anism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ositación – Ley de Stok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urbulencia – efecto neto ascend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ormulas empiric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lcular para varios diámetros y superpon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1" descr=""/>
          <p:cNvPicPr/>
          <p:nvPr/>
        </p:nvPicPr>
        <p:blipFill>
          <a:blip r:embed="rId2"/>
          <a:stretch/>
        </p:blipFill>
        <p:spPr>
          <a:xfrm>
            <a:off x="457200" y="393840"/>
            <a:ext cx="8381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2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7467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nsporte de fon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órmula DuBoys y otr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uposición esfuerzo de corte 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gnoran conceptos turbulencia y capa lím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1T15:29:54Z</dcterms:modified>
  <cp:revision>71</cp:revision>
  <dc:subject/>
  <dc:title>PowerPoint Presentation</dc:title>
</cp:coreProperties>
</file>