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53E-11BD-4AF5-ADA6-359BF3A4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616-AE2A-490C-AF10-331DE4C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BC9-05F5-4B21-8F92-0FEB6F1A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AB9-E8C0-41B0-9BDA-D62D0A82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BF7A-672D-49F4-AD11-C50CC8D9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88FC-0AB8-43F6-A6FD-303CAB1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8250-C7A4-4839-8043-BB2CD0B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1A6A-9C72-4BCA-9EE2-2CFB2B1E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441B-628D-4AE1-BB6E-DF02F5F7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3042-7EC8-4DBD-A6CD-6053836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DBA1-C821-4303-BF7A-A5CEF388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665-47A2-4FF0-A2AE-6C39DB1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5D4D-B063-4B24-96DA-8078415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0A06-E456-4621-83FC-3FF948D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EED6-9C5E-4A35-B3DF-E16A85C0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5D7-D02F-4B73-949B-59A2992C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311B-C807-4F6F-80CA-62651338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8D6-600C-481B-95A4-576CA9D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1AB-7C19-44E5-B926-707AB8A8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625-04FB-4B4B-9EBA-F86F89DB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C08-DB3F-4422-BBF9-F3BA5239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6AC-2DD2-4475-A1E3-64CAF08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AAF-323E-4725-AA70-817141F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3AC-D036-419C-A617-6CDB9D2B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C7AF-5E6A-4DCC-8B06-1258631D4D0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8AF8-100E-49E4-BCEA-82EDE0AAB5D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hyperlink" Target="http://www.drought.unl.edu/index.htm" TargetMode="External"/><Relationship Id="rId4" Type="http://schemas.openxmlformats.org/officeDocument/2006/relationships/hyperlink" Target="http://www.drought.unl.edu/index.htm" TargetMode="External"/><Relationship Id="rId5" Type="http://schemas.openxmlformats.org/officeDocument/2006/relationships/hyperlink" Target="http://www.drought.unl.edu/index.htm" TargetMode="External"/><Relationship Id="rId6" Type="http://schemas.openxmlformats.org/officeDocument/2006/relationships/hyperlink" Target="http://www.drought.unl.edu/index.htm" TargetMode="External"/><Relationship Id="rId7" Type="http://schemas.openxmlformats.org/officeDocument/2006/relationships/hyperlink" Target="http://www.drought.unl.edu/index.htm" TargetMode="External"/><Relationship Id="rId8" Type="http://schemas.openxmlformats.org/officeDocument/2006/relationships/hyperlink" Target="http://www.drought.unl.edu/index.htm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tudios de Sediment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orte de nutrientes en zonas estuarin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abilidad de obras hidráulicas portuarias y v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ida útil de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omorfología y biogeoquímica fluv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3" descr=""/>
          <p:cNvPicPr/>
          <p:nvPr/>
        </p:nvPicPr>
        <p:blipFill>
          <a:blip r:embed="rId2"/>
          <a:stretch/>
        </p:blipFill>
        <p:spPr>
          <a:xfrm>
            <a:off x="609480" y="936720"/>
            <a:ext cx="78487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lmatación de embals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ducción capacidad embal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minución calidad de aguas por acumulación de residuos biodegradab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8280" y="1941480"/>
            <a:ext cx="402876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kooraw1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3984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nishi1c" descr=""/>
          <p:cNvPicPr/>
          <p:nvPr/>
        </p:nvPicPr>
        <p:blipFill>
          <a:blip r:embed="rId2"/>
          <a:stretch/>
        </p:blipFill>
        <p:spPr>
          <a:xfrm>
            <a:off x="838080" y="1251000"/>
            <a:ext cx="7010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4" descr=""/>
          <p:cNvPicPr/>
          <p:nvPr/>
        </p:nvPicPr>
        <p:blipFill>
          <a:blip r:embed="rId2"/>
          <a:stretch/>
        </p:blipFill>
        <p:spPr>
          <a:xfrm>
            <a:off x="533520" y="770040"/>
            <a:ext cx="81532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en términos ecológicos, económicos, humanos, e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asificación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limá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idr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gríco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étodos estad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ción sintética de series hidrológ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uración, sever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dices de severidad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DS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P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1-australia.drought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451188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0" y="6095880"/>
            <a:ext cx="41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http://www.drought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4"/>
              </a:rPr>
              <a:t>un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7"/>
              </a:rPr>
              <a:t>/index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8"/>
              </a:rPr>
              <a:t>ht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ocariosediment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181480" cy="3898800"/>
          </a:xfrm>
          <a:prstGeom prst="rect">
            <a:avLst/>
          </a:prstGeom>
          <a:ln w="0">
            <a:noFill/>
          </a:ln>
        </p:spPr>
      </p:pic>
      <p:pic>
        <p:nvPicPr>
          <p:cNvPr id="90" name="PIA02647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oover2_dam_1" descr=""/>
          <p:cNvPicPr/>
          <p:nvPr/>
        </p:nvPicPr>
        <p:blipFill>
          <a:blip r:embed="rId2"/>
          <a:stretch/>
        </p:blipFill>
        <p:spPr>
          <a:xfrm>
            <a:off x="2311560" y="380880"/>
            <a:ext cx="4155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Generación de ero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fecto lluv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gía proporcional a d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vimiento neto partículas pendiente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ph80118sediment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464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en suspen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de fon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Sediment%20transport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5851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en suspen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anism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ositación – Ley de Stok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urbulencia – efecto neto ascend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ormulas empiric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lcular para varios diámetros y superpon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1" descr=""/>
          <p:cNvPicPr/>
          <p:nvPr/>
        </p:nvPicPr>
        <p:blipFill>
          <a:blip r:embed="rId2"/>
          <a:stretch/>
        </p:blipFill>
        <p:spPr>
          <a:xfrm>
            <a:off x="457200" y="393840"/>
            <a:ext cx="8381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2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4678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fon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órmula DuBoys y otr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uposición esfuerzo de corte 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gnoran conceptos turbulencia y capa lím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1T15:29:54Z</dcterms:modified>
  <cp:revision>71</cp:revision>
  <dc:subject/>
  <dc:title>PowerPoint Presentation</dc:title>
</cp:coreProperties>
</file>