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FF8-B37B-48FC-9498-8F88F682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CCA-2A35-4FFC-AD09-D722C167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572-2B12-4301-9929-64C92C26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200-56A4-43EA-95EC-B606BC6E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2D58-D5BF-46AA-8A0E-77AC5D8F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054C-403B-4E49-95C0-C47F906F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3BB5-E751-4695-8CB9-68376505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4C6B-B485-49A9-9383-D2F77878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27D6-40B2-462F-B0AF-CACE5D2D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E1A3-C8FF-4ABF-A161-9CD3E402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D67A-5C43-4CD4-BA6F-90890C25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859-6C3C-4B66-9027-01822DAE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BBAE-06FC-42B5-ADCB-0FAF622C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EDDA-97CA-4526-A26D-2C4641C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FECB-E622-4671-B2BB-AF47FB33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68FC-B1A8-4813-A752-321317E6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5A0D-E77A-4F28-AD7E-288C4381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6E1-EAAA-45C4-8A4F-DC207B1F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EA7-0EC7-4DC9-A62C-0E4F2300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307-0DD7-43A9-A879-21F41302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04A-79C9-4CE6-BCA1-4B9E23E4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A05-E3DC-4441-92AA-8441B396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E94-2B63-4187-8A0A-FFC8C3C6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E60-8944-4733-B8A5-F5BE09F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B3EB-90D8-4EBE-9B35-AEF89FAB3BF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6F01-56D5-4B2D-B52F-A1C8B7C523E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hyperlink" Target="http://www.drought.unl.edu/index.htm" TargetMode="External"/><Relationship Id="rId4" Type="http://schemas.openxmlformats.org/officeDocument/2006/relationships/hyperlink" Target="http://www.drought.unl.edu/index.htm" TargetMode="External"/><Relationship Id="rId5" Type="http://schemas.openxmlformats.org/officeDocument/2006/relationships/hyperlink" Target="http://www.drought.unl.edu/index.htm" TargetMode="External"/><Relationship Id="rId6" Type="http://schemas.openxmlformats.org/officeDocument/2006/relationships/hyperlink" Target="http://www.drought.unl.edu/index.htm" TargetMode="External"/><Relationship Id="rId7" Type="http://schemas.openxmlformats.org/officeDocument/2006/relationships/hyperlink" Target="http://www.drought.unl.edu/index.htm" TargetMode="External"/><Relationship Id="rId8" Type="http://schemas.openxmlformats.org/officeDocument/2006/relationships/hyperlink" Target="http://www.drought.unl.edu/index.htm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studios de Sedimenta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porte de nutrientes en zonas estuarin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tabilidad de obras hidráulicas portuarias y v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ida útil de embal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eomorfología y biogeoquímica fluv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m3" descr=""/>
          <p:cNvPicPr/>
          <p:nvPr/>
        </p:nvPicPr>
        <p:blipFill>
          <a:blip r:embed="rId2"/>
          <a:stretch/>
        </p:blipFill>
        <p:spPr>
          <a:xfrm>
            <a:off x="609480" y="936720"/>
            <a:ext cx="78487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lmatación de embals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ducción capacidad embal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minución calidad de aguas por acumulación de residuos biodegradab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08280" y="1941480"/>
            <a:ext cx="402876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kooraw1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3984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nishi1c" descr=""/>
          <p:cNvPicPr/>
          <p:nvPr/>
        </p:nvPicPr>
        <p:blipFill>
          <a:blip r:embed="rId2"/>
          <a:stretch/>
        </p:blipFill>
        <p:spPr>
          <a:xfrm>
            <a:off x="838080" y="1251000"/>
            <a:ext cx="7010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m4" descr=""/>
          <p:cNvPicPr/>
          <p:nvPr/>
        </p:nvPicPr>
        <p:blipFill>
          <a:blip r:embed="rId2"/>
          <a:stretch/>
        </p:blipFill>
        <p:spPr>
          <a:xfrm>
            <a:off x="533520" y="770040"/>
            <a:ext cx="81532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sequí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evante en términos ecológicos, económicos, humanos, et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lasificación de sequí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limát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idrológ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grícol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sequí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6765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étodos estadí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neración sintética de series hidrológ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uración, sever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ndices de severidad de sequí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DS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P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1-australia.drought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4511880" cy="2809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0" y="6095880"/>
            <a:ext cx="41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3"/>
              </a:rPr>
              <a:t>http://www.drought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4"/>
              </a:rPr>
              <a:t>unl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7"/>
              </a:rPr>
              <a:t>/index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8"/>
              </a:rPr>
              <a:t>ht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ocariosediment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181480" cy="3898800"/>
          </a:xfrm>
          <a:prstGeom prst="rect">
            <a:avLst/>
          </a:prstGeom>
          <a:ln w="0">
            <a:noFill/>
          </a:ln>
        </p:spPr>
      </p:pic>
      <p:pic>
        <p:nvPicPr>
          <p:cNvPr id="90" name="PIA02647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hoover2_dam_1" descr=""/>
          <p:cNvPicPr/>
          <p:nvPr/>
        </p:nvPicPr>
        <p:blipFill>
          <a:blip r:embed="rId2"/>
          <a:stretch/>
        </p:blipFill>
        <p:spPr>
          <a:xfrm>
            <a:off x="2311560" y="380880"/>
            <a:ext cx="4155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Generación de ero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6765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fecto lluv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gía proporcional a d</a:t>
            </a:r>
            <a:r>
              <a:rPr b="0" lang="es-CL" sz="32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vimiento neto partículas pendiente aba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ph80118sediment" descr=""/>
          <p:cNvPicPr/>
          <p:nvPr/>
        </p:nvPicPr>
        <p:blipFill>
          <a:blip r:embed="rId2"/>
          <a:stretch/>
        </p:blipFill>
        <p:spPr>
          <a:xfrm>
            <a:off x="2209680" y="3581280"/>
            <a:ext cx="4648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nsporte de sedimen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porte en suspen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porte de fon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Sediment%20transport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5851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nsporte en suspen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canism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positación – Ley de Stok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urbulencia – efecto neto ascend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ormulas empiric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lcular para varios diámetros y superpon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m1" descr=""/>
          <p:cNvPicPr/>
          <p:nvPr/>
        </p:nvPicPr>
        <p:blipFill>
          <a:blip r:embed="rId2"/>
          <a:stretch/>
        </p:blipFill>
        <p:spPr>
          <a:xfrm>
            <a:off x="457200" y="393840"/>
            <a:ext cx="83818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2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746784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nsporte de fon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órmula DuBoys y otr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uposición esfuerzo de corte cr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gnoran conceptos turbulencia y capa lím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01T15:29:54Z</dcterms:modified>
  <cp:revision>71</cp:revision>
  <dc:subject/>
  <dc:title>PowerPoint Presentation</dc:title>
</cp:coreProperties>
</file>