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D04-DDA9-4E3F-9D93-2683B5E2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F1E-02F4-41B0-B262-62BE60FE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7AE-B4C9-48FC-9E6E-CB77EBE9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5B5-3CF4-4FE8-A49E-32BA9C19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8773-CE3F-469E-B609-06F4C664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FBD2-0160-4EE5-A930-FB4E14C9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B0C2-1714-49BA-AF8C-AEE5F8D5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2137-D7C5-4EAB-A388-AF0BF837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B300-7925-4BB8-BE99-D8C32D2F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4999-7D7A-4E17-8175-F5FE50A8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CC53-496D-4013-A84D-205AE3BC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BAD2-54CC-480F-BC7F-4EB264F5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8A78-E040-4A87-B375-BD2130E6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ACC1-8F3A-4F84-A56F-8DA97C20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914B-00FC-48B4-8540-843660FD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41F5-E837-4789-A01D-9EA148E0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3B82-1B6F-4DC3-BF13-5571EB11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CDB-5EA3-431C-81CD-225CD1C2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169-2750-4A09-B5A5-A100E9CD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C4F-659B-4D8C-BC54-95F6894F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2ED-88FF-432E-93F4-892727BB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162-83BE-4B2D-B3DA-8A35F970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FFC-F65E-4DAF-9CDB-800E9F7D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47D-A6B9-420E-8585-2F4C8ABA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A644-B194-4FC2-8952-DACB31F4FDE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3B97-96A1-4EA3-9FFB-F6B19D3E562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hydromodel.com/" TargetMode="External"/><Relationship Id="rId3" Type="http://schemas.openxmlformats.org/officeDocument/2006/relationships/hyperlink" Target="http://www.emrl.byu.edu/wms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delos de simulaci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ón hidrológic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xpresiones matemáticas que describen una o varias componentes del ciclo hidrológ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atos entra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cuacion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arámetr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atos sali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alibr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timación man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Visu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xperienc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timación automát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apidez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Objetivi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alibración automática o modelación invers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unción objetiv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lgoritmo optimiz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riterio de térmi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atos para calibr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Valid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 veces, modelos que reproducen bien los datos de calibración fallan en reproducir el período de valid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Problemas asociados con calibr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arias regiones de atracción de convergencia de algoritm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arios mínimos loc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unción objetivo no suave o discontinua en espacio multiparámetr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ámetros muestran interacción y varios niveles de sensibi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uperficie de respuesta es no-convex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66436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jemplo: modelo cuencas pluviales (Ferrer et al. 1973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0"/>
            <a:ext cx="7010280" cy="6936480"/>
            <a:chOff x="1066680" y="0"/>
            <a:chExt cx="7010280" cy="6936480"/>
          </a:xfrm>
        </p:grpSpPr>
        <p:graphicFrame>
          <p:nvGraphicFramePr>
            <p:cNvPr id="157" name=""/>
            <p:cNvGraphicFramePr/>
            <p:nvPr/>
          </p:nvGraphicFramePr>
          <p:xfrm>
            <a:off x="1066680" y="0"/>
            <a:ext cx="7010280" cy="68580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66680" y="0"/>
                      <a:ext cx="7010280" cy="68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>
              <a:off x="1066680" y="6629400"/>
              <a:ext cx="7010280" cy="228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95880" y="662940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Escorrentía Total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058360" y="11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9920" y="990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39960" y="838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Cma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2000" y="2438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Por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10600" y="22860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Plim, 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3480" y="449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2"/>
          </p:cNvPr>
          <p:cNvSpPr/>
          <p:nvPr/>
        </p:nvSpPr>
        <p:spPr>
          <a:xfrm>
            <a:off x="682920" y="1752480"/>
            <a:ext cx="38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www.hydromodel.com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>
            <a:hlinkClick r:id="rId3"/>
          </p:cNvPr>
          <p:cNvSpPr/>
          <p:nvPr/>
        </p:nvSpPr>
        <p:spPr>
          <a:xfrm>
            <a:off x="682560" y="2514600"/>
            <a:ext cx="44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www.emrl.byu.edu/wm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Us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scripción sistema fís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edicción comportamiento sistema físico frente a cambios climát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valuación alternativas de gestión de recursos natur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lasificación según descripción proces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1828800"/>
            <a:ext cx="182880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Proces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352680"/>
            <a:ext cx="182880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Agreg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3352680"/>
            <a:ext cx="182880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Distribuí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5257800"/>
            <a:ext cx="198144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Determin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5257800"/>
            <a:ext cx="182880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Estocá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5257800"/>
            <a:ext cx="182880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Combin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2" idx="2"/>
            <a:endCxn id="93" idx="0"/>
          </p:cNvCxnSpPr>
          <p:nvPr/>
        </p:nvCxnSpPr>
        <p:spPr>
          <a:xfrm rot="5400000">
            <a:off x="3009240" y="1866960"/>
            <a:ext cx="762480" cy="2210400"/>
          </a:xfrm>
          <a:prstGeom prst="bentConnector3">
            <a:avLst>
              <a:gd name="adj1" fmla="val 49976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99" name=""/>
          <p:cNvCxnSpPr>
            <a:stCxn id="92" idx="2"/>
            <a:endCxn id="94" idx="0"/>
          </p:cNvCxnSpPr>
          <p:nvPr/>
        </p:nvCxnSpPr>
        <p:spPr>
          <a:xfrm flipH="1" rot="16200000">
            <a:off x="5295960" y="1790280"/>
            <a:ext cx="762480" cy="2363040"/>
          </a:xfrm>
          <a:prstGeom prst="bentConnector3">
            <a:avLst>
              <a:gd name="adj1" fmla="val 49976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00" name=""/>
          <p:cNvCxnSpPr>
            <a:stCxn id="93" idx="2"/>
            <a:endCxn id="94" idx="2"/>
          </p:cNvCxnSpPr>
          <p:nvPr/>
        </p:nvCxnSpPr>
        <p:spPr>
          <a:xfrm flipH="1" rot="16200000">
            <a:off x="4571280" y="1829160"/>
            <a:ext cx="2160" cy="4572720"/>
          </a:xfrm>
          <a:prstGeom prst="bentConnector3">
            <a:avLst>
              <a:gd name="adj1" fmla="val 2598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01" name=""/>
          <p:cNvCxnSpPr>
            <a:stCxn id="95" idx="0"/>
            <a:endCxn id="96" idx="0"/>
          </p:cNvCxnSpPr>
          <p:nvPr/>
        </p:nvCxnSpPr>
        <p:spPr>
          <a:xfrm flipH="1" rot="16200000">
            <a:off x="2971080" y="3657960"/>
            <a:ext cx="2160" cy="320112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02" name=""/>
          <p:cNvCxnSpPr>
            <a:stCxn id="96" idx="0"/>
            <a:endCxn id="97" idx="0"/>
          </p:cNvCxnSpPr>
          <p:nvPr/>
        </p:nvCxnSpPr>
        <p:spPr>
          <a:xfrm flipH="1" rot="16200000">
            <a:off x="6057000" y="3772440"/>
            <a:ext cx="2160" cy="297252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lasificación según escal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1828800"/>
            <a:ext cx="18288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Esca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3124080"/>
            <a:ext cx="1828800" cy="3812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Espac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3124080"/>
            <a:ext cx="1828800" cy="3812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191120"/>
            <a:ext cx="1981080" cy="3808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Distribu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4191120"/>
            <a:ext cx="18288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Ev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4191120"/>
            <a:ext cx="18288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Continu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2"/>
            <a:endCxn id="105" idx="0"/>
          </p:cNvCxnSpPr>
          <p:nvPr/>
        </p:nvCxnSpPr>
        <p:spPr>
          <a:xfrm rot="5400000">
            <a:off x="2589840" y="1218960"/>
            <a:ext cx="838800" cy="2972520"/>
          </a:xfrm>
          <a:prstGeom prst="bentConnector3">
            <a:avLst>
              <a:gd name="adj1" fmla="val 49978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11" name=""/>
          <p:cNvCxnSpPr>
            <a:stCxn id="104" idx="2"/>
            <a:endCxn id="106" idx="0"/>
          </p:cNvCxnSpPr>
          <p:nvPr/>
        </p:nvCxnSpPr>
        <p:spPr>
          <a:xfrm flipH="1" rot="16200000">
            <a:off x="4914000" y="1866600"/>
            <a:ext cx="838800" cy="1677240"/>
          </a:xfrm>
          <a:prstGeom prst="bentConnector3">
            <a:avLst>
              <a:gd name="adj1" fmla="val 49978"/>
            </a:avLst>
          </a:prstGeom>
          <a:ln w="9360">
            <a:solidFill>
              <a:srgbClr val="ffffcc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7010280" y="4191120"/>
            <a:ext cx="18288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Largo plaz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181480"/>
            <a:ext cx="1828800" cy="5335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Peque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5181480"/>
            <a:ext cx="1828800" cy="6098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Media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5181480"/>
            <a:ext cx="1828800" cy="6098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Gran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05" idx="2"/>
            <a:endCxn id="107" idx="0"/>
          </p:cNvCxnSpPr>
          <p:nvPr/>
        </p:nvCxnSpPr>
        <p:spPr>
          <a:xfrm rot="5400000">
            <a:off x="1065960" y="3733560"/>
            <a:ext cx="686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17" name=""/>
          <p:cNvCxnSpPr>
            <a:stCxn id="107" idx="2"/>
            <a:endCxn id="113" idx="0"/>
          </p:cNvCxnSpPr>
          <p:nvPr/>
        </p:nvCxnSpPr>
        <p:spPr>
          <a:xfrm flipH="1" rot="16200000">
            <a:off x="1295280" y="4571280"/>
            <a:ext cx="610200" cy="61056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18" name=""/>
          <p:cNvCxnSpPr>
            <a:stCxn id="107" idx="2"/>
            <a:endCxn id="114" idx="0"/>
          </p:cNvCxnSpPr>
          <p:nvPr/>
        </p:nvCxnSpPr>
        <p:spPr>
          <a:xfrm flipH="1" rot="16200000">
            <a:off x="2475360" y="3390480"/>
            <a:ext cx="610200" cy="297252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19" name=""/>
          <p:cNvCxnSpPr>
            <a:stCxn id="107" idx="2"/>
            <a:endCxn id="115" idx="0"/>
          </p:cNvCxnSpPr>
          <p:nvPr/>
        </p:nvCxnSpPr>
        <p:spPr>
          <a:xfrm flipH="1" rot="16200000">
            <a:off x="3581280" y="2285280"/>
            <a:ext cx="610200" cy="518256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20" name=""/>
          <p:cNvCxnSpPr>
            <a:stCxn id="106" idx="2"/>
            <a:endCxn id="108" idx="0"/>
          </p:cNvCxnSpPr>
          <p:nvPr/>
        </p:nvCxnSpPr>
        <p:spPr>
          <a:xfrm rot="5400000">
            <a:off x="4723920" y="2743200"/>
            <a:ext cx="686520" cy="221040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21" name=""/>
          <p:cNvCxnSpPr>
            <a:stCxn id="106" idx="2"/>
            <a:endCxn id="109" idx="0"/>
          </p:cNvCxnSpPr>
          <p:nvPr/>
        </p:nvCxnSpPr>
        <p:spPr>
          <a:xfrm rot="5400000">
            <a:off x="5714280" y="3733560"/>
            <a:ext cx="686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22" name=""/>
          <p:cNvCxnSpPr>
            <a:stCxn id="106" idx="2"/>
            <a:endCxn id="112" idx="0"/>
          </p:cNvCxnSpPr>
          <p:nvPr/>
        </p:nvCxnSpPr>
        <p:spPr>
          <a:xfrm flipH="1" rot="16200000">
            <a:off x="6705360" y="2971440"/>
            <a:ext cx="686520" cy="175320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lasificación según método de solu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1828800"/>
            <a:ext cx="18288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Méto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124080"/>
            <a:ext cx="1828800" cy="3812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Numér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3124080"/>
            <a:ext cx="1828800" cy="3812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Analí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5" idx="0"/>
          </p:cNvCxnSpPr>
          <p:nvPr/>
        </p:nvCxnSpPr>
        <p:spPr>
          <a:xfrm rot="5400000">
            <a:off x="2589840" y="1218960"/>
            <a:ext cx="838800" cy="2972520"/>
          </a:xfrm>
          <a:prstGeom prst="bentConnector3">
            <a:avLst>
              <a:gd name="adj1" fmla="val 49978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28" name=""/>
          <p:cNvCxnSpPr>
            <a:stCxn id="124" idx="2"/>
            <a:endCxn id="126" idx="0"/>
          </p:cNvCxnSpPr>
          <p:nvPr/>
        </p:nvCxnSpPr>
        <p:spPr>
          <a:xfrm flipH="1" rot="16200000">
            <a:off x="5637960" y="1142640"/>
            <a:ext cx="838800" cy="3125160"/>
          </a:xfrm>
          <a:prstGeom prst="bentConnector3">
            <a:avLst>
              <a:gd name="adj1" fmla="val 49978"/>
            </a:avLst>
          </a:prstGeom>
          <a:ln w="9360">
            <a:solidFill>
              <a:srgbClr val="ffffcc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76320" y="4648320"/>
            <a:ext cx="1676160" cy="6858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Diferencias fini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3124080"/>
            <a:ext cx="1828800" cy="3812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Analóg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4" idx="2"/>
            <a:endCxn id="130" idx="0"/>
          </p:cNvCxnSpPr>
          <p:nvPr/>
        </p:nvCxnSpPr>
        <p:spPr>
          <a:xfrm flipH="1" rot="16200000">
            <a:off x="4456800" y="2323800"/>
            <a:ext cx="838800" cy="762840"/>
          </a:xfrm>
          <a:prstGeom prst="bentConnector3">
            <a:avLst>
              <a:gd name="adj1" fmla="val 49978"/>
            </a:avLst>
          </a:prstGeom>
          <a:ln w="9360">
            <a:solidFill>
              <a:srgbClr val="ffffcc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1905120" y="4648320"/>
            <a:ext cx="1523880" cy="6858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Elementos fini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648320"/>
            <a:ext cx="1600200" cy="6858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Elementos de bor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4648320"/>
            <a:ext cx="1676160" cy="6858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Coordenada fij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4648320"/>
            <a:ext cx="1752840" cy="6858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Combin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25" idx="2"/>
            <a:endCxn id="129" idx="0"/>
          </p:cNvCxnSpPr>
          <p:nvPr/>
        </p:nvCxnSpPr>
        <p:spPr>
          <a:xfrm rot="5400000">
            <a:off x="646920" y="3771720"/>
            <a:ext cx="1143720" cy="61020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37" name=""/>
          <p:cNvCxnSpPr>
            <a:stCxn id="125" idx="2"/>
            <a:endCxn id="132" idx="0"/>
          </p:cNvCxnSpPr>
          <p:nvPr/>
        </p:nvCxnSpPr>
        <p:spPr>
          <a:xfrm flipH="1" rot="16200000">
            <a:off x="1522800" y="3504960"/>
            <a:ext cx="114372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38" name=""/>
          <p:cNvCxnSpPr>
            <a:stCxn id="125" idx="2"/>
            <a:endCxn id="133" idx="0"/>
          </p:cNvCxnSpPr>
          <p:nvPr/>
        </p:nvCxnSpPr>
        <p:spPr>
          <a:xfrm flipH="1" rot="16200000">
            <a:off x="2381040" y="2647440"/>
            <a:ext cx="1143720" cy="285840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39" name=""/>
          <p:cNvCxnSpPr>
            <a:stCxn id="125" idx="2"/>
            <a:endCxn id="134" idx="0"/>
          </p:cNvCxnSpPr>
          <p:nvPr/>
        </p:nvCxnSpPr>
        <p:spPr>
          <a:xfrm flipH="1" rot="16200000">
            <a:off x="3276360" y="1752120"/>
            <a:ext cx="1143720" cy="464904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40" name=""/>
          <p:cNvCxnSpPr>
            <a:stCxn id="125" idx="2"/>
            <a:endCxn id="135" idx="0"/>
          </p:cNvCxnSpPr>
          <p:nvPr/>
        </p:nvCxnSpPr>
        <p:spPr>
          <a:xfrm flipH="1" rot="16200000">
            <a:off x="4248000" y="780480"/>
            <a:ext cx="1143720" cy="659232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tapas construcción model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odelo concept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presentación matemát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alibr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alid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nálisis de sensibi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mage17" descr=""/>
          <p:cNvPicPr/>
          <p:nvPr/>
        </p:nvPicPr>
        <p:blipFill>
          <a:blip r:embed="rId2"/>
          <a:stretch/>
        </p:blipFill>
        <p:spPr>
          <a:xfrm>
            <a:off x="642960" y="257040"/>
            <a:ext cx="785808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mage1" descr=""/>
          <p:cNvPicPr/>
          <p:nvPr/>
        </p:nvPicPr>
        <p:blipFill>
          <a:blip r:embed="rId2"/>
          <a:stretch/>
        </p:blipFill>
        <p:spPr>
          <a:xfrm>
            <a:off x="762120" y="652320"/>
            <a:ext cx="75438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alibr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ámetros físico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j: área de la cuenca, pendientes, fracción impermeable, etc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ámetros de proc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j: prof. efectiva almacenamiento superficial, etc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09-28T15:07:35Z</dcterms:modified>
  <cp:revision>58</cp:revision>
  <dc:subject/>
  <dc:title>PowerPoint Presentation</dc:title>
</cp:coreProperties>
</file>