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C50-9DE1-4ABC-A45C-D3A3705B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7DD-5677-49A2-BB5E-58A54971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D17-B411-4301-94C7-DF5941DF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B60-350E-497B-ABAC-5651A5CC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00CF-6D5B-4FB3-BD6F-569B1F14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01B1-34CD-4348-886F-3A2B95BB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2957-CEB1-40F6-9773-C170A14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86C2-4D59-48EF-982E-C5C62A02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1366-2036-4F29-8F24-EAE4B10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55AF-B16B-47AB-B65A-806B2F7A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C4B4-BFCA-43BB-838C-C5E65BA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AAE-B97E-4278-AD5B-9F0A3C57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C70D-600C-492F-AF58-956D23A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412-E931-4F69-89C8-63F1BDB8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6779-6B09-419E-BD81-3F54AD8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F49-0339-4EAC-81A8-95842F61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57BA-93E1-4AC1-A9BE-20F85DB5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BBC-BE82-4202-9DE7-835DFD78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5B7-8C80-4021-9379-34546AD8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733-2912-4637-B3C3-16A54A6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2DE-321B-4338-85C5-0A710FCB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26B-79DB-4509-A864-684387F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4C9-51EF-4B3A-AECC-14757B2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D87-4730-402D-A15C-D3FE2A6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2C91-FAEE-475B-82C7-527E8F89E5B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0744-504D-427D-AEEA-523F7555572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hydromodel.com/" TargetMode="External"/><Relationship Id="rId3" Type="http://schemas.openxmlformats.org/officeDocument/2006/relationships/hyperlink" Target="http://www.emrl.byu.edu/wms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delos de simul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hidrológ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xpresiones matemáticas que describen una o varias componentes del ciclo hidr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tos entr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cuacio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tos sal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imación m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Vi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xperi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imación automá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apidez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 automática o modelación inver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objetiv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lgoritmo optim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riterio de térmi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atos para calib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Valid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 veces, modelos que reproducen bien los datos de calibración fallan en reproducir el período de valid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oblemas asociados con 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s regiones de atracción de convergencia de algoritm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os mínimos loc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unción objetivo no suave o discontinua en espacio multiparámet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muestran interacción y varios niveles de sen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uperficie de respuesta es no-convex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66436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: modelo cuencas pluviales (Ferrer et al. 1973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0"/>
            <a:ext cx="7010280" cy="6936480"/>
            <a:chOff x="1066680" y="0"/>
            <a:chExt cx="7010280" cy="6936480"/>
          </a:xfrm>
        </p:grpSpPr>
        <p:graphicFrame>
          <p:nvGraphicFramePr>
            <p:cNvPr id="157" name=""/>
            <p:cNvGraphicFramePr/>
            <p:nvPr/>
          </p:nvGraphicFramePr>
          <p:xfrm>
            <a:off x="1066680" y="0"/>
            <a:ext cx="7010280" cy="6858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668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106668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058360" y="11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9920" y="990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9960" y="838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m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000" y="243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or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10600" y="2286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lim, 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34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/>
          </p:cNvPr>
          <p:cNvSpPr/>
          <p:nvPr/>
        </p:nvSpPr>
        <p:spPr>
          <a:xfrm>
            <a:off x="682920" y="175248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hydromodel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>
            <a:hlinkClick r:id="rId3"/>
          </p:cNvPr>
          <p:cNvSpPr/>
          <p:nvPr/>
        </p:nvSpPr>
        <p:spPr>
          <a:xfrm>
            <a:off x="682560" y="25146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emrl.byu.edu/wm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Us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scripción sistema fí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dicción comportamiento sistema físico frente a cambios climá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aluación alternativas de gestión de recursos natur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descripción proces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1828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35268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greg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35268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stribuí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257800"/>
            <a:ext cx="198144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etermin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257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tocá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182880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mbin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2" idx="2"/>
            <a:endCxn id="93" idx="0"/>
          </p:cNvCxnSpPr>
          <p:nvPr/>
        </p:nvCxnSpPr>
        <p:spPr>
          <a:xfrm rot="5400000">
            <a:off x="3009240" y="1866960"/>
            <a:ext cx="762480" cy="2210400"/>
          </a:xfrm>
          <a:prstGeom prst="bentConnector3">
            <a:avLst>
              <a:gd name="adj1" fmla="val 49976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99" name=""/>
          <p:cNvCxnSpPr>
            <a:stCxn id="92" idx="2"/>
            <a:endCxn id="94" idx="0"/>
          </p:cNvCxnSpPr>
          <p:nvPr/>
        </p:nvCxnSpPr>
        <p:spPr>
          <a:xfrm flipH="1" rot="16200000">
            <a:off x="5295960" y="1790280"/>
            <a:ext cx="762480" cy="2363040"/>
          </a:xfrm>
          <a:prstGeom prst="bentConnector3">
            <a:avLst>
              <a:gd name="adj1" fmla="val 49976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0" name=""/>
          <p:cNvCxnSpPr>
            <a:stCxn id="93" idx="2"/>
            <a:endCxn id="94" idx="2"/>
          </p:cNvCxnSpPr>
          <p:nvPr/>
        </p:nvCxnSpPr>
        <p:spPr>
          <a:xfrm flipH="1" rot="16200000">
            <a:off x="4571280" y="1829160"/>
            <a:ext cx="2160" cy="4572720"/>
          </a:xfrm>
          <a:prstGeom prst="bentConnector3">
            <a:avLst>
              <a:gd name="adj1" fmla="val 2598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1" name=""/>
          <p:cNvCxnSpPr>
            <a:stCxn id="95" idx="0"/>
            <a:endCxn id="96" idx="0"/>
          </p:cNvCxnSpPr>
          <p:nvPr/>
        </p:nvCxnSpPr>
        <p:spPr>
          <a:xfrm flipH="1" rot="16200000">
            <a:off x="2971080" y="3657960"/>
            <a:ext cx="2160" cy="32011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02" name=""/>
          <p:cNvCxnSpPr>
            <a:stCxn id="96" idx="0"/>
            <a:endCxn id="97" idx="0"/>
          </p:cNvCxnSpPr>
          <p:nvPr/>
        </p:nvCxnSpPr>
        <p:spPr>
          <a:xfrm flipH="1" rot="16200000">
            <a:off x="6057000" y="3772440"/>
            <a:ext cx="2160" cy="29725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escal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1828800"/>
            <a:ext cx="1828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ca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124080"/>
            <a:ext cx="1828800" cy="3812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spac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191120"/>
            <a:ext cx="1981080" cy="3808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stribu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v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2"/>
            <a:endCxn id="105" idx="0"/>
          </p:cNvCxnSpPr>
          <p:nvPr/>
        </p:nvCxnSpPr>
        <p:spPr>
          <a:xfrm rot="5400000">
            <a:off x="2589840" y="1218960"/>
            <a:ext cx="838800" cy="297252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1" name=""/>
          <p:cNvCxnSpPr>
            <a:stCxn id="104" idx="2"/>
            <a:endCxn id="106" idx="0"/>
          </p:cNvCxnSpPr>
          <p:nvPr/>
        </p:nvCxnSpPr>
        <p:spPr>
          <a:xfrm flipH="1" rot="16200000">
            <a:off x="4914000" y="1866600"/>
            <a:ext cx="838800" cy="167724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7010280" y="4191120"/>
            <a:ext cx="18288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Larg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81480"/>
            <a:ext cx="1828800" cy="533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181480"/>
            <a:ext cx="182880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181480"/>
            <a:ext cx="182880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Gran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5" idx="2"/>
            <a:endCxn id="107" idx="0"/>
          </p:cNvCxnSpPr>
          <p:nvPr/>
        </p:nvCxnSpPr>
        <p:spPr>
          <a:xfrm rot="5400000">
            <a:off x="1065960" y="37335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7" name=""/>
          <p:cNvCxnSpPr>
            <a:stCxn id="107" idx="2"/>
            <a:endCxn id="113" idx="0"/>
          </p:cNvCxnSpPr>
          <p:nvPr/>
        </p:nvCxnSpPr>
        <p:spPr>
          <a:xfrm flipH="1" rot="16200000">
            <a:off x="1295280" y="4571280"/>
            <a:ext cx="61020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8" name=""/>
          <p:cNvCxnSpPr>
            <a:stCxn id="107" idx="2"/>
            <a:endCxn id="114" idx="0"/>
          </p:cNvCxnSpPr>
          <p:nvPr/>
        </p:nvCxnSpPr>
        <p:spPr>
          <a:xfrm flipH="1" rot="16200000">
            <a:off x="2475360" y="3390480"/>
            <a:ext cx="610200" cy="29725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19" name=""/>
          <p:cNvCxnSpPr>
            <a:stCxn id="107" idx="2"/>
            <a:endCxn id="115" idx="0"/>
          </p:cNvCxnSpPr>
          <p:nvPr/>
        </p:nvCxnSpPr>
        <p:spPr>
          <a:xfrm flipH="1" rot="16200000">
            <a:off x="3581280" y="2285280"/>
            <a:ext cx="610200" cy="51825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0" name=""/>
          <p:cNvCxnSpPr>
            <a:stCxn id="106" idx="2"/>
            <a:endCxn id="108" idx="0"/>
          </p:cNvCxnSpPr>
          <p:nvPr/>
        </p:nvCxnSpPr>
        <p:spPr>
          <a:xfrm rot="5400000">
            <a:off x="4723920" y="2743200"/>
            <a:ext cx="686520" cy="22104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1" name=""/>
          <p:cNvCxnSpPr>
            <a:stCxn id="106" idx="2"/>
            <a:endCxn id="109" idx="0"/>
          </p:cNvCxnSpPr>
          <p:nvPr/>
        </p:nvCxnSpPr>
        <p:spPr>
          <a:xfrm rot="5400000">
            <a:off x="5714280" y="3733560"/>
            <a:ext cx="686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2" name=""/>
          <p:cNvCxnSpPr>
            <a:stCxn id="106" idx="2"/>
            <a:endCxn id="112" idx="0"/>
          </p:cNvCxnSpPr>
          <p:nvPr/>
        </p:nvCxnSpPr>
        <p:spPr>
          <a:xfrm flipH="1" rot="16200000">
            <a:off x="6705360" y="2971440"/>
            <a:ext cx="686520" cy="17532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según método de solu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1828800"/>
            <a:ext cx="1828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Méto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124080"/>
            <a:ext cx="1828800" cy="3812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Numé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nalí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5" idx="0"/>
          </p:cNvCxnSpPr>
          <p:nvPr/>
        </p:nvCxnSpPr>
        <p:spPr>
          <a:xfrm rot="5400000">
            <a:off x="2589840" y="1218960"/>
            <a:ext cx="838800" cy="297252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28" name=""/>
          <p:cNvCxnSpPr>
            <a:stCxn id="124" idx="2"/>
            <a:endCxn id="126" idx="0"/>
          </p:cNvCxnSpPr>
          <p:nvPr/>
        </p:nvCxnSpPr>
        <p:spPr>
          <a:xfrm flipH="1" rot="16200000">
            <a:off x="5637960" y="1142640"/>
            <a:ext cx="838800" cy="312516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76320" y="4648320"/>
            <a:ext cx="167616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Diferencias fini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4080"/>
            <a:ext cx="18288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Analóg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4" idx="2"/>
            <a:endCxn id="130" idx="0"/>
          </p:cNvCxnSpPr>
          <p:nvPr/>
        </p:nvCxnSpPr>
        <p:spPr>
          <a:xfrm flipH="1" rot="16200000">
            <a:off x="4456800" y="2323800"/>
            <a:ext cx="838800" cy="762840"/>
          </a:xfrm>
          <a:prstGeom prst="bentConnector3">
            <a:avLst>
              <a:gd name="adj1" fmla="val 49978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1905120" y="4648320"/>
            <a:ext cx="152388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lementos fin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648320"/>
            <a:ext cx="160020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Elementos de bor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648320"/>
            <a:ext cx="167616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ordenada fi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4648320"/>
            <a:ext cx="1752840" cy="6858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imes New Roman"/>
              </a:rPr>
              <a:t>Combin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5" idx="2"/>
            <a:endCxn id="129" idx="0"/>
          </p:cNvCxnSpPr>
          <p:nvPr/>
        </p:nvCxnSpPr>
        <p:spPr>
          <a:xfrm rot="5400000">
            <a:off x="646920" y="3771720"/>
            <a:ext cx="114372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7" name=""/>
          <p:cNvCxnSpPr>
            <a:stCxn id="125" idx="2"/>
            <a:endCxn id="132" idx="0"/>
          </p:cNvCxnSpPr>
          <p:nvPr/>
        </p:nvCxnSpPr>
        <p:spPr>
          <a:xfrm flipH="1" rot="16200000">
            <a:off x="1522800" y="3504960"/>
            <a:ext cx="11437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8" name=""/>
          <p:cNvCxnSpPr>
            <a:stCxn id="125" idx="2"/>
            <a:endCxn id="133" idx="0"/>
          </p:cNvCxnSpPr>
          <p:nvPr/>
        </p:nvCxnSpPr>
        <p:spPr>
          <a:xfrm flipH="1" rot="16200000">
            <a:off x="2381040" y="2647440"/>
            <a:ext cx="1143720" cy="285840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39" name=""/>
          <p:cNvCxnSpPr>
            <a:stCxn id="125" idx="2"/>
            <a:endCxn id="134" idx="0"/>
          </p:cNvCxnSpPr>
          <p:nvPr/>
        </p:nvCxnSpPr>
        <p:spPr>
          <a:xfrm flipH="1" rot="16200000">
            <a:off x="3276360" y="1752120"/>
            <a:ext cx="1143720" cy="464904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40" name=""/>
          <p:cNvCxnSpPr>
            <a:stCxn id="125" idx="2"/>
            <a:endCxn id="135" idx="0"/>
          </p:cNvCxnSpPr>
          <p:nvPr/>
        </p:nvCxnSpPr>
        <p:spPr>
          <a:xfrm flipH="1" rot="16200000">
            <a:off x="4248000" y="780480"/>
            <a:ext cx="1143720" cy="659232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tapas construcción model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 concept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presentación matemá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libr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lid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nálisis de sen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17" descr=""/>
          <p:cNvPicPr/>
          <p:nvPr/>
        </p:nvPicPr>
        <p:blipFill>
          <a:blip r:embed="rId2"/>
          <a:stretch/>
        </p:blipFill>
        <p:spPr>
          <a:xfrm>
            <a:off x="642960" y="257040"/>
            <a:ext cx="78580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1" descr=""/>
          <p:cNvPicPr/>
          <p:nvPr/>
        </p:nvPicPr>
        <p:blipFill>
          <a:blip r:embed="rId2"/>
          <a:stretch/>
        </p:blipFill>
        <p:spPr>
          <a:xfrm>
            <a:off x="762120" y="652320"/>
            <a:ext cx="75438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lib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físico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j: área de la cuenca, pendientes, fracción impermeable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ámetros de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j: prof. efectiva almacenamiento superficial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8T15:07:35Z</dcterms:modified>
  <cp:revision>58</cp:revision>
  <dc:subject/>
  <dc:title>PowerPoint Presentation</dc:title>
</cp:coreProperties>
</file>