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4178-9819-47FC-B5DE-2626A671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45EC-7ACA-419B-86F4-29F8274F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C85B-9AC0-41AC-AC73-865618F20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24E3-1BDB-4283-84DA-E080C0D8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11E5-B98E-4997-B534-53ED639E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5EC5-A5E6-4984-9BB4-AD36184A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F2C1-1910-42E2-A4E2-875B49D6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017D-78A7-492F-B2E4-2EB780E9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5739-2F40-40F5-9211-C9DD8B29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0ADF-342A-4D7F-8564-C8E088DE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7301-FC3D-4606-96E2-427ACB1C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9C97-301F-4437-9778-AB482A4E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2421-E7B7-4F92-A017-E418687A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4578-3734-466C-9FA0-0D469FB2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B27A-FF1B-4CA7-9218-7EFB1DB5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769A-5FC9-4BC9-BCFB-B80ABC1D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49D4-66DF-4067-BF92-5F0555DA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93A8-ADF7-4186-8237-F6D0BA8E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DFF7-43BB-436C-A049-0B77AE15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746B-B4A3-4C6D-BC4F-B7AE90E7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579E-C9D0-4D64-9E1B-EE8F986C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9488-F05C-467E-AF0C-9EA731DD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D831-398C-46DF-9342-270FE733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F11B-7BAF-4802-BCA0-DD3D2BAF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371600"/>
            <a:ext cx="9148680" cy="5105160"/>
            <a:chOff x="-7920" y="1371600"/>
            <a:chExt cx="9148680" cy="510516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394680"/>
              <a:ext cx="3143160" cy="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371600"/>
              <a:ext cx="4495680" cy="10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1C2B-3888-48FD-92CC-3036BC35DB87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9462-6381-4CD3-84C2-4FA38FFE044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hydromodel.com/" TargetMode="External"/><Relationship Id="rId3" Type="http://schemas.openxmlformats.org/officeDocument/2006/relationships/hyperlink" Target="http://www.emrl.byu.edu/wms.ht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odelos de simulaci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ón hidrológic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xpresiones matemáticas que describen una o varias componentes del ciclo hidrológ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atos entrad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cuacion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arámetr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atos salid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alibr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stimación manu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Visu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xperienci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stimación automátic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apidez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Objetivida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alibración automática o modelación invers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Función objetiv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Algoritmo optimiz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riterio de términ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atos para calibr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Valid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A veces, modelos que reproducen bien los datos de calibración fallan en reproducir el período de valid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Problemas asociados con calibr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arias regiones de atracción de convergencia de algoritm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arios mínimos loca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Función objetivo no suave o discontinua en espacio multiparámetr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arámetros muestran interacción y varios niveles de sensibilida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uperficie de respuesta es no-convex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266436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Ejemplo: modelo cuencas pluviales (Ferrer et al. 1973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066680" y="0"/>
            <a:ext cx="7010280" cy="6936480"/>
            <a:chOff x="1066680" y="0"/>
            <a:chExt cx="7010280" cy="6936480"/>
          </a:xfrm>
        </p:grpSpPr>
        <p:graphicFrame>
          <p:nvGraphicFramePr>
            <p:cNvPr id="157" name=""/>
            <p:cNvGraphicFramePr/>
            <p:nvPr/>
          </p:nvGraphicFramePr>
          <p:xfrm>
            <a:off x="1066680" y="0"/>
            <a:ext cx="7010280" cy="685800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066680" y="0"/>
                      <a:ext cx="7010280" cy="685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9" name=""/>
            <p:cNvSpPr/>
            <p:nvPr/>
          </p:nvSpPr>
          <p:spPr>
            <a:xfrm>
              <a:off x="1066680" y="6629400"/>
              <a:ext cx="7010280" cy="228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95880" y="662940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Escorrentía Total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058360" y="11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09920" y="990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239960" y="8380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Cma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2000" y="24382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Por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10600" y="22860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Plim, 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93480" y="4495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>
            <a:hlinkClick r:id="rId2"/>
          </p:cNvPr>
          <p:cNvSpPr/>
          <p:nvPr/>
        </p:nvSpPr>
        <p:spPr>
          <a:xfrm>
            <a:off x="682920" y="1752480"/>
            <a:ext cx="38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www.hydromodel.com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>
            <a:hlinkClick r:id="rId3"/>
          </p:cNvPr>
          <p:cNvSpPr/>
          <p:nvPr/>
        </p:nvSpPr>
        <p:spPr>
          <a:xfrm>
            <a:off x="682560" y="2514600"/>
            <a:ext cx="44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www.emrl.byu.edu/wm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Uso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escripción sistema fís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edicción comportamiento sistema físico frente a cambios climátic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valuación alternativas de gestión de recursos natura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lasificación según descripción proces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1828800"/>
            <a:ext cx="1828800" cy="7621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Proces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352680"/>
            <a:ext cx="1828800" cy="7621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Agreg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43600" y="3352680"/>
            <a:ext cx="1828800" cy="7621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Distribuí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5257800"/>
            <a:ext cx="1981440" cy="7621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Determin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5257800"/>
            <a:ext cx="1828800" cy="7621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Estocá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29400" y="5257800"/>
            <a:ext cx="1828800" cy="7621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Combin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2" idx="2"/>
            <a:endCxn id="93" idx="0"/>
          </p:cNvCxnSpPr>
          <p:nvPr/>
        </p:nvCxnSpPr>
        <p:spPr>
          <a:xfrm rot="5400000">
            <a:off x="3009240" y="1866960"/>
            <a:ext cx="762480" cy="2210400"/>
          </a:xfrm>
          <a:prstGeom prst="bentConnector3">
            <a:avLst>
              <a:gd name="adj1" fmla="val 49976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99" name=""/>
          <p:cNvCxnSpPr>
            <a:stCxn id="92" idx="2"/>
            <a:endCxn id="94" idx="0"/>
          </p:cNvCxnSpPr>
          <p:nvPr/>
        </p:nvCxnSpPr>
        <p:spPr>
          <a:xfrm flipH="1" rot="16200000">
            <a:off x="5295960" y="1790280"/>
            <a:ext cx="762480" cy="2363040"/>
          </a:xfrm>
          <a:prstGeom prst="bentConnector3">
            <a:avLst>
              <a:gd name="adj1" fmla="val 49976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00" name=""/>
          <p:cNvCxnSpPr>
            <a:stCxn id="93" idx="2"/>
            <a:endCxn id="94" idx="2"/>
          </p:cNvCxnSpPr>
          <p:nvPr/>
        </p:nvCxnSpPr>
        <p:spPr>
          <a:xfrm flipH="1" rot="16200000">
            <a:off x="4571280" y="1829160"/>
            <a:ext cx="2160" cy="4572720"/>
          </a:xfrm>
          <a:prstGeom prst="bentConnector3">
            <a:avLst>
              <a:gd name="adj1" fmla="val 25980000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01" name=""/>
          <p:cNvCxnSpPr>
            <a:stCxn id="95" idx="0"/>
            <a:endCxn id="96" idx="0"/>
          </p:cNvCxnSpPr>
          <p:nvPr/>
        </p:nvCxnSpPr>
        <p:spPr>
          <a:xfrm flipH="1" rot="16200000">
            <a:off x="2971080" y="3657960"/>
            <a:ext cx="2160" cy="320112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02" name=""/>
          <p:cNvCxnSpPr>
            <a:stCxn id="96" idx="0"/>
            <a:endCxn id="97" idx="0"/>
          </p:cNvCxnSpPr>
          <p:nvPr/>
        </p:nvCxnSpPr>
        <p:spPr>
          <a:xfrm flipH="1" rot="16200000">
            <a:off x="6057000" y="3772440"/>
            <a:ext cx="2160" cy="297252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cc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lasificación según escala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81280" y="1828800"/>
            <a:ext cx="18288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Esca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3124080"/>
            <a:ext cx="1828800" cy="38124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Espaci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57800" y="3124080"/>
            <a:ext cx="1828800" cy="38124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191120"/>
            <a:ext cx="1981080" cy="3808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Distribu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4191120"/>
            <a:ext cx="18288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Ev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4191120"/>
            <a:ext cx="18288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Continu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4" idx="2"/>
            <a:endCxn id="105" idx="0"/>
          </p:cNvCxnSpPr>
          <p:nvPr/>
        </p:nvCxnSpPr>
        <p:spPr>
          <a:xfrm rot="5400000">
            <a:off x="2589840" y="1218960"/>
            <a:ext cx="838800" cy="2972520"/>
          </a:xfrm>
          <a:prstGeom prst="bentConnector3">
            <a:avLst>
              <a:gd name="adj1" fmla="val 49978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11" name=""/>
          <p:cNvCxnSpPr>
            <a:stCxn id="104" idx="2"/>
            <a:endCxn id="106" idx="0"/>
          </p:cNvCxnSpPr>
          <p:nvPr/>
        </p:nvCxnSpPr>
        <p:spPr>
          <a:xfrm flipH="1" rot="16200000">
            <a:off x="4914000" y="1866600"/>
            <a:ext cx="838800" cy="1677240"/>
          </a:xfrm>
          <a:prstGeom prst="bentConnector3">
            <a:avLst>
              <a:gd name="adj1" fmla="val 49978"/>
            </a:avLst>
          </a:prstGeom>
          <a:ln w="9360">
            <a:solidFill>
              <a:srgbClr val="ffffcc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7010280" y="4191120"/>
            <a:ext cx="18288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Largo plaz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5181480"/>
            <a:ext cx="1828800" cy="53352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Pequeñ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5181480"/>
            <a:ext cx="1828800" cy="60984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Media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5181480"/>
            <a:ext cx="1828800" cy="60984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Gran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05" idx="2"/>
            <a:endCxn id="107" idx="0"/>
          </p:cNvCxnSpPr>
          <p:nvPr/>
        </p:nvCxnSpPr>
        <p:spPr>
          <a:xfrm rot="5400000">
            <a:off x="1065960" y="3733560"/>
            <a:ext cx="686520" cy="229320"/>
          </a:xfrm>
          <a:prstGeom prst="bentConnector3">
            <a:avLst>
              <a:gd name="adj1" fmla="val 50000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17" name=""/>
          <p:cNvCxnSpPr>
            <a:stCxn id="107" idx="2"/>
            <a:endCxn id="113" idx="0"/>
          </p:cNvCxnSpPr>
          <p:nvPr/>
        </p:nvCxnSpPr>
        <p:spPr>
          <a:xfrm flipH="1" rot="16200000">
            <a:off x="1295280" y="4571280"/>
            <a:ext cx="610200" cy="610560"/>
          </a:xfrm>
          <a:prstGeom prst="bentConnector3">
            <a:avLst>
              <a:gd name="adj1" fmla="val 50000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18" name=""/>
          <p:cNvCxnSpPr>
            <a:stCxn id="107" idx="2"/>
            <a:endCxn id="114" idx="0"/>
          </p:cNvCxnSpPr>
          <p:nvPr/>
        </p:nvCxnSpPr>
        <p:spPr>
          <a:xfrm flipH="1" rot="16200000">
            <a:off x="2475360" y="3390480"/>
            <a:ext cx="610200" cy="2972520"/>
          </a:xfrm>
          <a:prstGeom prst="bentConnector3">
            <a:avLst>
              <a:gd name="adj1" fmla="val 50000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19" name=""/>
          <p:cNvCxnSpPr>
            <a:stCxn id="107" idx="2"/>
            <a:endCxn id="115" idx="0"/>
          </p:cNvCxnSpPr>
          <p:nvPr/>
        </p:nvCxnSpPr>
        <p:spPr>
          <a:xfrm flipH="1" rot="16200000">
            <a:off x="3581280" y="2285280"/>
            <a:ext cx="610200" cy="5182560"/>
          </a:xfrm>
          <a:prstGeom prst="bentConnector3">
            <a:avLst>
              <a:gd name="adj1" fmla="val 50000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20" name=""/>
          <p:cNvCxnSpPr>
            <a:stCxn id="106" idx="2"/>
            <a:endCxn id="108" idx="0"/>
          </p:cNvCxnSpPr>
          <p:nvPr/>
        </p:nvCxnSpPr>
        <p:spPr>
          <a:xfrm rot="5400000">
            <a:off x="4723920" y="2743200"/>
            <a:ext cx="686520" cy="2210400"/>
          </a:xfrm>
          <a:prstGeom prst="bentConnector3">
            <a:avLst>
              <a:gd name="adj1" fmla="val 50000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21" name=""/>
          <p:cNvCxnSpPr>
            <a:stCxn id="106" idx="2"/>
            <a:endCxn id="109" idx="0"/>
          </p:cNvCxnSpPr>
          <p:nvPr/>
        </p:nvCxnSpPr>
        <p:spPr>
          <a:xfrm rot="5400000">
            <a:off x="5714280" y="3733560"/>
            <a:ext cx="686520" cy="229320"/>
          </a:xfrm>
          <a:prstGeom prst="bentConnector3">
            <a:avLst>
              <a:gd name="adj1" fmla="val 50000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22" name=""/>
          <p:cNvCxnSpPr>
            <a:stCxn id="106" idx="2"/>
            <a:endCxn id="112" idx="0"/>
          </p:cNvCxnSpPr>
          <p:nvPr/>
        </p:nvCxnSpPr>
        <p:spPr>
          <a:xfrm flipH="1" rot="16200000">
            <a:off x="6705360" y="2971440"/>
            <a:ext cx="686520" cy="1753200"/>
          </a:xfrm>
          <a:prstGeom prst="bentConnector3">
            <a:avLst>
              <a:gd name="adj1" fmla="val 50000"/>
            </a:avLst>
          </a:prstGeom>
          <a:ln w="9360">
            <a:solidFill>
              <a:srgbClr val="ffffcc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lasificación según método de solu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1828800"/>
            <a:ext cx="18288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Méto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3124080"/>
            <a:ext cx="1828800" cy="38124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Numér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05720" y="3124080"/>
            <a:ext cx="1828800" cy="38124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Analí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5" idx="0"/>
          </p:cNvCxnSpPr>
          <p:nvPr/>
        </p:nvCxnSpPr>
        <p:spPr>
          <a:xfrm rot="5400000">
            <a:off x="2589840" y="1218960"/>
            <a:ext cx="838800" cy="2972520"/>
          </a:xfrm>
          <a:prstGeom prst="bentConnector3">
            <a:avLst>
              <a:gd name="adj1" fmla="val 49978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28" name=""/>
          <p:cNvCxnSpPr>
            <a:stCxn id="124" idx="2"/>
            <a:endCxn id="126" idx="0"/>
          </p:cNvCxnSpPr>
          <p:nvPr/>
        </p:nvCxnSpPr>
        <p:spPr>
          <a:xfrm flipH="1" rot="16200000">
            <a:off x="5637960" y="1142640"/>
            <a:ext cx="838800" cy="3125160"/>
          </a:xfrm>
          <a:prstGeom prst="bentConnector3">
            <a:avLst>
              <a:gd name="adj1" fmla="val 49978"/>
            </a:avLst>
          </a:prstGeom>
          <a:ln w="9360">
            <a:solidFill>
              <a:srgbClr val="ffffcc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76320" y="4648320"/>
            <a:ext cx="1676160" cy="6858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Diferencias fini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3124080"/>
            <a:ext cx="1828800" cy="38124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Analóg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4" idx="2"/>
            <a:endCxn id="130" idx="0"/>
          </p:cNvCxnSpPr>
          <p:nvPr/>
        </p:nvCxnSpPr>
        <p:spPr>
          <a:xfrm flipH="1" rot="16200000">
            <a:off x="4456800" y="2323800"/>
            <a:ext cx="838800" cy="762840"/>
          </a:xfrm>
          <a:prstGeom prst="bentConnector3">
            <a:avLst>
              <a:gd name="adj1" fmla="val 49978"/>
            </a:avLst>
          </a:prstGeom>
          <a:ln w="9360">
            <a:solidFill>
              <a:srgbClr val="ffffcc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1905120" y="4648320"/>
            <a:ext cx="1523880" cy="6858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Elementos fini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648320"/>
            <a:ext cx="1600200" cy="6858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Elementos de bor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4648320"/>
            <a:ext cx="1676160" cy="6858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Coordenada fij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38880" y="4648320"/>
            <a:ext cx="1752840" cy="6858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Combin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25" idx="2"/>
            <a:endCxn id="129" idx="0"/>
          </p:cNvCxnSpPr>
          <p:nvPr/>
        </p:nvCxnSpPr>
        <p:spPr>
          <a:xfrm rot="5400000">
            <a:off x="646920" y="3771720"/>
            <a:ext cx="1143720" cy="610200"/>
          </a:xfrm>
          <a:prstGeom prst="bentConnector3">
            <a:avLst>
              <a:gd name="adj1" fmla="val 50000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37" name=""/>
          <p:cNvCxnSpPr>
            <a:stCxn id="125" idx="2"/>
            <a:endCxn id="132" idx="0"/>
          </p:cNvCxnSpPr>
          <p:nvPr/>
        </p:nvCxnSpPr>
        <p:spPr>
          <a:xfrm flipH="1" rot="16200000">
            <a:off x="1522800" y="3504960"/>
            <a:ext cx="114372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38" name=""/>
          <p:cNvCxnSpPr>
            <a:stCxn id="125" idx="2"/>
            <a:endCxn id="133" idx="0"/>
          </p:cNvCxnSpPr>
          <p:nvPr/>
        </p:nvCxnSpPr>
        <p:spPr>
          <a:xfrm flipH="1" rot="16200000">
            <a:off x="2381040" y="2647440"/>
            <a:ext cx="1143720" cy="2858400"/>
          </a:xfrm>
          <a:prstGeom prst="bentConnector3">
            <a:avLst>
              <a:gd name="adj1" fmla="val 50000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39" name=""/>
          <p:cNvCxnSpPr>
            <a:stCxn id="125" idx="2"/>
            <a:endCxn id="134" idx="0"/>
          </p:cNvCxnSpPr>
          <p:nvPr/>
        </p:nvCxnSpPr>
        <p:spPr>
          <a:xfrm flipH="1" rot="16200000">
            <a:off x="3276360" y="1752120"/>
            <a:ext cx="1143720" cy="4649040"/>
          </a:xfrm>
          <a:prstGeom prst="bentConnector3">
            <a:avLst>
              <a:gd name="adj1" fmla="val 50000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40" name=""/>
          <p:cNvCxnSpPr>
            <a:stCxn id="125" idx="2"/>
            <a:endCxn id="135" idx="0"/>
          </p:cNvCxnSpPr>
          <p:nvPr/>
        </p:nvCxnSpPr>
        <p:spPr>
          <a:xfrm flipH="1" rot="16200000">
            <a:off x="4248000" y="780480"/>
            <a:ext cx="1143720" cy="6592320"/>
          </a:xfrm>
          <a:prstGeom prst="bentConnector3">
            <a:avLst>
              <a:gd name="adj1" fmla="val 50000"/>
            </a:avLst>
          </a:prstGeom>
          <a:ln w="9360">
            <a:solidFill>
              <a:srgbClr val="ffffcc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Etapas construcción model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odelo conceptu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Representación matemátic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alibr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alid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Análisis de sensibilida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image17" descr=""/>
          <p:cNvPicPr/>
          <p:nvPr/>
        </p:nvPicPr>
        <p:blipFill>
          <a:blip r:embed="rId2"/>
          <a:stretch/>
        </p:blipFill>
        <p:spPr>
          <a:xfrm>
            <a:off x="642960" y="257040"/>
            <a:ext cx="7858080" cy="63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Image1" descr=""/>
          <p:cNvPicPr/>
          <p:nvPr/>
        </p:nvPicPr>
        <p:blipFill>
          <a:blip r:embed="rId2"/>
          <a:stretch/>
        </p:blipFill>
        <p:spPr>
          <a:xfrm>
            <a:off x="762120" y="652320"/>
            <a:ext cx="754380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alibr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arámetros físico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j: área de la cuenca, pendientes, fracción impermeable, etc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arámetros de proces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j: prof. efectiva almacenamiento superficial, etc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8:53:17Z</dcterms:created>
  <dc:creator>nnnn</dc:creator>
  <dc:description/>
  <dc:language>en-US</dc:language>
  <cp:lastModifiedBy>nnnn</cp:lastModifiedBy>
  <dcterms:modified xsi:type="dcterms:W3CDTF">2004-09-28T15:07:35Z</dcterms:modified>
  <cp:revision>58</cp:revision>
  <dc:subject/>
  <dc:title>PowerPoint Presentation</dc:title>
</cp:coreProperties>
</file>