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C1A-D6A3-4C96-A25F-93F007C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32A-B749-406C-80D8-3A60A8E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979-E5F6-441A-9AF9-CA98311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243-EDF7-471F-B67C-0E835165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FEB-88DF-4B73-A12E-2E5708F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D1B-85D9-4A25-ABA0-B1F4C3E9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B081-77D4-4781-B548-2169B8F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CD5-7090-4F9D-A7F9-BAF3BC49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74FC-3CF7-4313-933C-8959CE0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88AF-CA3F-425A-9A7F-AC2A589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517A-888D-442C-A55E-4239755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A34-16F6-4F07-A4EB-312EE5C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9C2-3CAD-4510-B9B3-0105088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3E64-F3CC-4F1B-ADB6-B3D0F0C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55F2-7128-4684-9D61-1138818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B8E-C758-41EC-A12A-8DC820D0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0F3-A3E5-4A3C-80EC-549772E0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8B0-3857-4B25-994D-EC3E45D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F97-9FF4-45BB-B161-1403C11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668-357E-49E1-B631-6E42C17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BD3-72BE-476C-9B38-0C3D548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151-7BEC-43A4-B92F-AD2810C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E1E-728F-4347-A5F0-C0A2B20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9F2-25C6-44CF-91D9-77F8798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972B-76B9-4CEF-A1D1-0A64BA7EB08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43A-C74A-4FD6-965E-09595603C7C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wg.admin.ch/themen/wasser/e/vorhersa.htm" TargetMode="External"/><Relationship Id="rId3" Type="http://schemas.openxmlformats.org/officeDocument/2006/relationships/hyperlink" Target="http://www.mfb-geo.ch/text_e/aral_wb_e.html" TargetMode="External"/><Relationship Id="rId4" Type="http://schemas.openxmlformats.org/officeDocument/2006/relationships/hyperlink" Target="http://dude.uibk.ac.at/Projects/HydAlp/demonstrator/hydalp/models/srm.html" TargetMode="External"/><Relationship Id="rId5" Type="http://schemas.openxmlformats.org/officeDocument/2006/relationships/hyperlink" Target="http://www.ssd.noaa.gov/PS/SNOW/" TargetMode="External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stico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rt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pagación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bras de contr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an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peración aprovechamiento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 en rieg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emporada Septiembre - Abri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ódigo de aguas establece concepto de “Seguridad de Riego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85% abastecimiento un 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90% abastecimiento tres meses segui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estac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nivales: derretimi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pluviales: 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ile central: 75 – 85% escurrido en septiemb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de rec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p-es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Curva de Recesión de Hidrograma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2133720"/>
            <a:ext cx="6629400" cy="2895480"/>
            <a:chOff x="609480" y="2133720"/>
            <a:chExt cx="6629400" cy="2895480"/>
          </a:xfrm>
        </p:grpSpPr>
        <p:sp>
          <p:nvSpPr>
            <p:cNvPr id="95" name=""/>
            <p:cNvSpPr/>
            <p:nvPr/>
          </p:nvSpPr>
          <p:spPr>
            <a:xfrm>
              <a:off x="2361960" y="2133720"/>
              <a:ext cx="0" cy="289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1960" y="5029200"/>
              <a:ext cx="4876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2210040"/>
              <a:ext cx="198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d 1 Sept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m Agost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19520" y="25146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7339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114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438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819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4290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505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657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809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886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962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5909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66688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19520"/>
            <a:ext cx="152640" cy="75960"/>
          </a:xfrm>
          <a:custGeom>
            <a:avLst/>
            <a:gdLst>
              <a:gd name="textAreaLeft" fmla="*/ 35640 w 152640"/>
              <a:gd name="textAreaRight" fmla="*/ 116640 w 15264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1240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3526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38862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14600"/>
            <a:ext cx="3657600" cy="1714680"/>
          </a:xfrm>
          <a:custGeom>
            <a:avLst/>
            <a:gdLst/>
            <a:ahLst/>
            <a:rect l="l" t="t" r="r" b="b"/>
            <a:pathLst>
              <a:path w="2304" h="1080">
                <a:moveTo>
                  <a:pt x="0" y="0"/>
                </a:moveTo>
                <a:cubicBezTo>
                  <a:pt x="44" y="28"/>
                  <a:pt x="93" y="52"/>
                  <a:pt x="144" y="96"/>
                </a:cubicBezTo>
                <a:cubicBezTo>
                  <a:pt x="195" y="140"/>
                  <a:pt x="235" y="195"/>
                  <a:pt x="307" y="267"/>
                </a:cubicBezTo>
                <a:cubicBezTo>
                  <a:pt x="379" y="339"/>
                  <a:pt x="499" y="461"/>
                  <a:pt x="576" y="528"/>
                </a:cubicBezTo>
                <a:cubicBezTo>
                  <a:pt x="653" y="595"/>
                  <a:pt x="664" y="608"/>
                  <a:pt x="768" y="672"/>
                </a:cubicBezTo>
                <a:cubicBezTo>
                  <a:pt x="872" y="736"/>
                  <a:pt x="1000" y="848"/>
                  <a:pt x="1200" y="912"/>
                </a:cubicBezTo>
                <a:cubicBezTo>
                  <a:pt x="1400" y="976"/>
                  <a:pt x="1784" y="1032"/>
                  <a:pt x="1968" y="1056"/>
                </a:cubicBezTo>
                <a:cubicBezTo>
                  <a:pt x="2152" y="1080"/>
                  <a:pt x="2228" y="1068"/>
                  <a:pt x="2304" y="105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495680"/>
            <a:ext cx="320040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volvente infer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438280"/>
            <a:ext cx="3581640" cy="1676520"/>
          </a:xfrm>
          <a:custGeom>
            <a:avLst/>
            <a:gdLst/>
            <a:ahLst/>
            <a:rect l="l" t="t" r="r" b="b"/>
            <a:pathLst>
              <a:path w="2256" h="1056">
                <a:moveTo>
                  <a:pt x="0" y="0"/>
                </a:moveTo>
                <a:cubicBezTo>
                  <a:pt x="92" y="56"/>
                  <a:pt x="184" y="112"/>
                  <a:pt x="288" y="192"/>
                </a:cubicBezTo>
                <a:cubicBezTo>
                  <a:pt x="392" y="272"/>
                  <a:pt x="512" y="392"/>
                  <a:pt x="624" y="480"/>
                </a:cubicBezTo>
                <a:cubicBezTo>
                  <a:pt x="736" y="568"/>
                  <a:pt x="848" y="648"/>
                  <a:pt x="960" y="720"/>
                </a:cubicBezTo>
                <a:cubicBezTo>
                  <a:pt x="1072" y="792"/>
                  <a:pt x="1152" y="864"/>
                  <a:pt x="1296" y="912"/>
                </a:cubicBezTo>
                <a:cubicBezTo>
                  <a:pt x="1440" y="960"/>
                  <a:pt x="1664" y="984"/>
                  <a:pt x="1824" y="1008"/>
                </a:cubicBezTo>
                <a:cubicBezTo>
                  <a:pt x="1984" y="1032"/>
                  <a:pt x="2120" y="1044"/>
                  <a:pt x="2256" y="105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438280"/>
            <a:ext cx="28195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Verdana"/>
              </a:rPr>
              <a:t>Curva de recesión me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pp-esc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tentar varias, elegir más adecuada de acuerdo a estadística histór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lluvias en primavera, ANÁLISIS PROBABILÍ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nósticos de escorrentía en cuencas niv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e deshielo: 60 – 80% volumen escorrentía total anual a la salida de la cordille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olumen total de escorrent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tribución 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Balance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res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0" y="2743200"/>
          <a:ext cx="480060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743200"/>
                    <a:ext cx="4800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971800" y="4495680"/>
          <a:ext cx="3429000" cy="64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4495680"/>
                    <a:ext cx="3429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mens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Qmm máximo para el perí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de mes en que QmmMax ocurrir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adimensionales distribución mens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>
            <a:hlinkClick r:id="rId2"/>
          </p:cNvPr>
          <p:cNvSpPr/>
          <p:nvPr/>
        </p:nvSpPr>
        <p:spPr>
          <a:xfrm>
            <a:off x="601920" y="190512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bwg.admin.ch/themen/wasser/e/vorhersa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678240" y="251460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mfb-geo.ch/text_e/aral_wb_e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>
            <a:hlinkClick r:id="rId4"/>
          </p:cNvPr>
          <p:cNvSpPr/>
          <p:nvPr/>
        </p:nvSpPr>
        <p:spPr>
          <a:xfrm>
            <a:off x="525240" y="320040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http://dude.uibk.ac.at/Projects/HydAlp/demonstrator/hydalp/models/srm.html#Deple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rId5"/>
          </p:cNvPr>
          <p:cNvSpPr/>
          <p:nvPr/>
        </p:nvSpPr>
        <p:spPr>
          <a:xfrm>
            <a:off x="609480" y="380988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ssd.noaa.gov/PS/SNOW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7T15:43:42Z</dcterms:modified>
  <cp:revision>44</cp:revision>
  <dc:subject/>
  <dc:title>PowerPoint Presentation</dc:title>
</cp:coreProperties>
</file>