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ED5-5AE7-4EFB-AE51-6756A11E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F35-192E-4B4A-B7D8-EFC19126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6D1-08E8-4F91-808A-BD3A01EF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261-06F7-49F1-A17D-25027F8F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149-A731-458E-AB12-C303019F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199F-AE05-460B-AA69-C234F855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66CC-8C15-4295-B6AE-BEE49CF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E4B1-011C-4957-9DA7-6670789F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8CE8-B195-430D-9D41-14F5B71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8393-C967-4BB2-8B09-B82B8325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633B-CF9B-4572-BBB2-4B23ACE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CC7-6A53-48F6-A660-3E7315E4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086-9721-4014-8CB0-D261DB8A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2762-03D2-4BD7-BD90-9A830D8C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7FBD-31D7-40D0-9C1D-582DD20C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6E84-7DAB-4643-BA36-6E6DFB35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A21E-8A67-4022-A0B1-30EB178D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0E0-093E-4EA4-A153-F24D0BE1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AF3-C672-41C8-B00B-3DB99C92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E09-5A98-41B0-81FA-730D28BC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08C-5D1F-4F2E-B519-28C6CD42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EA0-08A0-440B-B473-D97A14FF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41D-6149-4C8A-85E0-B391BC71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430-A98D-4B5B-BA7C-591A68F9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62A9-2CF5-47EA-899E-6F85D7C2DE4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8398-A4B0-4BF5-8481-91A4B46CFC2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bwg.admin.ch/themen/wasser/e/vorhersa.htm" TargetMode="External"/><Relationship Id="rId3" Type="http://schemas.openxmlformats.org/officeDocument/2006/relationships/hyperlink" Target="http://www.mfb-geo.ch/text_e/aral_wb_e.html" TargetMode="External"/><Relationship Id="rId4" Type="http://schemas.openxmlformats.org/officeDocument/2006/relationships/hyperlink" Target="http://dude.uibk.ac.at/Projects/HydAlp/demonstrator/hydalp/models/srm.html" TargetMode="External"/><Relationship Id="rId5" Type="http://schemas.openxmlformats.org/officeDocument/2006/relationships/hyperlink" Target="http://www.ssd.noaa.gov/PS/SNOW/" TargetMode="External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n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stico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rto plaz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opagación de creci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lanificación obras de contr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ano plaz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st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lanificación operación aprovechamiento agu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Uso en rieg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emporada Septiembre - Abri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ódigo de aguas establece concepto de “Seguridad de Riego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85% abastecimiento un 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90% abastecimiento tres meses segui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correntía estac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s nivales: derretimien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s pluviales: flujo 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hile central: 75 – 85% escurrido en septiemb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de rece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ones pp-es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s de simu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Curva de Recesión de Hidrograma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2133720"/>
            <a:ext cx="6629400" cy="2895480"/>
            <a:chOff x="609480" y="2133720"/>
            <a:chExt cx="6629400" cy="2895480"/>
          </a:xfrm>
        </p:grpSpPr>
        <p:sp>
          <p:nvSpPr>
            <p:cNvPr id="95" name=""/>
            <p:cNvSpPr/>
            <p:nvPr/>
          </p:nvSpPr>
          <p:spPr>
            <a:xfrm>
              <a:off x="2361960" y="2133720"/>
              <a:ext cx="0" cy="2895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61960" y="5029200"/>
              <a:ext cx="4876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2210040"/>
              <a:ext cx="1981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d 1 Sept.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m Agosto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19520" y="25146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276720"/>
            <a:ext cx="76320" cy="759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4290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733920"/>
            <a:ext cx="76320" cy="759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11480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4382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8195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200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4290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5053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6576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809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886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9625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25909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66688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819520"/>
            <a:ext cx="152640" cy="75960"/>
          </a:xfrm>
          <a:custGeom>
            <a:avLst/>
            <a:gdLst>
              <a:gd name="textAreaLeft" fmla="*/ 35640 w 152640"/>
              <a:gd name="textAreaRight" fmla="*/ 116640 w 15264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12408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335268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388620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9625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514600"/>
            <a:ext cx="3657600" cy="1714680"/>
          </a:xfrm>
          <a:custGeom>
            <a:avLst/>
            <a:gdLst/>
            <a:ahLst/>
            <a:rect l="l" t="t" r="r" b="b"/>
            <a:pathLst>
              <a:path w="2304" h="1080">
                <a:moveTo>
                  <a:pt x="0" y="0"/>
                </a:moveTo>
                <a:cubicBezTo>
                  <a:pt x="44" y="28"/>
                  <a:pt x="93" y="52"/>
                  <a:pt x="144" y="96"/>
                </a:cubicBezTo>
                <a:cubicBezTo>
                  <a:pt x="195" y="140"/>
                  <a:pt x="235" y="195"/>
                  <a:pt x="307" y="267"/>
                </a:cubicBezTo>
                <a:cubicBezTo>
                  <a:pt x="379" y="339"/>
                  <a:pt x="499" y="461"/>
                  <a:pt x="576" y="528"/>
                </a:cubicBezTo>
                <a:cubicBezTo>
                  <a:pt x="653" y="595"/>
                  <a:pt x="664" y="608"/>
                  <a:pt x="768" y="672"/>
                </a:cubicBezTo>
                <a:cubicBezTo>
                  <a:pt x="872" y="736"/>
                  <a:pt x="1000" y="848"/>
                  <a:pt x="1200" y="912"/>
                </a:cubicBezTo>
                <a:cubicBezTo>
                  <a:pt x="1400" y="976"/>
                  <a:pt x="1784" y="1032"/>
                  <a:pt x="1968" y="1056"/>
                </a:cubicBezTo>
                <a:cubicBezTo>
                  <a:pt x="2152" y="1080"/>
                  <a:pt x="2228" y="1068"/>
                  <a:pt x="2304" y="1056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495680"/>
            <a:ext cx="320040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volvente inferi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2438280"/>
            <a:ext cx="3581640" cy="1676520"/>
          </a:xfrm>
          <a:custGeom>
            <a:avLst/>
            <a:gdLst/>
            <a:ahLst/>
            <a:rect l="l" t="t" r="r" b="b"/>
            <a:pathLst>
              <a:path w="2256" h="1056">
                <a:moveTo>
                  <a:pt x="0" y="0"/>
                </a:moveTo>
                <a:cubicBezTo>
                  <a:pt x="92" y="56"/>
                  <a:pt x="184" y="112"/>
                  <a:pt x="288" y="192"/>
                </a:cubicBezTo>
                <a:cubicBezTo>
                  <a:pt x="392" y="272"/>
                  <a:pt x="512" y="392"/>
                  <a:pt x="624" y="480"/>
                </a:cubicBezTo>
                <a:cubicBezTo>
                  <a:pt x="736" y="568"/>
                  <a:pt x="848" y="648"/>
                  <a:pt x="960" y="720"/>
                </a:cubicBezTo>
                <a:cubicBezTo>
                  <a:pt x="1072" y="792"/>
                  <a:pt x="1152" y="864"/>
                  <a:pt x="1296" y="912"/>
                </a:cubicBezTo>
                <a:cubicBezTo>
                  <a:pt x="1440" y="960"/>
                  <a:pt x="1664" y="984"/>
                  <a:pt x="1824" y="1008"/>
                </a:cubicBezTo>
                <a:cubicBezTo>
                  <a:pt x="1984" y="1032"/>
                  <a:pt x="2120" y="1044"/>
                  <a:pt x="2256" y="1056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438280"/>
            <a:ext cx="281952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Verdana"/>
              </a:rPr>
              <a:t>Curva de recesión med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elaciones pp-esc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tentar varias, elegir más adecuada de acuerdo a estadística histór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lluvias en primavera, ANÁLISIS PROBABILÍS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onósticos de escorrentía en cuencas niv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de deshielo: 60 – 80% volumen escorrentía total anual a la salida de la cordille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Volumen total de escorrent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tribución men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Balance hidrológ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gres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0" y="2743200"/>
          <a:ext cx="480060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743200"/>
                    <a:ext cx="4800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971800" y="4495680"/>
          <a:ext cx="3429000" cy="64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4495680"/>
                    <a:ext cx="34290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istribución mens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nóstico Qmm máximo para el perío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nóstico de mes en que QmmMax ocurrir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adimensionales distribución mens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>
            <a:hlinkClick r:id="rId2"/>
          </p:cNvPr>
          <p:cNvSpPr/>
          <p:nvPr/>
        </p:nvSpPr>
        <p:spPr>
          <a:xfrm>
            <a:off x="601920" y="190512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bwg.admin.ch/themen/wasser/e/vorhersa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>
            <a:hlinkClick r:id="rId3"/>
          </p:cNvPr>
          <p:cNvSpPr/>
          <p:nvPr/>
        </p:nvSpPr>
        <p:spPr>
          <a:xfrm>
            <a:off x="678240" y="251460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mfb-geo.ch/text_e/aral_wb_e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>
            <a:hlinkClick r:id="rId4"/>
          </p:cNvPr>
          <p:cNvSpPr/>
          <p:nvPr/>
        </p:nvSpPr>
        <p:spPr>
          <a:xfrm>
            <a:off x="525240" y="320040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http://dude.uibk.ac.at/Projects/HydAlp/demonstrator/hydalp/models/srm.html#Deple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>
            <a:hlinkClick r:id="rId5"/>
          </p:cNvPr>
          <p:cNvSpPr/>
          <p:nvPr/>
        </p:nvSpPr>
        <p:spPr>
          <a:xfrm>
            <a:off x="609480" y="380988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ssd.noaa.gov/PS/SNOW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7T15:43:42Z</dcterms:modified>
  <cp:revision>44</cp:revision>
  <dc:subject/>
  <dc:title>PowerPoint Presentation</dc:title>
</cp:coreProperties>
</file>