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EDC-825D-4304-8872-B8D7D2DC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E9F-6DB2-4985-978A-43673D01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5AFA-BC67-4ABD-B511-6192C2D6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F73-C1F6-4576-8A3F-00F9A32A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D032-CF25-46B6-82AC-9943CB12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D002-866F-424C-8D97-8845AF13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2110-DA6F-4CCE-BA9C-02416496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A068-36E4-4485-9758-641888C0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BB34-1409-4B42-AE19-ECBC0D8A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D905-B10C-4040-B93B-1FF453E0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2C99-5F93-42F2-A171-A2E18729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FA7-3261-4AB7-BE0F-7FD14EF3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573A-33FB-4BB7-BFC8-788E1173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BDD6-C2A5-432C-9487-B83D0FC1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47FB-EE9D-4EAF-B4BF-D20896B1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DD14-B7E5-4076-8886-64AFADE7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8966-E845-4353-ABCE-2DD6D4A1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106-A4BD-4A3F-B776-2213FF97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E1E-D813-45E7-8C2D-AA0C7E4E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E76-14A8-44CE-90F6-167A31F1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278-7F57-4FC5-8480-3AEFB4B8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B07-94FF-49EB-AF00-BA5DB1C5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89B2-FAB5-4057-8961-3FD0868F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A0D-2017-4526-A86B-5D7B7D63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9597-4059-4D50-A597-ED5893E32E9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8C40-C726-4B11-A4BD-F2C35F6C1F0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bwg.admin.ch/themen/wasser/e/vorhersa.htm" TargetMode="External"/><Relationship Id="rId3" Type="http://schemas.openxmlformats.org/officeDocument/2006/relationships/hyperlink" Target="http://www.mfb-geo.ch/text_e/aral_wb_e.html" TargetMode="External"/><Relationship Id="rId4" Type="http://schemas.openxmlformats.org/officeDocument/2006/relationships/hyperlink" Target="http://dude.uibk.ac.at/Projects/HydAlp/demonstrator/hydalp/models/srm.html" TargetMode="External"/><Relationship Id="rId5" Type="http://schemas.openxmlformats.org/officeDocument/2006/relationships/hyperlink" Target="http://www.ssd.noaa.gov/PS/SNOW/" TargetMode="External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n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stico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rto plaz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opagación de crecid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lanificación obras de contro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diano plaz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stacion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lanificación operación aprovechamiento agu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Uso en rieg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emporada Septiembre - Abri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ódigo de aguas establece concepto de “Seguridad de Riego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85% abastecimiento un m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90% abastecimiento tres meses segui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scorrentía estacion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encas nivales: derretimien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encas pluviales: flujo b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hile central: 75 – 85% escurrido en septiemb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rvas de reces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aciones pp-es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delos de simul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"/>
              </a:rPr>
              <a:t>Curva de Recesión de Hidrograma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9480" y="2133720"/>
            <a:ext cx="6629400" cy="2895480"/>
            <a:chOff x="609480" y="2133720"/>
            <a:chExt cx="6629400" cy="2895480"/>
          </a:xfrm>
        </p:grpSpPr>
        <p:sp>
          <p:nvSpPr>
            <p:cNvPr id="95" name=""/>
            <p:cNvSpPr/>
            <p:nvPr/>
          </p:nvSpPr>
          <p:spPr>
            <a:xfrm>
              <a:off x="2361960" y="2133720"/>
              <a:ext cx="0" cy="2895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61960" y="5029200"/>
              <a:ext cx="48769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9480" y="2210040"/>
              <a:ext cx="1981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Verdana"/>
                </a:rPr>
                <a:t>%Qmd 1 Sept.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Verdana"/>
                </a:rPr>
                <a:t>%Qmm Agosto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819520" y="2514600"/>
            <a:ext cx="7596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2743200"/>
            <a:ext cx="7596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2971800"/>
            <a:ext cx="7632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276720"/>
            <a:ext cx="76320" cy="759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3429000"/>
            <a:ext cx="7632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3733920"/>
            <a:ext cx="76320" cy="759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3886200"/>
            <a:ext cx="7596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038480"/>
            <a:ext cx="7632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114800"/>
            <a:ext cx="7632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24382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2819520"/>
            <a:ext cx="76320" cy="75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20040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34290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3505320"/>
            <a:ext cx="76320" cy="75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6576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380988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8862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3962520"/>
            <a:ext cx="76320" cy="75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2590920"/>
            <a:ext cx="152280" cy="75960"/>
          </a:xfrm>
          <a:custGeom>
            <a:avLst/>
            <a:gdLst>
              <a:gd name="textAreaLeft" fmla="*/ 35640 w 152280"/>
              <a:gd name="textAreaRight" fmla="*/ 116640 w 15228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666880"/>
            <a:ext cx="152280" cy="76320"/>
          </a:xfrm>
          <a:custGeom>
            <a:avLst/>
            <a:gdLst>
              <a:gd name="textAreaLeft" fmla="*/ 35640 w 152280"/>
              <a:gd name="textAreaRight" fmla="*/ 116640 w 15228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2819520"/>
            <a:ext cx="152640" cy="75960"/>
          </a:xfrm>
          <a:custGeom>
            <a:avLst/>
            <a:gdLst>
              <a:gd name="textAreaLeft" fmla="*/ 35640 w 152640"/>
              <a:gd name="textAreaRight" fmla="*/ 116640 w 15264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3124080"/>
            <a:ext cx="152640" cy="76320"/>
          </a:xfrm>
          <a:custGeom>
            <a:avLst/>
            <a:gdLst>
              <a:gd name="textAreaLeft" fmla="*/ 35640 w 152640"/>
              <a:gd name="textAreaRight" fmla="*/ 116640 w 15264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3352680"/>
            <a:ext cx="152640" cy="76320"/>
          </a:xfrm>
          <a:custGeom>
            <a:avLst/>
            <a:gdLst>
              <a:gd name="textAreaLeft" fmla="*/ 35640 w 152640"/>
              <a:gd name="textAreaRight" fmla="*/ 116640 w 15264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3886200"/>
            <a:ext cx="152640" cy="76320"/>
          </a:xfrm>
          <a:custGeom>
            <a:avLst/>
            <a:gdLst>
              <a:gd name="textAreaLeft" fmla="*/ 35640 w 152640"/>
              <a:gd name="textAreaRight" fmla="*/ 116640 w 15264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3962520"/>
            <a:ext cx="152280" cy="75960"/>
          </a:xfrm>
          <a:custGeom>
            <a:avLst/>
            <a:gdLst>
              <a:gd name="textAreaLeft" fmla="*/ 35640 w 152280"/>
              <a:gd name="textAreaRight" fmla="*/ 116640 w 15228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3962520"/>
            <a:ext cx="152280" cy="75960"/>
          </a:xfrm>
          <a:custGeom>
            <a:avLst/>
            <a:gdLst>
              <a:gd name="textAreaLeft" fmla="*/ 35640 w 152280"/>
              <a:gd name="textAreaRight" fmla="*/ 116640 w 15228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3962520"/>
            <a:ext cx="152280" cy="75960"/>
          </a:xfrm>
          <a:custGeom>
            <a:avLst/>
            <a:gdLst>
              <a:gd name="textAreaLeft" fmla="*/ 35640 w 152280"/>
              <a:gd name="textAreaRight" fmla="*/ 116640 w 15228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2514600"/>
            <a:ext cx="3657600" cy="1714680"/>
          </a:xfrm>
          <a:custGeom>
            <a:avLst/>
            <a:gdLst/>
            <a:ahLst/>
            <a:rect l="l" t="t" r="r" b="b"/>
            <a:pathLst>
              <a:path w="2304" h="1080">
                <a:moveTo>
                  <a:pt x="0" y="0"/>
                </a:moveTo>
                <a:cubicBezTo>
                  <a:pt x="44" y="28"/>
                  <a:pt x="93" y="52"/>
                  <a:pt x="144" y="96"/>
                </a:cubicBezTo>
                <a:cubicBezTo>
                  <a:pt x="195" y="140"/>
                  <a:pt x="235" y="195"/>
                  <a:pt x="307" y="267"/>
                </a:cubicBezTo>
                <a:cubicBezTo>
                  <a:pt x="379" y="339"/>
                  <a:pt x="499" y="461"/>
                  <a:pt x="576" y="528"/>
                </a:cubicBezTo>
                <a:cubicBezTo>
                  <a:pt x="653" y="595"/>
                  <a:pt x="664" y="608"/>
                  <a:pt x="768" y="672"/>
                </a:cubicBezTo>
                <a:cubicBezTo>
                  <a:pt x="872" y="736"/>
                  <a:pt x="1000" y="848"/>
                  <a:pt x="1200" y="912"/>
                </a:cubicBezTo>
                <a:cubicBezTo>
                  <a:pt x="1400" y="976"/>
                  <a:pt x="1784" y="1032"/>
                  <a:pt x="1968" y="1056"/>
                </a:cubicBezTo>
                <a:cubicBezTo>
                  <a:pt x="2152" y="1080"/>
                  <a:pt x="2228" y="1068"/>
                  <a:pt x="2304" y="1056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4495680"/>
            <a:ext cx="3200400" cy="3682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nvolvente inferi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2438280"/>
            <a:ext cx="3581640" cy="1676520"/>
          </a:xfrm>
          <a:custGeom>
            <a:avLst/>
            <a:gdLst/>
            <a:ahLst/>
            <a:rect l="l" t="t" r="r" b="b"/>
            <a:pathLst>
              <a:path w="2256" h="1056">
                <a:moveTo>
                  <a:pt x="0" y="0"/>
                </a:moveTo>
                <a:cubicBezTo>
                  <a:pt x="92" y="56"/>
                  <a:pt x="184" y="112"/>
                  <a:pt x="288" y="192"/>
                </a:cubicBezTo>
                <a:cubicBezTo>
                  <a:pt x="392" y="272"/>
                  <a:pt x="512" y="392"/>
                  <a:pt x="624" y="480"/>
                </a:cubicBezTo>
                <a:cubicBezTo>
                  <a:pt x="736" y="568"/>
                  <a:pt x="848" y="648"/>
                  <a:pt x="960" y="720"/>
                </a:cubicBezTo>
                <a:cubicBezTo>
                  <a:pt x="1072" y="792"/>
                  <a:pt x="1152" y="864"/>
                  <a:pt x="1296" y="912"/>
                </a:cubicBezTo>
                <a:cubicBezTo>
                  <a:pt x="1440" y="960"/>
                  <a:pt x="1664" y="984"/>
                  <a:pt x="1824" y="1008"/>
                </a:cubicBezTo>
                <a:cubicBezTo>
                  <a:pt x="1984" y="1032"/>
                  <a:pt x="2120" y="1044"/>
                  <a:pt x="2256" y="1056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2438280"/>
            <a:ext cx="281952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00"/>
                </a:solidFill>
                <a:latin typeface="Verdana"/>
              </a:rPr>
              <a:t>Curva de recesión med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Relaciones pp-esc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Intentar varias, elegir más adecuada de acuerdo a estadística histór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 lluvias en primavera, ANÁLISIS PROBABILÍS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Pronósticos de escorrentía en cuencas niv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 de deshielo: 60 – 80% volumen escorrentía total anual a la salida de la cordiller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Volumen total de escorrentí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stribución mens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étod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Balance hidrológ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gres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0" y="2743200"/>
          <a:ext cx="4800600" cy="6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743200"/>
                    <a:ext cx="48006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971800" y="4495680"/>
          <a:ext cx="3429000" cy="649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71800" y="4495680"/>
                    <a:ext cx="34290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ribución mens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onóstico Qmm máximo para el perío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onóstico de mes en que QmmMax ocurrir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rvas adimensionales distribución mens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>
            <a:hlinkClick r:id="rId2"/>
          </p:cNvPr>
          <p:cNvSpPr/>
          <p:nvPr/>
        </p:nvSpPr>
        <p:spPr>
          <a:xfrm>
            <a:off x="601920" y="1905120"/>
            <a:ext cx="71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www.bwg.admin.ch/themen/wasser/e/vorhersa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>
            <a:hlinkClick r:id="rId3"/>
          </p:cNvPr>
          <p:cNvSpPr/>
          <p:nvPr/>
        </p:nvSpPr>
        <p:spPr>
          <a:xfrm>
            <a:off x="678240" y="2514600"/>
            <a:ext cx="58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www.mfb-geo.ch/text_e/aral_wb_e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>
            <a:hlinkClick r:id="rId4"/>
          </p:cNvPr>
          <p:cNvSpPr/>
          <p:nvPr/>
        </p:nvSpPr>
        <p:spPr>
          <a:xfrm>
            <a:off x="525240" y="3200400"/>
            <a:ext cx="83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http://dude.uibk.ac.at/Projects/HydAlp/demonstrator/hydalp/models/srm.html#Deple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>
            <a:hlinkClick r:id="rId5"/>
          </p:cNvPr>
          <p:cNvSpPr/>
          <p:nvPr/>
        </p:nvSpPr>
        <p:spPr>
          <a:xfrm>
            <a:off x="609480" y="3809880"/>
            <a:ext cx="47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www.ssd.noaa.gov/PS/SNOW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09-27T15:43:42Z</dcterms:modified>
  <cp:revision>44</cp:revision>
  <dc:subject/>
  <dc:title>PowerPoint Presentation</dc:title>
</cp:coreProperties>
</file>