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BDC-FA23-4067-AA7A-FD70598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28F-F871-40A7-81BC-9B65C35E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1AA-2B78-410E-9B37-4B9D271D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746-0618-44EB-A712-7513478E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A1FD-C208-4E3E-8306-CAB9F947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6B3E-9554-4C74-A785-55106E99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E8E-2282-4587-993F-BAF3933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8CF-7954-4DE0-9719-3E6AF5D1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B824-711A-4421-9ABD-DF313EB1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D72F-B85A-45F3-9CDB-189F8CB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594-E740-4D9C-922F-7A4D6F9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B2B-DF3F-4038-B3CD-915E6C74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38B-5F61-4801-BCB1-4DA959E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D8D3-AD00-431F-8643-9157888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FF75-2D77-449C-9B8A-AEFA78A2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B92-68A7-4222-860C-BCDE362B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71CE-C74C-4D9E-B79D-D1C1F36E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029-324C-4C9D-8251-0A24D92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8AD-92A9-4689-A25D-ACE39786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E24-A43F-4E72-8984-B29241A0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1C0-2C00-477E-BB18-50CDC48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CD8-7286-49B9-B555-C4BC5EA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655-E70E-4364-8A49-F911154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A7F-8FAC-481A-A78B-F0515F1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743-F1FB-4230-935E-C7E7C0E984B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1A3E-1092-4EFD-BAEC-32749B33A44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étodos de estim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ponibilidad de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diciones fluviométr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ferencias probabilís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MEDICIONES IN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ur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33720" y="2514600"/>
          <a:ext cx="5406840" cy="30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540684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olumen de escorrentía depende d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ndiciones iniciales de hum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78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66680" y="1587600"/>
                <a:ext cx="5791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743200"/>
                <a:ext cx="7848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3809880"/>
                <a:ext cx="7543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lgunas 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5943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nsposición de caud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514600"/>
            <a:ext cx="251460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419112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29000" y="4038480"/>
            <a:ext cx="2819520" cy="2643840"/>
            <a:chOff x="3429000" y="4038480"/>
            <a:chExt cx="2819520" cy="2643840"/>
          </a:xfrm>
        </p:grpSpPr>
        <p:grpSp>
          <p:nvGrpSpPr>
            <p:cNvPr id="176" name=""/>
            <p:cNvGrpSpPr/>
            <p:nvPr/>
          </p:nvGrpSpPr>
          <p:grpSpPr>
            <a:xfrm>
              <a:off x="3429000" y="4038480"/>
              <a:ext cx="2819520" cy="2643840"/>
              <a:chOff x="3429000" y="4038480"/>
              <a:chExt cx="2819520" cy="264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9880" y="4114800"/>
                <a:ext cx="0" cy="1904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601956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7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197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670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886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basados en estadísticas fluviométr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rrel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r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jores resultados para periodos largos (mensual, anu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r con precau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juste gráfico se prefiere por sobre anal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mbinación anuales y mens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3520" y="1069920"/>
          <a:ext cx="815328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9920"/>
                    <a:ext cx="8153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112760"/>
          <a:ext cx="8229600" cy="471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12760"/>
                    <a:ext cx="8229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28600" y="982800"/>
          <a:ext cx="861048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82800"/>
                    <a:ext cx="861048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38160"/>
          <a:ext cx="86868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38160"/>
                    <a:ext cx="86868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mensionamiento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yectos de rie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rbaniz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consist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 doble acumul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Necesario para identificar err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métodos de recoleccion de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ubicación sección afo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almacenamiento 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uso de agua en la cuen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timación de caudales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éficit de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 representa diversas formas de retención del agua en la 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895480" y="2895480"/>
          <a:ext cx="25909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95480"/>
                    <a:ext cx="2590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ffffcc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104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estima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recipitación-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mpíricas: Grunsky, Peñuelas, Coutagne,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Tur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 hidr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runsky (EEUU principios s.XX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25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62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4960" y="2568600"/>
          <a:ext cx="731052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2568600"/>
                    <a:ext cx="731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eñuelas (Chile años 3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73200" y="2568600"/>
          <a:ext cx="703260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2568600"/>
                    <a:ext cx="703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utagne (Fra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11080" y="2666880"/>
          <a:ext cx="290844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666880"/>
                    <a:ext cx="2908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3581280" y="434304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038480"/>
            <a:ext cx="2590560" cy="580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5029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P&lt; 1/(8</a:t>
            </a:r>
            <a:r>
              <a:rPr b="1" lang="es-ES_tradnl" sz="2400" spc="-1" strike="noStrike">
                <a:solidFill>
                  <a:srgbClr val="2c2c42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055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79760" y="5715000"/>
            <a:ext cx="4533840" cy="459720"/>
            <a:chOff x="4379760" y="5715000"/>
            <a:chExt cx="4533840" cy="459720"/>
          </a:xfrm>
        </p:grpSpPr>
        <p:sp>
          <p:nvSpPr>
            <p:cNvPr id="150" name=""/>
            <p:cNvSpPr/>
            <p:nvPr/>
          </p:nvSpPr>
          <p:spPr>
            <a:xfrm>
              <a:off x="4379760" y="57150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P&gt; 1/(2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4000" y="57150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a50021"/>
                </a:gs>
                <a:gs pos="100000">
                  <a:srgbClr val="666699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5280" y="571500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D = 0,2 + 0,035 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245720" y="50385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D=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4T15:29:16Z</dcterms:modified>
  <cp:revision>39</cp:revision>
  <dc:subject/>
  <dc:title>PowerPoint Presentation</dc:title>
</cp:coreProperties>
</file>