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9.wmf" ContentType="image/x-wmf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480A-D6AB-4B03-8556-AD524265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86F-BE92-4861-9D2B-D0C01893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A2A-085D-4103-94EE-8F144813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FC99-F997-4040-AC69-19402A47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A621-5497-4A21-BA2F-A764FE3C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51E5-D72D-4C61-899A-C2C6644A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9A12-A47C-4516-AE6C-C72E8330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BE1C-14DF-46F6-8AA7-40FFA5E3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4E14-82F1-4365-8F5D-7B5BE5A4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6D8C-2865-43E5-9C50-89EBE078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8E01-65DE-4E3E-9ED4-A73E45F0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941-3115-46D6-BE34-329FCB1B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1631-DF6A-486A-A97F-4DC660D1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3121-C244-47F8-B10F-935C84E8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680D-122B-45BE-8446-352F9FF1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ECA3-8D17-46C7-BA15-346F71CB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3A50-2E2E-432C-8CF1-0526E5EF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1FB-DD36-4B5F-9E28-F7FB16F9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BA16-CB8B-4FA9-913C-DEBFAE78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BC5-9454-4BA3-957B-DF0971F6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4FB0-4E12-4975-AB3F-8D817FE4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29E7-5EE6-41DC-A212-923B04BC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799A-DCF7-42C1-AD18-3C98EA4F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0ACF-335B-40F5-9A45-C29D9B82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4595-E69A-4FF5-AF87-9AE0853395F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6592-52BD-41D2-A2B1-BA6D0631DDE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étodos de estimación de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otiv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sponibilidad de agu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ediciones fluviométric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Inferencias probabilístic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ÍPICAMENTE MEDICIONES INSUFICIEN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órmulas empíricas: Escorrentía total an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ur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133720" y="2514600"/>
          <a:ext cx="5406840" cy="300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514600"/>
                    <a:ext cx="5406840" cy="30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Relaciones gener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olumen de escorrentía depende d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recipit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vapotranspir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ondiciones iniciales de hume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3787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Relaciones General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523880" y="2895480"/>
                <a:ext cx="45658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5181480" y="44956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Temperatura o evaporac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4724280" y="3657600"/>
            <a:ext cx="1067040" cy="8380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0" y="5562720"/>
                <a:ext cx="51055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 flipH="1">
            <a:off x="2742840" y="3657600"/>
            <a:ext cx="762120" cy="20574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95480" y="1600200"/>
                <a:ext cx="50292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PA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 flipH="1" flipV="1">
            <a:off x="4876920" y="2209680"/>
            <a:ext cx="838080" cy="990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066680" y="1587600"/>
                <a:ext cx="57913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IP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066680" y="2743200"/>
                <a:ext cx="78487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IP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66680" y="3809880"/>
                <a:ext cx="75438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N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lgunas relacion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1905120"/>
            <a:ext cx="59436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Transposición de caud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2514600"/>
            <a:ext cx="2514600" cy="510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= 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3124080"/>
            <a:ext cx="4191120" cy="510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(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) = 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(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429000" y="4038480"/>
            <a:ext cx="2819520" cy="2643840"/>
            <a:chOff x="3429000" y="4038480"/>
            <a:chExt cx="2819520" cy="2643840"/>
          </a:xfrm>
        </p:grpSpPr>
        <p:grpSp>
          <p:nvGrpSpPr>
            <p:cNvPr id="176" name=""/>
            <p:cNvGrpSpPr/>
            <p:nvPr/>
          </p:nvGrpSpPr>
          <p:grpSpPr>
            <a:xfrm>
              <a:off x="3429000" y="4038480"/>
              <a:ext cx="2819520" cy="2643840"/>
              <a:chOff x="3429000" y="4038480"/>
              <a:chExt cx="2819520" cy="2643840"/>
            </a:xfrm>
          </p:grpSpPr>
          <p:sp>
            <p:nvSpPr>
              <p:cNvPr id="177" name=""/>
              <p:cNvSpPr/>
              <p:nvPr/>
            </p:nvSpPr>
            <p:spPr>
              <a:xfrm>
                <a:off x="3809880" y="4114800"/>
                <a:ext cx="0" cy="1904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09880" y="6019560"/>
                <a:ext cx="21337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29000" y="403848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r>
                  <a:rPr b="0" lang="es-ES_tradnl" sz="2400" spc="-1" strike="noStrike" baseline="-25000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562720" y="617220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r>
                  <a:rPr b="0" lang="es-ES_tradnl" sz="2400" spc="-1" strike="noStrike" baseline="-25000">
                    <a:solidFill>
                      <a:srgbClr val="ffffcc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419720" y="5410080"/>
              <a:ext cx="7596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5029200"/>
              <a:ext cx="7632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52880" y="4724280"/>
              <a:ext cx="7632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57800" y="4495680"/>
              <a:ext cx="7632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267080" y="4190760"/>
              <a:ext cx="1295640" cy="1447560"/>
            </a:xfrm>
            <a:prstGeom prst="line">
              <a:avLst/>
            </a:prstGeom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172200" y="3886200"/>
            <a:ext cx="2743200" cy="1334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Bookman Old Style"/>
              </a:rPr>
              <a:t>Régimen fluviométrico simila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Bookman Old Style"/>
              </a:rPr>
              <a:t>Registros concurrent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étodos basados en estadísticas fluviométric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3733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rrelac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orrelacion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jores resultados para periodos largos (mensual, anua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plicar con precau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juste gráfico se prefiere por sobre analí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mbinación anuales y mensu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533520" y="1069920"/>
          <a:ext cx="8153280" cy="4673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069920"/>
                    <a:ext cx="81532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380880" y="1112760"/>
          <a:ext cx="8229600" cy="471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112760"/>
                    <a:ext cx="822960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228600" y="982800"/>
          <a:ext cx="8610480" cy="493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982800"/>
                    <a:ext cx="861048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228600" y="938160"/>
          <a:ext cx="8686800" cy="497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938160"/>
                    <a:ext cx="8686800" cy="49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jemplos de aplic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imensionamiento embals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oyectos de rieg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Urbaniza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nálisis de consistenc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rva doble acumulad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Necesario para identificar erro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s en métodos de recoleccion de da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s en ubicación sección afor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s almacenamiento artific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s uso de agua en la cuen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stimación de caudales de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éficit de escorrent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 representa diversas formas de retención del agua en la cuen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895480" y="2895480"/>
          <a:ext cx="2590920" cy="83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895480"/>
                    <a:ext cx="259092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533520"/>
            <a:ext cx="5029200" cy="5107680"/>
            <a:chOff x="228600" y="533520"/>
            <a:chExt cx="5029200" cy="5107680"/>
          </a:xfrm>
        </p:grpSpPr>
        <p:grpSp>
          <p:nvGrpSpPr>
            <p:cNvPr id="98" name=""/>
            <p:cNvGrpSpPr/>
            <p:nvPr/>
          </p:nvGrpSpPr>
          <p:grpSpPr>
            <a:xfrm>
              <a:off x="685800" y="761760"/>
              <a:ext cx="3504960" cy="4191120"/>
              <a:chOff x="685800" y="761760"/>
              <a:chExt cx="3504960" cy="4191120"/>
            </a:xfrm>
          </p:grpSpPr>
          <p:sp>
            <p:nvSpPr>
              <p:cNvPr id="99" name=""/>
              <p:cNvSpPr/>
              <p:nvPr/>
            </p:nvSpPr>
            <p:spPr>
              <a:xfrm flipV="1">
                <a:off x="685800" y="761760"/>
                <a:ext cx="0" cy="4190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85800" y="4952880"/>
                <a:ext cx="35049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3809880" y="51814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Verdana"/>
                </a:rPr>
                <a:t>P </a:t>
              </a:r>
              <a:r>
                <a:rPr b="1" lang="es-ES_tradnl" sz="1800" spc="-1" strike="noStrike">
                  <a:solidFill>
                    <a:srgbClr val="ffffcc"/>
                  </a:solidFill>
                  <a:latin typeface="Verdana"/>
                </a:rPr>
                <a:t>(mm)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600" y="533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Verdana"/>
                </a:rPr>
                <a:t>E</a:t>
              </a:r>
              <a:r>
                <a:rPr b="1" lang="es-ES_tradnl" sz="2400" spc="-1" strike="noStrike" baseline="-25000">
                  <a:solidFill>
                    <a:srgbClr val="ffffcc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962520" y="533520"/>
            <a:ext cx="4724280" cy="4955400"/>
            <a:chOff x="3962520" y="533520"/>
            <a:chExt cx="4724280" cy="4955400"/>
          </a:xfrm>
        </p:grpSpPr>
        <p:grpSp>
          <p:nvGrpSpPr>
            <p:cNvPr id="104" name=""/>
            <p:cNvGrpSpPr/>
            <p:nvPr/>
          </p:nvGrpSpPr>
          <p:grpSpPr>
            <a:xfrm>
              <a:off x="4800600" y="685800"/>
              <a:ext cx="3504960" cy="4191120"/>
              <a:chOff x="4800600" y="685800"/>
              <a:chExt cx="3504960" cy="4191120"/>
            </a:xfrm>
          </p:grpSpPr>
          <p:sp>
            <p:nvSpPr>
              <p:cNvPr id="105" name=""/>
              <p:cNvSpPr/>
              <p:nvPr/>
            </p:nvSpPr>
            <p:spPr>
              <a:xfrm flipV="1">
                <a:off x="4800600" y="685800"/>
                <a:ext cx="0" cy="41911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800600" y="4876920"/>
                <a:ext cx="35049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3962520" y="533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Verdana"/>
                </a:rPr>
                <a:t>E</a:t>
              </a:r>
              <a:r>
                <a:rPr b="1" lang="es-ES_tradnl" sz="2400" spc="-1" strike="noStrike" baseline="-25000">
                  <a:solidFill>
                    <a:srgbClr val="ffffcc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96080" y="5029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Verdana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 flipV="1">
            <a:off x="762120" y="1904760"/>
            <a:ext cx="2971800" cy="297180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362320"/>
            <a:ext cx="3581280" cy="2590560"/>
          </a:xfrm>
          <a:custGeom>
            <a:avLst/>
            <a:gdLst/>
            <a:ahLst/>
            <a:rect l="l" t="t" r="r" b="b"/>
            <a:pathLst>
              <a:path w="2256" h="1632">
                <a:moveTo>
                  <a:pt x="0" y="1632"/>
                </a:moveTo>
                <a:cubicBezTo>
                  <a:pt x="196" y="1600"/>
                  <a:pt x="392" y="1568"/>
                  <a:pt x="576" y="1488"/>
                </a:cubicBezTo>
                <a:cubicBezTo>
                  <a:pt x="760" y="1408"/>
                  <a:pt x="824" y="1400"/>
                  <a:pt x="1104" y="1152"/>
                </a:cubicBezTo>
                <a:cubicBezTo>
                  <a:pt x="1384" y="904"/>
                  <a:pt x="2064" y="192"/>
                  <a:pt x="2256" y="0"/>
                </a:cubicBezTo>
              </a:path>
            </a:pathLst>
          </a:cu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3543480"/>
            <a:ext cx="990360" cy="266400"/>
          </a:xfrm>
          <a:custGeom>
            <a:avLst/>
            <a:gdLst/>
            <a:ahLst/>
            <a:rect l="l" t="t" r="r" b="b"/>
            <a:pathLst>
              <a:path w="624" h="168">
                <a:moveTo>
                  <a:pt x="0" y="24"/>
                </a:moveTo>
                <a:cubicBezTo>
                  <a:pt x="44" y="12"/>
                  <a:pt x="88" y="0"/>
                  <a:pt x="192" y="24"/>
                </a:cubicBezTo>
                <a:cubicBezTo>
                  <a:pt x="296" y="48"/>
                  <a:pt x="460" y="108"/>
                  <a:pt x="624" y="168"/>
                </a:cubicBezTo>
              </a:path>
            </a:pathLst>
          </a:custGeom>
          <a:noFill/>
          <a:ln cap="rnd" w="9360">
            <a:solidFill>
              <a:srgbClr val="ffff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Verdana"/>
              </a:rPr>
              <a:t>45</a:t>
            </a:r>
            <a:r>
              <a:rPr b="1" lang="es-ES_tradnl" sz="1400" spc="-1" strike="noStrike" baseline="30000">
                <a:solidFill>
                  <a:srgbClr val="ffffcc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828800" y="45720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828800" y="3809520"/>
            <a:ext cx="0" cy="7621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761760" y="4572000"/>
            <a:ext cx="1066680" cy="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2670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1" lang="es-ES_tradnl" sz="1800" spc="-1" strike="noStrike" baseline="-25000">
                <a:solidFill>
                  <a:srgbClr val="ffffcc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4952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4952880"/>
            <a:ext cx="53352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Verdana"/>
              </a:rPr>
              <a:t>P</a:t>
            </a:r>
            <a:r>
              <a:rPr b="1" lang="es-ES_tradnl" sz="18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362320" y="426672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362320" y="3276360"/>
            <a:ext cx="0" cy="99036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514600"/>
            <a:ext cx="762120" cy="37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Verdana"/>
              </a:rPr>
              <a:t>D</a:t>
            </a:r>
            <a:r>
              <a:rPr b="1" lang="es-ES_tradnl" sz="1600" spc="-1" strike="noStrike" baseline="-25000">
                <a:solidFill>
                  <a:srgbClr val="ffffcc"/>
                </a:solidFill>
                <a:latin typeface="Verdana"/>
              </a:rPr>
              <a:t>max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2666880"/>
            <a:ext cx="419040" cy="1067040"/>
          </a:xfrm>
          <a:custGeom>
            <a:avLst/>
            <a:gdLst/>
            <a:ahLst/>
            <a:rect l="l" t="t" r="r" b="b"/>
            <a:pathLst>
              <a:path w="264" h="672">
                <a:moveTo>
                  <a:pt x="96" y="48"/>
                </a:moveTo>
                <a:cubicBezTo>
                  <a:pt x="108" y="24"/>
                  <a:pt x="120" y="0"/>
                  <a:pt x="144" y="48"/>
                </a:cubicBezTo>
                <a:cubicBezTo>
                  <a:pt x="168" y="96"/>
                  <a:pt x="264" y="232"/>
                  <a:pt x="240" y="336"/>
                </a:cubicBezTo>
                <a:cubicBezTo>
                  <a:pt x="216" y="440"/>
                  <a:pt x="108" y="556"/>
                  <a:pt x="0" y="672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800600" y="1904760"/>
            <a:ext cx="2971800" cy="297180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3543480"/>
            <a:ext cx="990720" cy="266400"/>
          </a:xfrm>
          <a:custGeom>
            <a:avLst/>
            <a:gdLst/>
            <a:ahLst/>
            <a:rect l="l" t="t" r="r" b="b"/>
            <a:pathLst>
              <a:path w="624" h="168">
                <a:moveTo>
                  <a:pt x="0" y="24"/>
                </a:moveTo>
                <a:cubicBezTo>
                  <a:pt x="44" y="12"/>
                  <a:pt x="88" y="0"/>
                  <a:pt x="192" y="24"/>
                </a:cubicBezTo>
                <a:cubicBezTo>
                  <a:pt x="296" y="48"/>
                  <a:pt x="460" y="108"/>
                  <a:pt x="624" y="168"/>
                </a:cubicBezTo>
              </a:path>
            </a:pathLst>
          </a:custGeom>
          <a:noFill/>
          <a:ln cap="rnd" w="9360">
            <a:solidFill>
              <a:srgbClr val="ffff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Verdana"/>
              </a:rPr>
              <a:t>45</a:t>
            </a:r>
            <a:r>
              <a:rPr b="1" lang="es-ES_tradnl" sz="1400" spc="-1" strike="noStrike" baseline="30000">
                <a:solidFill>
                  <a:srgbClr val="ffffcc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2286000"/>
            <a:ext cx="3581280" cy="2590920"/>
          </a:xfrm>
          <a:custGeom>
            <a:avLst/>
            <a:gdLst/>
            <a:ahLst/>
            <a:rect l="l" t="t" r="r" b="b"/>
            <a:pathLst>
              <a:path w="2256" h="1632">
                <a:moveTo>
                  <a:pt x="0" y="1632"/>
                </a:moveTo>
                <a:cubicBezTo>
                  <a:pt x="196" y="1600"/>
                  <a:pt x="392" y="1568"/>
                  <a:pt x="576" y="1488"/>
                </a:cubicBezTo>
                <a:cubicBezTo>
                  <a:pt x="760" y="1408"/>
                  <a:pt x="824" y="1400"/>
                  <a:pt x="1104" y="1152"/>
                </a:cubicBezTo>
                <a:cubicBezTo>
                  <a:pt x="1384" y="904"/>
                  <a:pt x="2064" y="192"/>
                  <a:pt x="2256" y="0"/>
                </a:cubicBezTo>
              </a:path>
            </a:pathLst>
          </a:cu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2133720"/>
            <a:ext cx="3463920" cy="2712960"/>
          </a:xfrm>
          <a:custGeom>
            <a:avLst/>
            <a:gdLst/>
            <a:ahLst/>
            <a:rect l="l" t="t" r="r" b="b"/>
            <a:pathLst>
              <a:path w="2182" h="1709">
                <a:moveTo>
                  <a:pt x="0" y="1709"/>
                </a:moveTo>
                <a:cubicBezTo>
                  <a:pt x="92" y="1677"/>
                  <a:pt x="379" y="1610"/>
                  <a:pt x="554" y="1517"/>
                </a:cubicBezTo>
                <a:cubicBezTo>
                  <a:pt x="729" y="1424"/>
                  <a:pt x="881" y="1296"/>
                  <a:pt x="1051" y="1148"/>
                </a:cubicBezTo>
                <a:cubicBezTo>
                  <a:pt x="1221" y="1000"/>
                  <a:pt x="1386" y="817"/>
                  <a:pt x="1574" y="626"/>
                </a:cubicBezTo>
                <a:cubicBezTo>
                  <a:pt x="1762" y="435"/>
                  <a:pt x="2055" y="131"/>
                  <a:pt x="2182" y="0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30840" y="2133720"/>
            <a:ext cx="3308400" cy="2724120"/>
          </a:xfrm>
          <a:custGeom>
            <a:avLst/>
            <a:gdLst/>
            <a:ahLst/>
            <a:rect l="l" t="t" r="r" b="b"/>
            <a:pathLst>
              <a:path w="2084" h="1716">
                <a:moveTo>
                  <a:pt x="0" y="1716"/>
                </a:moveTo>
                <a:cubicBezTo>
                  <a:pt x="78" y="1682"/>
                  <a:pt x="312" y="1603"/>
                  <a:pt x="471" y="1510"/>
                </a:cubicBezTo>
                <a:cubicBezTo>
                  <a:pt x="630" y="1417"/>
                  <a:pt x="773" y="1316"/>
                  <a:pt x="953" y="1157"/>
                </a:cubicBezTo>
                <a:cubicBezTo>
                  <a:pt x="1133" y="998"/>
                  <a:pt x="1365" y="750"/>
                  <a:pt x="1553" y="557"/>
                </a:cubicBezTo>
                <a:cubicBezTo>
                  <a:pt x="1741" y="364"/>
                  <a:pt x="1974" y="116"/>
                  <a:pt x="2084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68580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Condiciones iniciales de humeda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étodos estimación de caud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aciones precipitación-escorrent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mpíricas: Grunsky, Peñuelas, Coutagne,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    Tur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Genera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odelos de simulación hidrológ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órmulas empíricas: Escorrentía total an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Grunsky (EEUU principios s.XX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 </a:t>
            </a:r>
            <a:r>
              <a:rPr b="0" i="1" lang="es-CL" sz="32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&gt;1.25 m, todo escur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i="1" lang="en-US" sz="3200" spc="-1" strike="noStrike" baseline="-25000">
                <a:solidFill>
                  <a:srgbClr val="ffffcc"/>
                </a:solidFill>
                <a:latin typeface="Arial"/>
              </a:rPr>
              <a:t>max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 625 m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4960" y="2568600"/>
          <a:ext cx="731052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4960" y="2568600"/>
                    <a:ext cx="731052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órmulas empíricas: Escorrentía total an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eñuelas (Chile años 30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 </a:t>
            </a:r>
            <a:r>
              <a:rPr b="0" i="1" lang="es-CL" sz="32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&gt;1.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, todo escur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i="1" lang="en-US" sz="3200" spc="-1" strike="noStrike" baseline="-25000">
                <a:solidFill>
                  <a:srgbClr val="ffffcc"/>
                </a:solidFill>
                <a:latin typeface="Arial"/>
              </a:rPr>
              <a:t>max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 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50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73200" y="2568600"/>
          <a:ext cx="703260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00" y="2568600"/>
                    <a:ext cx="70326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órmulas empíricas: Escorrentía total an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utagne (Franci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11080" y="2666880"/>
          <a:ext cx="290844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1080" y="2666880"/>
                    <a:ext cx="29084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 flipV="1">
            <a:off x="3581280" y="4343040"/>
            <a:ext cx="106704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4038480"/>
            <a:ext cx="2590560" cy="580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Temperatura media anual en </a:t>
            </a:r>
            <a:r>
              <a:rPr b="1" lang="es-ES_tradnl" sz="1600" spc="-1" strike="noStrike" baseline="30000">
                <a:solidFill>
                  <a:srgbClr val="000099"/>
                </a:solidFill>
                <a:latin typeface="Verdana"/>
              </a:rPr>
              <a:t>o</a:t>
            </a: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5029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c2c42"/>
                </a:solidFill>
                <a:latin typeface="Times New Roman"/>
              </a:rPr>
              <a:t>P&lt; 1/(8</a:t>
            </a:r>
            <a:r>
              <a:rPr b="1" lang="es-ES_tradnl" sz="2400" spc="-1" strike="noStrike">
                <a:solidFill>
                  <a:srgbClr val="2c2c42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2c2c42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51055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379760" y="5715000"/>
            <a:ext cx="4533840" cy="459720"/>
            <a:chOff x="4379760" y="5715000"/>
            <a:chExt cx="4533840" cy="459720"/>
          </a:xfrm>
        </p:grpSpPr>
        <p:sp>
          <p:nvSpPr>
            <p:cNvPr id="150" name=""/>
            <p:cNvSpPr/>
            <p:nvPr/>
          </p:nvSpPr>
          <p:spPr>
            <a:xfrm>
              <a:off x="4379760" y="571500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2c2c42"/>
                  </a:solidFill>
                  <a:latin typeface="Times New Roman"/>
                </a:rPr>
                <a:t>P&gt; 1/(2</a:t>
              </a:r>
              <a:r>
                <a:rPr b="1" lang="es-ES_tradnl" sz="2400" spc="-1" strike="noStrike">
                  <a:solidFill>
                    <a:srgbClr val="2c2c42"/>
                  </a:solidFill>
                  <a:latin typeface="Symbol"/>
                  <a:ea typeface="Symbol"/>
                </a:rPr>
                <a:t></a:t>
              </a:r>
              <a:r>
                <a:rPr b="1" lang="es-ES_tradnl" sz="2400" spc="-1" strike="noStrike">
                  <a:solidFill>
                    <a:srgbClr val="2c2c42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04000" y="5715000"/>
              <a:ext cx="533160" cy="457200"/>
            </a:xfrm>
            <a:prstGeom prst="rightArrow">
              <a:avLst>
                <a:gd name="adj1" fmla="val 50000"/>
                <a:gd name="adj2" fmla="val 29154"/>
              </a:avLst>
            </a:prstGeom>
            <a:gradFill rotWithShape="0">
              <a:gsLst>
                <a:gs pos="0">
                  <a:srgbClr val="666699"/>
                </a:gs>
                <a:gs pos="50000">
                  <a:srgbClr val="a50021"/>
                </a:gs>
                <a:gs pos="100000">
                  <a:srgbClr val="666699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5280" y="5715000"/>
              <a:ext cx="23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2c2c42"/>
                  </a:solidFill>
                  <a:latin typeface="Times New Roman"/>
                </a:rPr>
                <a:t>D = 0,2 + 0,035 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7245720" y="503856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c2c42"/>
                </a:solidFill>
                <a:latin typeface="Times New Roman"/>
              </a:rPr>
              <a:t>D=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09-24T15:29:16Z</dcterms:modified>
  <cp:revision>39</cp:revision>
  <dc:subject/>
  <dc:title>PowerPoint Presentation</dc:title>
</cp:coreProperties>
</file>