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9BC-5A91-40AA-8A54-F6B680DB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17C-4084-4E00-974B-1A15D596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1E1-CFC8-4474-933B-BC2D92C4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3B6-5B7F-4F26-9119-1AB7AB39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8AF-03D8-46F7-99AA-7DF9EDA2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2CB-FC1D-4504-BE58-F4DDF607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136-B4B7-4435-BD3C-221E477A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6A7B-D84D-4B0D-95FD-A6BFCD5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8C9-D0C9-4DDE-8374-A1CA6DF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A763-AD0A-40A1-B6FC-F51A9637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0DA-B9DA-42E2-9185-813028F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C4F-CF60-4D06-9FEC-0E54291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7FCB-C688-42CE-B2A4-0966691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993-AC15-4D8E-9E88-284D7A4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E4E7-D217-449B-94ED-A7BDE1F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E0D2-0AF8-4E14-9C0E-2F26CF25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1B4-3263-42A1-9FC2-AB05AA64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03A-D2DB-4752-A785-B07CF401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13E-C8EF-476A-BE15-CDB54F0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B47-1DFF-41C7-9339-A0A30F2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FF3-FE0C-4998-BB95-409A95C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278-5AD7-4160-9794-7A01B67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C57-8D07-487D-81ED-67544C2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732-1D6C-4F45-B2FD-ED171E4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4E0-D25E-4E2C-86A9-C5FDF138CBE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F56C-27C2-45DB-AFC2-90C364928A8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étodos de estim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ponibilidad de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diciones fluviométr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ferencias probabilís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MEDICIONES IN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ur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33720" y="2514600"/>
          <a:ext cx="5406840" cy="30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540684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olumen de escorrentía depende d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ndiciones iniciales de hum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78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66680" y="1587600"/>
                <a:ext cx="5791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743200"/>
                <a:ext cx="7848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3809880"/>
                <a:ext cx="7543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lgunas 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5943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nsposición de caud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514600"/>
            <a:ext cx="251460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419112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29000" y="4038480"/>
            <a:ext cx="2819520" cy="2643840"/>
            <a:chOff x="3429000" y="4038480"/>
            <a:chExt cx="2819520" cy="2643840"/>
          </a:xfrm>
        </p:grpSpPr>
        <p:grpSp>
          <p:nvGrpSpPr>
            <p:cNvPr id="176" name=""/>
            <p:cNvGrpSpPr/>
            <p:nvPr/>
          </p:nvGrpSpPr>
          <p:grpSpPr>
            <a:xfrm>
              <a:off x="3429000" y="4038480"/>
              <a:ext cx="2819520" cy="2643840"/>
              <a:chOff x="3429000" y="4038480"/>
              <a:chExt cx="2819520" cy="264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9880" y="4114800"/>
                <a:ext cx="0" cy="1904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601956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7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197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670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886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basados en estadísticas fluviométr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rrel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r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jores resultados para periodos largos (mensual, anu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r con precau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juste gráfico se prefiere por sobre anal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mbinación anuales y mens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3520" y="1069920"/>
          <a:ext cx="815328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9920"/>
                    <a:ext cx="8153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112760"/>
          <a:ext cx="8229600" cy="471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12760"/>
                    <a:ext cx="8229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28600" y="982800"/>
          <a:ext cx="861048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82800"/>
                    <a:ext cx="861048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38160"/>
          <a:ext cx="86868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38160"/>
                    <a:ext cx="86868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mensionamiento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yectos de rie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rbaniz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consist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 doble acumul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Necesario para identificar err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métodos de recoleccion de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ubicación sección afo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almacenamiento 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uso de agua en la cuen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timación de caudales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éficit de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 representa diversas formas de retención del agua en la 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895480" y="2895480"/>
          <a:ext cx="25909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95480"/>
                    <a:ext cx="2590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ffffcc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104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estima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recipitación-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mpíricas: Grunsky, Peñuelas, Coutagne,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Tur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 hidr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runsky (EEUU principios s.XX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25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62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4960" y="2568600"/>
          <a:ext cx="731052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2568600"/>
                    <a:ext cx="731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eñuelas (Chile años 3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73200" y="2568600"/>
          <a:ext cx="703260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2568600"/>
                    <a:ext cx="703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utagne (Fra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11080" y="2666880"/>
          <a:ext cx="290844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666880"/>
                    <a:ext cx="2908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3581280" y="434304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038480"/>
            <a:ext cx="2590560" cy="580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5029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P&lt; 1/(8</a:t>
            </a:r>
            <a:r>
              <a:rPr b="1" lang="es-ES_tradnl" sz="2400" spc="-1" strike="noStrike">
                <a:solidFill>
                  <a:srgbClr val="2c2c42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055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79760" y="5715000"/>
            <a:ext cx="4533840" cy="459720"/>
            <a:chOff x="4379760" y="5715000"/>
            <a:chExt cx="4533840" cy="459720"/>
          </a:xfrm>
        </p:grpSpPr>
        <p:sp>
          <p:nvSpPr>
            <p:cNvPr id="150" name=""/>
            <p:cNvSpPr/>
            <p:nvPr/>
          </p:nvSpPr>
          <p:spPr>
            <a:xfrm>
              <a:off x="4379760" y="57150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P&gt; 1/(2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4000" y="57150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a50021"/>
                </a:gs>
                <a:gs pos="100000">
                  <a:srgbClr val="666699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5280" y="571500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D = 0,2 + 0,035 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245720" y="50385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D=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4T15:29:16Z</dcterms:modified>
  <cp:revision>39</cp:revision>
  <dc:subject/>
  <dc:title>PowerPoint Presentation</dc:title>
</cp:coreProperties>
</file>